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71E-AC7B-4878-BD0D-D12EFF8E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13B-D47E-40D3-B63F-E33A882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4B9-B253-48A7-90FB-D0BD649E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8C7-68F4-4A5F-92BF-355C20D8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444-8751-4479-A1BE-87EE012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7FD-C21C-480A-A546-9DBC6B5A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CC8-4AC8-4FAD-8C44-8FDF40E0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90A-06F3-402F-9667-DE6956B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9ED-ABFA-48AC-B1CE-7B11E4EE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A75-CF8D-4563-B3A0-225F4E0F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01D-ECB5-4B9C-960D-97B313A4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426-2220-4150-AAC0-F7EBEB0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46D-8F84-427D-A99B-921692A5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F892A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F89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41640" y="645804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oancard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03:51:58Z</dcterms:created>
  <dc:creator>dnd</dc:creator>
  <dc:description/>
  <dc:language>en-US</dc:language>
  <cp:lastModifiedBy>dnd</cp:lastModifiedBy>
  <cp:lastPrinted>1999-03-02T18:16:43Z</cp:lastPrinted>
  <dcterms:modified xsi:type="dcterms:W3CDTF">1999-03-02T18:20:11Z</dcterms:modified>
  <cp:revision>1</cp:revision>
  <dc:subject/>
  <dc:title>No Slide Title</dc:title>
</cp:coreProperties>
</file>