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99A1-0A78-43E5-8436-C2A44E04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7591-35B4-4835-BC0B-EC297D98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DC09-E4EB-40C7-B66F-F6DE6CE2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FBCA-1D2B-4384-A0D9-9220A840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F515-8B71-4072-8FB1-AF1AE204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FBED-2AA0-4F2A-A1DF-1D616782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EF7E-DF24-4893-A4A7-BB673BD9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7BC6-00B6-465C-B861-F575A452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0D37-17AD-4DAE-9E93-C52F350F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77A0-ED01-426A-BE0E-448342FE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0FC5-7D53-4E45-951E-8C17DB3D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373C-1CE8-4D31-975F-A0702BE4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4828-9DC9-47DF-9E36-2C3229B54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F51%231" descr=""/>
          <p:cNvPicPr/>
          <p:nvPr/>
        </p:nvPicPr>
        <p:blipFill>
          <a:blip r:embed="rId1"/>
          <a:stretch/>
        </p:blipFill>
        <p:spPr>
          <a:xfrm>
            <a:off x="114480" y="203040"/>
            <a:ext cx="6743520" cy="894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F51%23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400800" cy="899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F51%23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6508800" cy="83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pplication1" descr=""/>
          <p:cNvPicPr/>
          <p:nvPr/>
        </p:nvPicPr>
        <p:blipFill>
          <a:blip r:embed="rId1"/>
          <a:stretch/>
        </p:blipFill>
        <p:spPr>
          <a:xfrm>
            <a:off x="171360" y="0"/>
            <a:ext cx="6686640" cy="915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pplication2" descr=""/>
          <p:cNvPicPr/>
          <p:nvPr/>
        </p:nvPicPr>
        <p:blipFill>
          <a:blip r:embed="rId1"/>
          <a:stretch/>
        </p:blipFill>
        <p:spPr>
          <a:xfrm>
            <a:off x="171360" y="0"/>
            <a:ext cx="6686640" cy="915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en" descr=""/>
          <p:cNvPicPr/>
          <p:nvPr/>
        </p:nvPicPr>
        <p:blipFill>
          <a:blip r:embed="rId1"/>
          <a:stretch/>
        </p:blipFill>
        <p:spPr>
          <a:xfrm>
            <a:off x="673200" y="685800"/>
            <a:ext cx="5511600" cy="78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22:00:17Z</dcterms:created>
  <dc:creator>dnd</dc:creator>
  <dc:description/>
  <dc:language>en-US</dc:language>
  <cp:lastModifiedBy>Jamie Richards</cp:lastModifiedBy>
  <cp:lastPrinted>1999-02-23T22:08:29Z</cp:lastPrinted>
  <dcterms:modified xsi:type="dcterms:W3CDTF">1999-04-26T03:35:25Z</dcterms:modified>
  <cp:revision>4</cp:revision>
  <dc:subject/>
  <dc:title>No Slide Title</dc:title>
</cp:coreProperties>
</file>