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1B55-91E1-4EC6-83FD-FA786F6D7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A454-D418-4FB9-8A3D-64CCEFF9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4E54-DA5C-49F5-ABC0-BB802C569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0B09-6872-4CBB-A86C-B964CEF4D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6E08-5271-4D84-9E9D-C98A8BB2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7B66-B590-4CBA-86A0-DAE60C2B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8E4E-6E51-455C-93E7-3397D1B2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234B-DD37-4CD3-886A-07986227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71C3-9B41-4C92-A7AF-B562F718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52E3-5F44-40C9-AB5C-CD6D0C2D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6886-EED5-47FC-9525-2E4DD61B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84DC-65B6-4251-9760-28B9FD32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72D2-6DA0-45A3-B358-87D67B418D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5654520" cy="60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Lead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6091200" cy="838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3:58:12Z</dcterms:created>
  <dc:creator>dnd</dc:creator>
  <dc:description/>
  <dc:language>en-US</dc:language>
  <cp:lastModifiedBy>dnd</cp:lastModifiedBy>
  <cp:lastPrinted>1998-12-18T14:03:14Z</cp:lastPrinted>
  <dcterms:modified xsi:type="dcterms:W3CDTF">1999-01-13T15:20:17Z</dcterms:modified>
  <cp:revision>6</cp:revision>
  <dc:subject/>
  <dc:title>No Slide Title</dc:title>
</cp:coreProperties>
</file>