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E174-5106-404B-92A4-19AF0A77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3675-89F0-48EF-BF56-DFC0852D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E1BB-EDDE-4A7F-8BBA-F311A07B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5451-61AB-414B-93A2-2811C4F7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78BE-3BF3-4528-9132-C895FACC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986B-A81C-4261-ADC0-0F58C1AE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0E76-8E17-4EF1-A005-5D596F03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162F-593A-4A96-8B8D-2E7EB4D7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5B9-4F8C-4316-BC45-731A9400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2FB9-271B-4367-BBC3-7D7D14A1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736-FB2E-4874-8F97-469E228D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D64A-8509-4064-A7B3-7D073898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B370-D46F-41A2-97CD-B0297F09E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2209680"/>
          <a:ext cx="5545080" cy="595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55450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421880" y="380880"/>
            <a:ext cx="207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7320" y="1219320"/>
            <a:ext cx="39240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23:11:24Z</dcterms:created>
  <dc:creator>dnd</dc:creator>
  <dc:description/>
  <dc:language>en-US</dc:language>
  <cp:lastModifiedBy>Jamie Richards</cp:lastModifiedBy>
  <cp:lastPrinted>1999-03-02T23:41:35Z</cp:lastPrinted>
  <dcterms:modified xsi:type="dcterms:W3CDTF">1999-03-31T01:08:02Z</dcterms:modified>
  <cp:revision>2</cp:revision>
  <dc:subject/>
  <dc:title>No Slide Title</dc:title>
</cp:coreProperties>
</file>