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0BC6E-AB4F-4B08-9582-91AEE0C11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22C6C-3566-460F-8375-0305D7CD2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A5F7B-9E3F-4A16-9B3B-A78E93C62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EFC12-6EF8-4316-9F39-6A82D0506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1B437-AF5E-4957-8538-DA1863A7C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3EFD9-A1B6-41FA-B9D4-BB4789A22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0BAE0-C6CD-4262-8139-FEC6E685A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EBE77-125B-4DEB-A21D-EB72D2F6E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35A40-ED67-4170-9775-CD0C6DB5F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12CAF-74A8-4536-9C01-53080FA3F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5F3E5-8544-4783-AF88-DD1221952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5573A-489E-4B72-B2C7-9C9EC8DBA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05279-CF0E-4039-ACD1-7E08050D55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401" descr=""/>
          <p:cNvPicPr/>
          <p:nvPr/>
        </p:nvPicPr>
        <p:blipFill>
          <a:blip r:embed="rId1"/>
          <a:stretch/>
        </p:blipFill>
        <p:spPr>
          <a:xfrm>
            <a:off x="762120" y="762120"/>
            <a:ext cx="5397480" cy="700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12T15:16:04Z</dcterms:created>
  <dc:creator>DND</dc:creator>
  <dc:description/>
  <dc:language>en-US</dc:language>
  <cp:lastModifiedBy>DND</cp:lastModifiedBy>
  <cp:lastPrinted>1999-01-12T15:16:38Z</cp:lastPrinted>
  <dcterms:modified xsi:type="dcterms:W3CDTF">1999-01-12T15:17:34Z</dcterms:modified>
  <cp:revision>1</cp:revision>
  <dc:subject/>
  <dc:title>No Slide Title</dc:title>
</cp:coreProperties>
</file>