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983-1ADA-4DA1-82EF-292CD590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C0A-4AF2-4584-A881-C0D0FA05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750-A1A2-44C6-BA3B-1AFD4070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DDB-EF20-4755-A612-7860712F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416-062C-44FC-9EFC-561CD83A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837-D087-4AA2-B522-83E162D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74E-38EE-4039-AE6B-62FB8312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8F5-0568-4080-9376-581327D4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4ED-BFCB-4924-A216-A106EB50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B04-8B41-4152-A76B-E0D9698F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B53-0B77-418B-8A1B-898C152E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15A-1463-4A38-B4B4-81FDF489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D137-28CF-42F7-AD92-D0A2DCDE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ymbol6" descr=""/>
          <p:cNvPicPr/>
          <p:nvPr/>
        </p:nvPicPr>
        <p:blipFill>
          <a:blip r:embed="rId1"/>
          <a:srcRect l="37387" t="22865" r="31077" b="18521"/>
          <a:stretch/>
        </p:blipFill>
        <p:spPr>
          <a:xfrm>
            <a:off x="457200" y="4800600"/>
            <a:ext cx="465120" cy="838080"/>
          </a:xfrm>
          <a:prstGeom prst="rect">
            <a:avLst/>
          </a:prstGeom>
          <a:ln w="0">
            <a:noFill/>
          </a:ln>
        </p:spPr>
      </p:pic>
      <p:pic>
        <p:nvPicPr>
          <p:cNvPr id="45" name="symbols5" descr=""/>
          <p:cNvPicPr/>
          <p:nvPr/>
        </p:nvPicPr>
        <p:blipFill>
          <a:blip r:embed="rId2"/>
          <a:srcRect l="10393" t="0" r="72858" b="12051"/>
          <a:stretch/>
        </p:blipFill>
        <p:spPr>
          <a:xfrm>
            <a:off x="6477120" y="41148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symbols5" descr=""/>
          <p:cNvPicPr/>
          <p:nvPr/>
        </p:nvPicPr>
        <p:blipFill>
          <a:blip r:embed="rId3"/>
          <a:srcRect l="10393" t="0" r="72858" b="12051"/>
          <a:stretch/>
        </p:blipFill>
        <p:spPr>
          <a:xfrm>
            <a:off x="4114800" y="41148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1148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48" name="symbols1" descr=""/>
          <p:cNvPicPr/>
          <p:nvPr/>
        </p:nvPicPr>
        <p:blipFill>
          <a:blip r:embed="rId5"/>
          <a:srcRect l="15273" t="0" r="71255" b="0"/>
          <a:stretch/>
        </p:blipFill>
        <p:spPr>
          <a:xfrm>
            <a:off x="7924680" y="4800600"/>
            <a:ext cx="460440" cy="76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304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OMMANDERS FALL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14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4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1814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51814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518148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1143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102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57200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600" y="3352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095520" y="33526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2485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520" y="33526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5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57600" y="335268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520" y="32004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95320" y="11430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723920" y="99072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66720" y="1371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29000" y="1143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57600" y="990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200400" y="1371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562720" y="1143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91320" y="990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334120" y="1371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1371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19720" y="1371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486400" y="1371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019560" y="1143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00:09:52Z</dcterms:created>
  <dc:creator>DND</dc:creator>
  <dc:description/>
  <dc:language>en-US</dc:language>
  <cp:lastModifiedBy>DND</cp:lastModifiedBy>
  <cp:lastPrinted>1999-03-23T18:25:20Z</cp:lastPrinted>
  <dcterms:modified xsi:type="dcterms:W3CDTF">1999-03-25T18:03:56Z</dcterms:modified>
  <cp:revision>10</cp:revision>
  <dc:subject/>
  <dc:title>No Slide Title</dc:title>
</cp:coreProperties>
</file>