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B19-7F0D-4AD3-8F38-F4BBF378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352-D11D-44C4-AEEC-E48676D7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02E-FA10-43DA-8A14-65F780C8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529-625C-4EB2-8E32-74C8D6A1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2B7-3700-4EC7-93D5-24F61587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082-BB1E-4AC0-9A92-57B2FD22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D43-DEAB-4108-8653-3D3536F4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398-C1FC-401F-835E-784B2105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777-FDA5-41CA-B245-87F6E8F5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BF2-DDDB-443D-AAA3-633476A3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E60-23B4-4EBF-8E8F-0B0000CE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BE6-4AAB-4868-BEDE-5DFD1E2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4A53-8625-4EA2-9CEE-F5E8889DD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Jamie Richards</cp:lastModifiedBy>
  <cp:lastPrinted>1998-12-18T14:03:14Z</cp:lastPrinted>
  <dcterms:modified xsi:type="dcterms:W3CDTF">1999-04-23T18:53:39Z</dcterms:modified>
  <cp:revision>2</cp:revision>
  <dc:subject/>
  <dc:title>No Slide Title</dc:title>
</cp:coreProperties>
</file>