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DB95-9FCB-42EB-813C-D966F05F5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F9BB-8082-45B3-9FD5-9DC63FAE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7249-3219-4D4A-844A-3D3432AF7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0BD0-6CB2-49E7-9216-157A22351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24FE-A0E5-4103-BA56-250B2A55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500F-103D-4FD6-9313-7CC44128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E0AB-CE27-4B77-8530-E7D36900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B933-83FB-453A-B6B0-671A606B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0831-ABE4-4051-BF1F-C04C87AF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ECD7-F968-4914-A4EF-FC5A665D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BD25-7C96-4FD2-AD63-5FF7DEB2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C149-1C09-42F8-8C85-B93327EB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051B-D427-47D8-BF50-54E4092EE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252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447920"/>
            <a:ext cx="6400800" cy="33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im of interviewing is to guide, aid or understanding another person, usually in face-to-face personal tal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interview is influenced by the personalities of the interviewer and the person being interview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5638680"/>
            <a:ext cx="5823000" cy="2887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990720" y="304920"/>
            <a:ext cx="480060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TERVIEWING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252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523880"/>
            <a:ext cx="6400800" cy="33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lcoming new cadets to your uni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periodically inform cadets of their progres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assign tasks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a cadet leaves the squadr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880" y="304920"/>
            <a:ext cx="601992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CCASIONS TO INTERVIEW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191120" y="5181480"/>
            <a:ext cx="749160" cy="2801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47920" y="5715000"/>
            <a:ext cx="250668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252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447920"/>
            <a:ext cx="59436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im of counselling is to discuss with a subordinate the subordinate’s problems with the intent of arriving at a 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304920"/>
            <a:ext cx="480060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UNSELLING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47920" y="6738840"/>
            <a:ext cx="3581280" cy="1754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3733920"/>
            <a:ext cx="586728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CCASIONS TO COUNSEL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952880"/>
            <a:ext cx="5943600" cy="22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correct a proble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olve a problem wh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sonal or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15T13:34:07Z</cp:lastPrinted>
  <dcterms:modified xsi:type="dcterms:W3CDTF">1999-03-15T13:34:08Z</dcterms:modified>
  <cp:revision>32</cp:revision>
  <dc:subject/>
  <dc:title>No Slide Title</dc:title>
</cp:coreProperties>
</file>