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EF9-4CCF-416E-AFC9-55B598B6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CBD-CFD7-4B09-ACF5-7073764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E5E-2B37-45D7-8B82-C58F5D76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069-9402-4EA7-8144-BE53F61A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199-2F05-49BC-AFA6-713CAACC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FE3-3B86-4A8A-A71D-BA40EBED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AC3-2DD5-4BDB-990D-563FFF1F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3FE-AD1B-4013-B187-8CD353B0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AB8-C79C-4FAE-9463-B0D64C2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4E2-F591-4656-8BD3-8C290373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0BC-5747-4A18-AC5F-04706DB5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CEA-8FE5-48A9-963E-0A4202D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159-7270-47A3-8D27-63878A168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248520" cy="65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HASIZE THE STRONG POI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SEARCH FOR A FORMU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RELY COMPLETELY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DWICH METHO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 IMPROV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SPECIFI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CH HABIT PATER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YOUR CRITICISM JOB-REL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QUES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RITICIZE A CADET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NTENTIONAL FAUL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TRY TO BE FUNNY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AR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ERFORMANCE INTER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26T15:34:23Z</dcterms:modified>
  <cp:revision>41</cp:revision>
  <dc:subject/>
  <dc:title>No Slide Title</dc:title>
</cp:coreProperties>
</file>