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F64-54E3-40D7-925E-80B01A97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0FC-F633-4D3E-9FDC-7D98E581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5F9-7458-42DF-BC2D-4B1A4A92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D5E-5439-47EA-B8D0-16D815B7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4C2-B732-4D24-9B72-695B531C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27B-24CF-484F-98FF-C1DC2F87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803-E871-4178-9D9C-01689F1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77E-CC29-4200-93CE-E78C6B48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C9D-EDE0-4965-8756-4D6ABB73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A9E-5A95-404F-B6D0-6BECD1CA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EFD-02B0-4067-971B-F68D5501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1BA-0449-40B3-A395-D2F7486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4CFA-2944-40A0-9DC1-4B6C32CC9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640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FORE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ings which you need to be aware of before you go into an interview. These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dress and deport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physical behaviou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ay you answ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1430280" cy="343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12160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URING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752480"/>
            <a:ext cx="640080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eath deeply, get rid of any bubble gum, ensure that your breath is fresh and, especially, rela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ke hands, firmly,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some gratitude for the opportunity given to you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not sit before you are asked to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 eye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NCE IN THE INTERVIEW……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676520"/>
            <a:ext cx="6629400" cy="70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honest and direct with the responses to ques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answering questions with a mere yes or n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smiling and keep your positive attitude. There is no place for negative comments or sarcas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before answering any questions. Take a few seconds to formulate a complete and logical respon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e a couple of questions on the company, or the job itself, to ask at the end of the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FTER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66294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 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ke hands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your thank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ure that you do not leave anything personal behind you (coat, binder, purse, etc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lk straight and calmly to the do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a large smile on your face as you leave the room. The interview is o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6934320"/>
            <a:ext cx="2133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08T20:22:02Z</cp:lastPrinted>
  <dcterms:modified xsi:type="dcterms:W3CDTF">1999-03-01T19:07:07Z</dcterms:modified>
  <cp:revision>28</cp:revision>
  <dc:subject/>
  <dc:title>No Slide Title</dc:title>
</cp:coreProperties>
</file>