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D82-1C45-4CEB-B143-BB24BDA4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196-348D-47A9-822D-30FF4B0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9B4-5FFB-4921-B4FD-56D4A60F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4E0-FC50-4790-867C-9961B67F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B31-67C6-4167-B0E9-C63FE7C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BB4-DB02-4204-AB15-0E8CBAAE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517-2AE0-47AD-B5EC-9878E3E9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DC4-A752-47BC-B715-62C70FD4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B25-1B44-4775-81A0-92123540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088-9897-4063-AA10-F8EB36A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BDE-70B1-41FD-BE52-9F605C4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9E6-F41F-485F-B289-5FB4548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3908-3ABB-4BA7-9D7B-20DDD7AC9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3:51:44Z</dcterms:modified>
  <cp:revision>25</cp:revision>
  <dc:subject/>
  <dc:title>Navigating Position</dc:title>
</cp:coreProperties>
</file>