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C3B-192B-4FE6-A615-BE7FA08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B61-22DB-42FC-B09B-6D13E01E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7AB-BA04-4C2C-AE6C-A233F481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6D5-B9BD-4400-BE09-DAFA6D2C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52A-3C84-4B11-A6B5-1C4099B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A06-132B-453A-9C7E-97A23E35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021-007B-429F-BD64-F4FEBC0A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1DE-43B3-4581-A0F4-364C408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8F1-C33C-4631-91F8-D439613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3D9-9440-4D86-B638-F20E9DC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37D-F44F-4320-97D2-5E9610D3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44D-E3D9-4E06-A3CF-9FCA1332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76D-E635-4030-9AEE-17A5056F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A 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rained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Surrou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ence of Dangerous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9600" y="213372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13:27:06Z</dcterms:created>
  <dc:creator>DND</dc:creator>
  <dc:description/>
  <dc:language>en-US</dc:language>
  <cp:lastModifiedBy>Jamie Richards</cp:lastModifiedBy>
  <cp:lastPrinted>1999-01-25T14:08:08Z</cp:lastPrinted>
  <dcterms:modified xsi:type="dcterms:W3CDTF">1999-04-01T18:42:30Z</dcterms:modified>
  <cp:revision>5</cp:revision>
  <dc:subject/>
  <dc:title>SELECTION OF A BIVOUAC SITE</dc:title>
</cp:coreProperties>
</file>