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AA2B-04B9-4C7E-A14A-A49B2A6B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A420-B864-41E7-BD99-E0E15DD1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EBDA-AF4C-4B57-B414-401164538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47F0-57CC-43D2-B691-5CBAB41C3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98A3-557F-404E-A208-F3AF616A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5C1F-2439-4195-AC44-B4408C5E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5221-919B-4463-8644-4CBDF04F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08DC-4629-4549-A821-071F9452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6291-9D19-40FB-BE15-98E339B3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6E69-9E7F-4AD2-BB46-24BDE76C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704A-ECC9-4F5F-965D-C24E8784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8776-22D9-4846-96A8-2BD4DE3D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DD6A-4D0C-4E7D-A3CC-5A6344291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6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irdgeIV" descr=""/>
          <p:cNvPicPr/>
          <p:nvPr/>
        </p:nvPicPr>
        <p:blipFill>
          <a:blip r:embed="rId1"/>
          <a:stretch/>
        </p:blipFill>
        <p:spPr>
          <a:xfrm>
            <a:off x="222120" y="533520"/>
            <a:ext cx="8921880" cy="6016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BIVOUAC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7880" y="175248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SHING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6668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INKING WATER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886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1640" y="5791320"/>
            <a:ext cx="12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E P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91640" y="495288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5200" y="4800600"/>
            <a:ext cx="16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SS 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11680" y="426708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5560" y="335268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45600" y="297180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TR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68920" y="4038480"/>
            <a:ext cx="135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FE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154720" y="548640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25000" y="601992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9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04840" y="6608880"/>
            <a:ext cx="62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 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9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des%20picturres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541008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ho%20me%202" descr=""/>
          <p:cNvPicPr/>
          <p:nvPr/>
        </p:nvPicPr>
        <p:blipFill>
          <a:blip r:embed="rId1"/>
          <a:stretch/>
        </p:blipFill>
        <p:spPr>
          <a:xfrm>
            <a:off x="201600" y="566640"/>
            <a:ext cx="8740800" cy="5724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04840" y="6608880"/>
            <a:ext cx="62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 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9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62320" y="4876920"/>
          <a:ext cx="761760" cy="46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4876920"/>
                    <a:ext cx="7617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7086600" y="2209680"/>
          <a:ext cx="719280" cy="31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86600" y="2209680"/>
                    <a:ext cx="71928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609480" y="762120"/>
          <a:ext cx="762120" cy="1295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9480" y="762120"/>
                    <a:ext cx="7621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048120" y="5410080"/>
          <a:ext cx="1562040" cy="1067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48120" y="5410080"/>
                    <a:ext cx="15620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7010280" y="4876920"/>
          <a:ext cx="914400" cy="1143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010280" y="4876920"/>
                    <a:ext cx="914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848720" y="4724280"/>
          <a:ext cx="838080" cy="1600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848720" y="4724280"/>
                    <a:ext cx="8380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7543800" y="609480"/>
          <a:ext cx="838080" cy="1143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543800" y="609480"/>
                    <a:ext cx="8380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2514600" y="2362320"/>
          <a:ext cx="762120" cy="1523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514600" y="2362320"/>
                    <a:ext cx="7621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2895480" y="2590920"/>
          <a:ext cx="1219320" cy="11300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895480" y="2590920"/>
                    <a:ext cx="1219320" cy="113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bridge567" descr=""/>
          <p:cNvPicPr/>
          <p:nvPr/>
        </p:nvPicPr>
        <p:blipFill>
          <a:blip r:embed="rId20"/>
          <a:stretch/>
        </p:blipFill>
        <p:spPr>
          <a:xfrm>
            <a:off x="196920" y="366840"/>
            <a:ext cx="8750160" cy="61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2T18:40:10Z</dcterms:created>
  <dc:creator>DND</dc:creator>
  <dc:description/>
  <dc:language>en-US</dc:language>
  <cp:lastModifiedBy>Jamie Richards</cp:lastModifiedBy>
  <cp:lastPrinted>1999-01-26T19:45:31Z</cp:lastPrinted>
  <dcterms:modified xsi:type="dcterms:W3CDTF">1999-04-01T18:41:59Z</dcterms:modified>
  <cp:revision>14</cp:revision>
  <dc:subject/>
  <dc:title>BIVOUAC SITE</dc:title>
</cp:coreProperties>
</file>