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D47-9976-436A-97A0-B48B52A7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EBA-5427-40E9-B776-9AA6C63B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128-55B6-4288-AFF7-498034AA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118-827E-4C43-8613-23A1912C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4D8-0A18-467F-8749-E19D2C44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DF2-C596-437B-91A8-F5A2EDB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650-F22E-46F3-8720-E5EB50F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F70-7A98-4739-8BA6-CE0BD72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A81-964F-41A0-A456-4FBCE94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2D6-3356-47E5-8A3D-E13C144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08A-CFD6-40B7-A08D-287F5AD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2D1-0401-4725-BD5C-20E79F9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9466-E8FD-46E2-BEA1-F38093FD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95280" y="990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295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971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295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0292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37160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029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7524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716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1600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71600" y="9903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3716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5160" y="15238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3280" y="32004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457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3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2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3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9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30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31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63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4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3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4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5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9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9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3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4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30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457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42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3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4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5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6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7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8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6:04Z</dcterms:modified>
  <cp:revision>44</cp:revision>
  <dc:subject/>
  <dc:title>No Slide Title</dc:title>
</cp:coreProperties>
</file>