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C87-9CF6-4ADF-AD60-CDF9211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2A0-F3DA-4B35-B925-4224838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2C5-1150-4158-98FE-6B85A216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EBE-3B26-4B3A-B793-00A6F88F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92E-C201-4A85-9339-FA60C9F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778-70D6-4014-AE8F-A939F1BD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5E9-0FAB-4155-9855-85B5AACD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EF2-65E3-464A-9306-924526C9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E7C-6974-4CDF-B840-F9DA6F2F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B85-4EF9-4778-93F8-84BC0CF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DFF-0AEA-4012-89CA-3CB61C4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237-23EF-4792-AA46-236F57F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E0CF-83A9-4D0D-9457-4F7937155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CAD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6900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IT-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-PO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59320" y="1981080"/>
            <a:ext cx="23860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5:18:14Z</dcterms:created>
  <dc:creator>DND</dc:creator>
  <dc:description/>
  <dc:language>en-US</dc:language>
  <cp:lastModifiedBy>Jamie Richards</cp:lastModifiedBy>
  <cp:lastPrinted>1999-02-10T15:26:51Z</cp:lastPrinted>
  <dcterms:modified xsi:type="dcterms:W3CDTF">1999-04-21T19:06:53Z</dcterms:modified>
  <cp:revision>5</cp:revision>
  <dc:subject/>
  <dc:title>PROBLEM TRAINEES</dc:title>
</cp:coreProperties>
</file>