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7A9-C1A6-4756-8D0D-5F506F1A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605-B833-4847-ABEE-84DD8EC8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F2E-EC33-4657-9D49-5C360272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542-5F7A-4477-9389-AC398B94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FC3-6D32-44F9-BD4A-A52C255D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FDE-A1C3-42C7-A97D-15605350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CF6-0EAF-415F-B276-5732EE15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82E-39D3-4772-AB20-CB355C29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CFD-7B83-4650-A300-B9769A93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B54-CEB9-4F2E-9E41-01EE4C3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7B1-F0CE-4F27-B078-0EB5BFD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057-8469-459B-BB7F-B4D03180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297E-2978-408B-A2A6-0D0F787F3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5500440" cy="81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Jamie Richards</cp:lastModifiedBy>
  <cp:lastPrinted>1998-12-18T14:03:14Z</cp:lastPrinted>
  <dcterms:modified xsi:type="dcterms:W3CDTF">1999-04-21T18:59:34Z</dcterms:modified>
  <cp:revision>7</cp:revision>
  <dc:subject/>
  <dc:title>No Slide Title</dc:title>
</cp:coreProperties>
</file>