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616-93EA-484B-AB62-98D411E7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377-C970-4EC3-AE29-364F0D3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57B-9913-4D9E-9BD2-7E3120B8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EF5-62DD-4747-970E-80BFD568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947-BC90-438C-9290-64A0E4A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CDB-D104-4DE7-989C-E41EC2C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C72-1262-454B-A33F-D6A0438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60F-C81B-484D-B0BE-8B378545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FD6-194F-40B6-A46B-47DAD567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C94-D528-4A14-8AA6-53905E0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A51-CE98-48DE-8309-E85E566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D25-C6FA-437E-AB82-CA243CD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3ED2-C226-496E-87CE-98C48733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ETING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19807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the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ify the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537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et out in by-laws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member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s minority groups from dominating the procee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quorum, the chairperson can adjourn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352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0400" y="182880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048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520" y="129492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RET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13372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7:42:12Z</dcterms:created>
  <dc:creator>DND</dc:creator>
  <dc:description/>
  <dc:language>en-US</dc:language>
  <cp:lastModifiedBy>Jamie Richards</cp:lastModifiedBy>
  <dcterms:modified xsi:type="dcterms:W3CDTF">1999-04-26T03:10:00Z</dcterms:modified>
  <cp:revision>4</cp:revision>
  <dc:subject/>
  <dc:title>MEETING PREPARATION</dc:title>
</cp:coreProperties>
</file>