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613-5CA5-4614-8AE0-99FEC571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58D-4C08-4795-A5B9-B2B00B37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CF7-D46C-473D-A58F-1C745243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F84-8FEE-4E8D-97A9-AE1BF018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1F7-7ED2-4907-90BB-3366B751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10A-982C-40D4-B9B4-269E348E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590-DE25-4BCF-98A2-C1FAD1DA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DFC-C99B-4B27-B82B-2571CE93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78A-1802-49EC-B405-B861937B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137-FB98-4079-A8B2-10B92616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D53-13A0-4587-ABD9-D5BB67B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45E-44F4-40D9-A512-B7C1AA5A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26A5-AF2C-495B-B0AB-62217C4B6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662940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e the work of your subordinat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de on a meeting point from where you can coordinate the efforts of your staf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distance in order to keep an eye on the ensem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your assista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available to help solve any problems that may ari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 to modify the plan (Plan B) if circumstances change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w initiative and adapt to new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6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URING THE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80520"/>
            <a:ext cx="63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FTER THE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155240"/>
            <a:ext cx="6172200" cy="70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POST-ACTIVIT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 your assistant(s) to provide you with a post-activity re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ost-activity report, verbal or written, answers the following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as the nature of my tas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problems did I encoun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olutions did I app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course of action could help improve the situation in the fu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ere the weakest points of my 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ere the strongest points of my 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my personal opinion on the overall success of the activ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15573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98400"/>
            <a:ext cx="61722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ect the opinions of your subordina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 neutral and listen to your staff. Do not take their remarks personal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s should be in a climate of trust and honest exchan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problem brought to the table, a constructive solution must be offered by you or, better yet, by the whole group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5257800"/>
            <a:ext cx="35812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5648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UBMITTING A FINAL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045880"/>
            <a:ext cx="647712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analyzing the shortfalls and strong points from your assistant’s post-activity report, you must produce a Final Report (After Action Report) for your super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itten report must, in addition to answering the questions in the post-activity report, is to include a precise evaluation of each element of your origin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port must be detailed and include proper and precise recommend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5:47:13Z</cp:lastPrinted>
  <dcterms:modified xsi:type="dcterms:W3CDTF">1999-03-15T15:47:16Z</dcterms:modified>
  <cp:revision>43</cp:revision>
  <dc:subject/>
  <dc:title>No Slide Title</dc:title>
</cp:coreProperties>
</file>