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A5C-78BA-46FB-A434-0DCAB0F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1F9-5971-4C17-8045-D2EC21B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717-BE5E-42A7-ABA3-E13C9685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ED2-116F-4FDA-A5A5-BC83881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679-336C-4470-A6BC-ADB5C60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2C7-86EB-4B84-9934-C1729092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A07-F6A6-4BC9-810F-69DA857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16D-4AA0-4851-8EB5-3A2AE34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33A-178D-45A0-AE29-97EB6C1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7AC-C479-4909-8DAB-ECAE65D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5EC-0DE9-409F-B9F6-2A0D4D4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EF5-1FEB-4A81-BC6C-793D7E8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FF64-D060-4ACB-B35F-92D9959A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ETS’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2590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4:07:10Z</dcterms:created>
  <dc:creator>DND</dc:creator>
  <dc:description/>
  <dc:language>en-US</dc:language>
  <cp:lastModifiedBy>Jamie Richards</cp:lastModifiedBy>
  <cp:lastPrinted>1999-02-15T14:18:34Z</cp:lastPrinted>
  <dcterms:modified xsi:type="dcterms:W3CDTF">1999-04-21T19:13:42Z</dcterms:modified>
  <cp:revision>3</cp:revision>
  <dc:subject/>
  <dc:title>LESSON PLANNING TIPS</dc:title>
</cp:coreProperties>
</file>