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013-4216-4D22-9DA2-7C628BA7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949-C018-4B75-9FD5-E6120076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4E3-1F18-4412-B5C5-5841B052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CD4-5D80-4A6B-8B62-D9F80C77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695-6713-4DF0-BE34-EF6E892F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B8B-8AD4-49E8-B6BC-47E96E8A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8ED-3C3A-40EC-BDDA-84FEF376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C87-8620-4F97-9E9E-E69E016D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0F1-8DA2-40D2-9B3A-7EBBCFE9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6E9-C2EC-4D3C-835D-B072A22D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EAB-F428-4985-8A1A-FB7E018D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EA6-9DA1-4E76-982A-6A49F611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6CDC-97FC-4591-BC5F-F3A8E301D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14400"/>
          <a:ext cx="7621560" cy="8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14400"/>
                    <a:ext cx="7621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90920" y="1905120"/>
          <a:ext cx="5181480" cy="380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905120"/>
                    <a:ext cx="51814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1295280"/>
          <a:ext cx="5048280" cy="7147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95280"/>
                    <a:ext cx="504828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09:42Z</dcterms:modified>
  <cp:revision>22</cp:revision>
  <dc:subject/>
  <dc:title>No Slide Title</dc:title>
</cp:coreProperties>
</file>