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105-8A93-4890-BC8B-3701F482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B6F-5F6E-4892-A8ED-4B302F7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D91-B2C0-4059-8668-B90677AB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719-D38D-4C61-8AA7-1CF5EDB9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D95-6FA4-40DD-99C5-891A008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B72-3947-40F5-8C22-474F576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182-F0F1-4844-8622-0D9EECB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C9F-BD2C-4F44-BB07-62EEFF6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29D-5B74-48CE-B1F7-54E4C5B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50B-004E-4B74-8EB2-FF147C2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BB1-A8A3-4DAC-A8E7-168490E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994-6F7E-4FEE-BB55-DB0F572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1E9E-71AA-4640-8E56-50356D647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74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_____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971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242480" y="45684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140120" y="441504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___________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21337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1160" y="144792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19:52:50Z</dcterms:modified>
  <cp:revision>17</cp:revision>
  <dc:subject/>
  <dc:title>No Slide Title</dc:title>
</cp:coreProperties>
</file>