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A83-D3E5-46C8-93C8-C0A826FC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AFB-7FF2-4B07-89C4-B319A9AF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44F-E687-4566-B172-061FA0EA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4CC-E46A-4C7E-B38A-2676A35B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8D3-0AFF-45FA-BC26-3F17B2FF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22A-4D52-4E57-B91C-60034451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671-D9C3-4975-825F-EBCAAF5A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302-C3CF-4318-A40F-ED16706A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C22-18A3-44A8-8813-6EB01966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25D-5F4C-438C-AD30-11B86DDA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4AC-8E1C-4EBE-9E45-CCDD3AB9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638-A38D-43AE-91AC-3D1713A5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BA1D-92FA-4328-8FA4-471F737C7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040" y="6545160"/>
            <a:ext cx="123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981080"/>
            <a:ext cx="4496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hysical fitness should be a part of everyone’s daily routine.  You will feel healthier and your self-confidence will improv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779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23040" y="4013280"/>
            <a:ext cx="13114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0840" y="4049640"/>
            <a:ext cx="186516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03960" y="1830240"/>
            <a:ext cx="1559160" cy="13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905120"/>
            <a:ext cx="5715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OOL-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817640"/>
            <a:ext cx="2133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05720" y="1770120"/>
            <a:ext cx="1371600" cy="160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470240" cy="21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0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5280" y="3868560"/>
            <a:ext cx="1392120" cy="215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81532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aises Fit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otivates Cad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reates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firms Abilit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epares Cadets for Advanced Cour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1952640"/>
            <a:ext cx="2424240" cy="31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53080"/>
            <a:ext cx="668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71680" cy="4605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5680" y="1447920"/>
            <a:ext cx="51055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NDURANC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ARTIAL CURL-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USH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NDING LONG J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50 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UTTL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5880" y="3379680"/>
            <a:ext cx="2533680" cy="2397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077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Keep a schedule of the games to offici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heck for any changes prior to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Report at least 30 minutes ear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Know the rules of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Look profess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Keep in good sha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atch other officials for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1720" y="533520"/>
            <a:ext cx="646416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IES OF A SPORTS OFF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9-03-04T21:44:55Z</cp:lastPrinted>
  <dcterms:modified xsi:type="dcterms:W3CDTF">1999-04-22T20:49:36Z</dcterms:modified>
  <cp:revision>26</cp:revision>
  <dc:subject/>
  <dc:title>No Slide Title</dc:title>
</cp:coreProperties>
</file>