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47C-D796-4540-B179-72AC0778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4A1-5605-4D45-8C54-B464680F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3D5-6A53-4469-AA7D-6D0A2270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CA8-F191-4598-B048-8E12AD54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133-B9F8-4673-A6C2-BD2C63F9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862-BDFA-4046-A2AD-E7189BBD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9D4-50AE-4B54-A4D2-7066FC3A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15D-319F-405A-83B1-9678412C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968-55BA-48D5-91C0-AC891E39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C2E-B99A-4800-9FD7-16E0DEE0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A62-3717-4563-8AE2-81C5E7F6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B0E-2579-4E9C-854B-C46538AB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0D22-FF88-48BF-B66D-1E972D8FE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7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057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0574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2971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PAST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343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56386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CTION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7926120" y="51800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684720" y="4340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MUM 3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88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24680" y="43434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56386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2240" y="441972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71500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1447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743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UTING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31:02Z</dcterms:created>
  <dc:creator>DND</dc:creator>
  <dc:description/>
  <dc:language>en-US</dc:language>
  <cp:lastModifiedBy>dnd</cp:lastModifiedBy>
  <cp:lastPrinted>1999-03-18T18:18:34Z</cp:lastPrinted>
  <dcterms:modified xsi:type="dcterms:W3CDTF">1999-03-28T20:01:43Z</dcterms:modified>
  <cp:revision>16</cp:revision>
  <dc:subject/>
  <dc:title>No Slide Title</dc:title>
</cp:coreProperties>
</file>