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401-8F55-438E-8C7C-0E4C4714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07D-86DF-4455-8073-5B4E2B8A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9D0-E56E-483A-9C90-23327FF8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0F6-AF8A-403B-A6FD-B04B4E94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7C0-588B-4E6E-B26E-A51C3A5B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FAB-9807-46AE-9738-F47FF6BA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328-8B2D-4033-A28F-87CDA71E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266-E350-4202-9C10-A0BE2B24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27F-F184-41B5-B797-F7E13A6B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F2F-F246-465D-BF3D-0C64211B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05B-2385-4A85-BEC2-27AB6CF5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224-86D2-499D-B941-F6645D16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FE72-AF34-4717-BBAA-F020B022F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6096240" cy="77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ake a shower or ba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every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ash dirty clothes once a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rim finger and toe nai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regular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40" y="872640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60962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Use foot powder after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rush and floss your tee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after each m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Shave if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40" y="872640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0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fg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5T18:06:34Z</cp:lastPrinted>
  <dcterms:modified xsi:type="dcterms:W3CDTF">1999-03-12T14:58:25Z</dcterms:modified>
  <cp:revision>11</cp:revision>
  <dc:subject/>
  <dc:title>No Slide Title</dc:title>
</cp:coreProperties>
</file>