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AB22-D743-4061-8595-C025049F9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1A9A-8995-4924-8088-182D28E2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63C6-B3A1-4628-9E57-3CEBFF0E9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3271-B3C1-4364-8E8E-F3F9E91DA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7D0A-F6FD-4020-AF0F-CFAD6AC5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60E2-F616-4565-9C53-0B54E99F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2553-C337-4D8A-B013-573972EC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08AC-C77F-4D03-BA7D-5DA1F6E1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98B6-36EB-4F11-B4C3-0B7FB16A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1DBA-BC80-4625-9CA8-39F1C377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781E-DDD6-4669-B42D-9E9D904A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E212-D859-4BD3-A7E3-1DA11076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A1A2-E608-4A57-9BF7-8D0403EF2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3049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UADRON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2743200"/>
            <a:ext cx="6019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3809880"/>
            <a:ext cx="6019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4876920"/>
            <a:ext cx="6019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symbols4" descr=""/>
          <p:cNvPicPr/>
          <p:nvPr/>
        </p:nvPicPr>
        <p:blipFill>
          <a:blip r:embed="rId1"/>
          <a:srcRect l="1429" t="37860" r="66572" b="15085"/>
          <a:stretch/>
        </p:blipFill>
        <p:spPr>
          <a:xfrm>
            <a:off x="6477120" y="5638680"/>
            <a:ext cx="838080" cy="463680"/>
          </a:xfrm>
          <a:prstGeom prst="rect">
            <a:avLst/>
          </a:prstGeom>
          <a:ln w="0">
            <a:noFill/>
          </a:ln>
        </p:spPr>
      </p:pic>
      <p:pic>
        <p:nvPicPr>
          <p:cNvPr id="49" name="symbols4" descr=""/>
          <p:cNvPicPr/>
          <p:nvPr/>
        </p:nvPicPr>
        <p:blipFill>
          <a:blip r:embed="rId2"/>
          <a:srcRect l="1429" t="37860" r="66572" b="15085"/>
          <a:stretch/>
        </p:blipFill>
        <p:spPr>
          <a:xfrm>
            <a:off x="533520" y="1600200"/>
            <a:ext cx="838080" cy="463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rot="16200000">
            <a:off x="6392520" y="1760400"/>
            <a:ext cx="609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8305920" y="18288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16002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142640" y="259092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34290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36576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44956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4724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55627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06632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4724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066680" y="5562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06632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066680" y="3657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066680" y="3429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066680" y="25909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3657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2590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38880" y="449568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62920" y="36576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62920" y="34290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3888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388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8145360" y="5189400"/>
            <a:ext cx="609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7467120" y="4572000"/>
            <a:ext cx="8384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848720" y="1600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8305920" y="159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599840" y="160020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495680" y="838080"/>
            <a:ext cx="0" cy="6098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2743200"/>
            <a:ext cx="5335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29528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60020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8108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36232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66688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04812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42900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73392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03848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41972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80060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10552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41008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71500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01992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32448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553080" y="29714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2952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718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339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384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578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771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294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816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866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388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91680" y="1827720"/>
            <a:ext cx="168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RTING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02:10:20Z</dcterms:created>
  <dc:creator>DND</dc:creator>
  <dc:description/>
  <dc:language>en-US</dc:language>
  <cp:lastModifiedBy>DND</cp:lastModifiedBy>
  <dcterms:modified xsi:type="dcterms:W3CDTF">1999-03-23T02:11:02Z</dcterms:modified>
  <cp:revision>1</cp:revision>
  <dc:subject/>
  <dc:title>No Slide Title</dc:title>
</cp:coreProperties>
</file>