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CB6-E289-4AAD-929A-B11B3F13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D94-F312-4E3F-ADEF-BAB8FC0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C69-2C21-4E51-B559-DB70AB8C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46D-E7BD-4E22-9B31-74F5C87A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A09-EBEC-4B50-802D-D3FCAD16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6D1-77EF-4CE8-A6C6-1B46BF6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D04-0D1C-4A24-B2D0-3CA048F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6C5-58A6-4FCA-89B7-FC0AEEDF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91A-7F61-4E90-A698-84A9702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8C2-5A78-4619-85C4-5BE241E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3D1-6377-40FC-BA75-31661A2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6C7-99D7-40D4-B2A4-385C37B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D7C5-040D-44E2-8EB4-17B66EB57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65530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Answer Key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3-02T13:28:36Z</dcterms:modified>
  <cp:revision>29</cp:revision>
  <dc:subject/>
  <dc:title>No Slide Title</dc:title>
</cp:coreProperties>
</file>