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03F-D802-4F2B-B978-E97C52F8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6AA-F730-4817-BD4A-04B08694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C45-3CA7-4A75-8DCF-D3C2689D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987-AFAB-498D-927C-11D4B024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C0B-C290-4274-B73E-D093E9A7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5E0-7179-4795-A706-C7A74EAA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AA4-15CF-4AF8-BB3F-75FA6029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0CD-88B2-4DB1-9803-CB8B2482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A7E-7A0F-473E-B491-44BA12A8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F2F-3DD2-440F-AA69-92883099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210-0978-459B-9D85-3851BA4E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FF9-62F3-456F-93F8-42985EB0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3832-2804-466A-88FF-93B12F696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47920"/>
            <a:ext cx="6400800" cy="78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ounselling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mprove the morale of cade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ncrease effici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ncrease loyalty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mprove acceptance of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ollowing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assist in meeting these ai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otional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rified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304920"/>
            <a:ext cx="60962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JECTIVES OF COUNSELL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371600"/>
            <a:ext cx="6400800" cy="69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 the purpose of the session in adv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the plan beforeh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sel in private space, free of disrup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ect the interests and individuality of each cad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 the cadet feel at ease by establishing tr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 conversation going, but do not domin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questions that may be answered by a yes or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“why” questions as they force a defensive st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304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GGESTED COUNSELLING RUL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447920"/>
            <a:ext cx="6400800" cy="72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your views and opinions to yoursel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rain from giving unsolicited adv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rain from passing value judg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exerting excessive contr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become sidetracked for lengthy perio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 the session positive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rd information, impressions and interpreta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 matter confident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up unobtrus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304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GGESTED COUNSELLING RUL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7112160"/>
            <a:ext cx="182880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47920"/>
            <a:ext cx="594360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 ERRO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8280" y="5029200"/>
            <a:ext cx="2143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4:09:37Z</cp:lastPrinted>
  <dcterms:modified xsi:type="dcterms:W3CDTF">1999-03-15T14:09:51Z</dcterms:modified>
  <cp:revision>33</cp:revision>
  <dc:subject/>
  <dc:title>No Slide Title</dc:title>
</cp:coreProperties>
</file>