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0D9-2595-4D35-A317-4A6262AD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28F-D0E2-481E-9AB2-794C6BDF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74F-D30C-45C8-99A5-AAF45E3C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273-7718-47EA-BD64-DC4CE154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A08-71F9-4C37-96A5-01F1B4FD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BBA-3CFB-49C8-8C68-A3A2E9F5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3DD-CB0A-4D73-85E2-EEE09D73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8EE-3CFF-4283-B2F0-AD8944F0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88C-0F91-4610-ACD1-C61D57F3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CF2-1014-4688-B1A6-24BA294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220-2B25-41FC-8C33-7527BB3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9B9-F528-4E75-A908-7E830144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C786-A10C-4272-8A12-C4FEA0E54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loud Famil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loud%20chart" descr=""/>
          <p:cNvPicPr/>
          <p:nvPr/>
        </p:nvPicPr>
        <p:blipFill>
          <a:blip r:embed="rId1"/>
          <a:srcRect l="2886" t="0" r="2868" b="0"/>
          <a:stretch/>
        </p:blipFill>
        <p:spPr>
          <a:xfrm>
            <a:off x="0" y="1925640"/>
            <a:ext cx="9144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the correct cloud types for each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67040" y="2786040"/>
            <a:ext cx="4310280" cy="344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6164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43520" y="5408640"/>
            <a:ext cx="12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43160" y="5408640"/>
            <a:ext cx="26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cumulus Castell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ering 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 Fra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8200" y="5408640"/>
            <a:ext cx="173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 Fra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4120" y="54086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971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657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971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343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971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429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2971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0666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09T14:35:04Z</cp:lastPrinted>
  <dcterms:modified xsi:type="dcterms:W3CDTF">1999-03-31T03:53:47Z</dcterms:modified>
  <cp:revision>6</cp:revision>
  <dc:subject/>
  <dc:title>Cloud Families</dc:title>
</cp:coreProperties>
</file>