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685-0B25-4E74-878B-A51F3803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B4E-7908-4A6B-B6AF-81AE049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DE9-0890-4784-9CA1-490593EA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E86-8868-40B2-B6CB-9718099E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C53-E838-4648-8415-2FC7B8A5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96B-06F8-49C5-A6C1-115E68C0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9A6-0787-4071-8AEC-0821E7AF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E27-284F-407C-B79B-4F3C362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A89-4C85-4A2C-9E27-E027AD2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8C0-DA0A-4038-94C2-33AF023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11D-F0AC-448D-BF9E-7EE157D8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FF3-545E-4433-A286-BE60082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AF2-1939-40A2-8FBD-BE899AAB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3:42Z</dcterms:modified>
  <cp:revision>27</cp:revision>
  <dc:subject/>
  <dc:title>Navigating Position</dc:title>
</cp:coreProperties>
</file>