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143-D434-42A3-98D2-BF8E3157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7F0-6C32-4F44-9B59-9C529395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DF2-D4AA-488B-96F5-4248D294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9B2-0835-4FE4-B7E0-07FE3EE6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ED0-9DE1-4A8F-A9A4-793C184B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16C-7233-4661-B689-D7E6B861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8C2-2345-4E08-8A8B-0D4F98CE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F69-EBDC-4DDA-9F10-8C3593F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687-F1EA-4746-91C4-500AAAE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696-820E-45A8-B69A-A64C748F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1AB-79FA-43FC-934D-88B7F211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BCF-AEE9-4591-A8DD-3CA5D39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84D8-3FF2-4C46-82EB-1652F78B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THE TEACHING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start well in advance of the presentation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points with examples, comparisons, statistics and testimo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lear 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94520" y="2514600"/>
            <a:ext cx="2544840" cy="3124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THE TEACHING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ly consider the nature of the target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hearse the lesson to build conf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2819160" cy="183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LI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rather than complex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b-standard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ly define each new technical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fic rather then gener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entences of varying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724800" y="1676520"/>
          <a:ext cx="241920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4800" y="1676520"/>
                    <a:ext cx="24192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many ideas in a short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ing a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formation difficult to obtai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upplemented with other teaching device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286000" cy="1218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provide for traine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s pas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not get the most out of certain types of 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to keep the attention of trainees for the whol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5105520"/>
            <a:ext cx="2286000" cy="124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7:31:26Z</dcterms:created>
  <dc:creator>DND</dc:creator>
  <dc:description/>
  <dc:language>en-US</dc:language>
  <cp:lastModifiedBy>Jamie Richards</cp:lastModifiedBy>
  <cp:lastPrinted>1999-02-11T18:09:34Z</cp:lastPrinted>
  <dcterms:modified xsi:type="dcterms:W3CDTF">1999-04-21T19:10:11Z</dcterms:modified>
  <cp:revision>6</cp:revision>
  <dc:subject/>
  <dc:title>PREPARING THE TEACHING LECTURE</dc:title>
</cp:coreProperties>
</file>