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C8E-9F7A-4E2F-92F8-829BAE09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80C-BED5-4969-8EF1-7892AED5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6CB6-4F8F-46F7-AA0C-1C3159CE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A2EE-995E-4A3D-A5AD-0B18A392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7268-1042-4A6A-9490-725E8F0A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6061-58ED-4E21-AD79-F3E90E3C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A95-AC61-4BD7-8886-BECB66C4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1383-A5A8-4519-82CA-B656F00D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DB0-EC04-41EA-A39C-04340C4B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55FA-9572-49AC-97C9-25B98CB4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7C2-BED6-4528-A902-3433D00E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5A7C-CEC2-49D5-81B6-2DF6C90B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0616-DC33-4F23-8617-F50602172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0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539748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15:16:04Z</dcterms:created>
  <dc:creator>DND</dc:creator>
  <dc:description/>
  <dc:language>en-US</dc:language>
  <cp:lastModifiedBy>DND</cp:lastModifiedBy>
  <cp:lastPrinted>1999-01-12T15:16:38Z</cp:lastPrinted>
  <dcterms:modified xsi:type="dcterms:W3CDTF">1999-01-12T15:17:34Z</dcterms:modified>
  <cp:revision>1</cp:revision>
  <dc:subject/>
  <dc:title>No Slide Title</dc:title>
</cp:coreProperties>
</file>