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19D-A9B3-46B1-9DF0-656B2C42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50D-002E-476D-86A7-75FADB0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E0B-15F1-4F1F-B831-0E7B769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4A0-E15D-467A-85EC-64E721F4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BC8-22C8-48E3-A3B3-723AD0A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392-B812-42D7-8CD8-681A0B1B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444-EE98-450B-B9FF-AD17A0D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A98-7DF1-419A-A99A-6A6D3C1F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C0F-961D-4E4E-B423-1FC5F0A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797-E9B3-472B-A356-63A842F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487-A403-461D-AA01-6919ABC0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ED7-08E5-4A38-B422-B5B0F8C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C346-28D1-436F-A266-685CEB2B8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914400" y="2819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144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609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769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0292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144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342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828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0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89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0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6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7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632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4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5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69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0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1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5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4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5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26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286000" y="533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3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4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5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36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2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3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4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5:23Z</dcterms:modified>
  <cp:revision>44</cp:revision>
  <dc:subject/>
  <dc:title>No Slide Title</dc:title>
</cp:coreProperties>
</file>