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241-0B60-4AA5-B337-AC9009B9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0C5-88BE-4DEE-97F7-07C7ECF9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5BA-1FCD-4E29-A18E-118161BD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77C-DD44-46F9-B6A0-BBC80142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E12-522C-4C02-88FE-02F8F625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007-3D0D-41A5-909E-A8A97CEE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BD4-6B63-4B5C-9151-1E570905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F35-B4CC-47CC-A09F-8BA95228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653-C67A-43A3-88DD-9C8CAFDE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DA6-E14D-4769-A6C4-9DAE9957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22D-8F9D-4DF2-B93C-2FB0045A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148-D543-4006-A76C-C861DD79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7591-754A-4D1D-A490-8EAE821C7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828800"/>
            <a:ext cx="662940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FORE THE ACTIV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rching for Inform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borating a Pl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igning Tasks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ing a Planning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URING THE ACTIV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v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FTER THE A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 a debriefing/Post-Activity Meeting;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mit a 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7224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LANNING A GROUP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600200"/>
            <a:ext cx="640080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arching for Inform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swer these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nature of the activ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it scheduled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it take 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it important to hold this activ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respon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6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EFORE THE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365200" cy="2365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5410080"/>
            <a:ext cx="1981440" cy="1295640"/>
          </a:xfrm>
          <a:prstGeom prst="cloudCallout">
            <a:avLst>
              <a:gd name="adj1" fmla="val -51444"/>
              <a:gd name="adj2" fmla="val 758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5 W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32800"/>
            <a:ext cx="63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SSIGNING A TA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517400"/>
            <a:ext cx="617220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soon as you receive the green light, name an assistant (2IC) who will assist you in your ta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egate secondary tasks to subordinates. Do not try to do it all you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710320"/>
            <a:ext cx="2743200" cy="257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962520" y="5562720"/>
            <a:ext cx="2184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648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LDING A PLANNING ME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52400"/>
            <a:ext cx="6172200" cy="68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 determine who your assistants are, meet with them and delegate the different tasks related to the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sure they know exactly what they have to accomp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them informed of all changes and ask them to keep you informed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 a series of target dates for each task being delegated and ask them to provide you with a periodic report (verbal or written) on the progression of their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6T13:56:24Z</cp:lastPrinted>
  <dcterms:modified xsi:type="dcterms:W3CDTF">1999-03-15T14:35:12Z</dcterms:modified>
  <cp:revision>38</cp:revision>
  <dc:subject/>
  <dc:title>No Slide Title</dc:title>
</cp:coreProperties>
</file>