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600-020C-44CE-AB55-7E96554A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808-0033-4CF9-980D-08EC73F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441-6C82-443C-8578-B3059FF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E2F-0C9B-4EF4-B93B-298F9630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B4D-5ED5-4410-8ACF-D5D3565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64A-A24A-452B-A7F7-A5B701A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8D-A05B-44E2-BA3B-DA7CB18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E71-518D-450A-AF75-96DBEF13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0E9-266C-4365-A06F-FF1BA0B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1AF-4444-4C60-BFF9-08A5411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AA6-92F2-44FB-8DBC-EC14FFD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4E5-5F96-4F4C-9EDC-184F629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BAE-9DEB-45D9-A73F-00364C26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’s of MILIT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249440" cy="4568760"/>
          </a:xfrm>
          <a:prstGeom prst="rect">
            <a:avLst/>
          </a:prstGeom>
          <a:ln w="0">
            <a:noFill/>
          </a:ln>
        </p:spPr>
      </p:pic>
      <p:pic>
        <p:nvPicPr>
          <p:cNvPr id="47" name="deskbean" descr=""/>
          <p:cNvPicPr/>
          <p:nvPr/>
        </p:nvPicPr>
        <p:blipFill>
          <a:blip r:embed="rId2"/>
          <a:stretch/>
        </p:blipFill>
        <p:spPr>
          <a:xfrm>
            <a:off x="3405240" y="182880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ervices of an individual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changes 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a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2162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05:16Z</dcterms:created>
  <dc:creator>DND</dc:creator>
  <dc:description/>
  <dc:language>en-US</dc:language>
  <cp:lastModifiedBy>Jamie Richards</cp:lastModifiedBy>
  <dcterms:modified xsi:type="dcterms:W3CDTF">1999-04-26T03:08:52Z</dcterms:modified>
  <cp:revision>5</cp:revision>
  <dc:subject/>
  <dc:title>ABC’s of MILITARY WRITING</dc:title>
</cp:coreProperties>
</file>