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CAD-6BF4-4CC7-9867-588F95A8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700-7DA3-4449-864D-82B94B09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534-7454-4876-9DA2-1E0E6DF6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DED-FDC3-4162-B431-29ECF243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221-33A8-4297-BB5D-4F8ADE35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BF0-C4F9-4724-977C-855AD77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F07-85C6-4685-9504-7D0F76CD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2DD-0707-4B36-BCFA-2924D81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588-2155-4EF0-94E1-A8E38BD9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09D-B0A6-409F-9BEB-7C77999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522-2E1D-4C2B-8506-3C22232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668-4C4C-4C31-8A93-97555B0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418-1969-454D-A90D-57362B18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231040" cy="9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231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371600" y="1905120"/>
          <a:ext cx="6858000" cy="4551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905120"/>
                    <a:ext cx="68580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685880" cy="10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29000" y="2819520"/>
            <a:ext cx="150012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523880" y="411480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86200" y="44197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9480" y="5715000"/>
            <a:ext cx="1567080" cy="11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971800" y="6477120"/>
            <a:ext cx="12873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0:04Z</dcterms:modified>
  <cp:revision>24</cp:revision>
  <dc:subject/>
  <dc:title>No Slide Title</dc:title>
</cp:coreProperties>
</file>