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9EA-B445-4AA9-AFE9-A03FFFD5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192-ABB0-431F-B763-04171BF0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24E-30B5-46FE-AB41-7110C9B3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73A-1008-412A-BE3D-1B481A1A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99C-1628-448D-A7EB-89768B2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E2A-9507-48FD-A8B3-6F28661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CC3-CC3B-4DCF-B26C-44C010F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A26-8B07-497E-AA43-B3C3C16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A34-C926-4059-9511-7ECE89D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409-9EA6-4B27-9313-584FF47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310-884B-41F5-8898-D04D6E9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F75-CCD8-42F4-BEA4-440F9F6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3D5A-7878-4035-80A9-3C0B43D27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3000" y="6545160"/>
            <a:ext cx="152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4:57:40Z</cp:lastPrinted>
  <dcterms:modified xsi:type="dcterms:W3CDTF">1999-03-12T14:57:43Z</dcterms:modified>
  <cp:revision>22</cp:revision>
  <dc:subject/>
  <dc:title>No Slide Title</dc:title>
</cp:coreProperties>
</file>