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07A-77A5-454D-93B1-63835A75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4DB-BB28-4DB1-A39B-AFB12B25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3C9-F5FE-48F0-8443-B59033ED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50D-F265-440C-B325-EFE9F06D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CF3-8AF9-482B-9297-2475FEB8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C85-E976-4FD4-AAA1-267F93EE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F41-041B-4280-8A32-6947D386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97F-EB91-460B-AADA-A17359A5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BA8-72A2-4194-889D-9B312593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E0E-BEEA-459E-89D5-E269EC39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F84-6BBB-49DE-AD7F-FF2E9CAD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7BD-814E-420D-A9DA-132C7F36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78F5-4640-4441-BA72-23166538D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Cloud Form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, in which water vapour is present, is cooled to its saturation point and condensation occu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, without a change in temperature taking place, may absorb additional water vapour until its saturation point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ypes of Cloud 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us clou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vertically into clumps.  They form in rising air currents and are evidence of unstable air cond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in horizontal layers.  They usually form when a layer of moist air is cooled below its saturation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3:05:41Z</dcterms:created>
  <dc:creator>RC Air Cadets</dc:creator>
  <dc:description/>
  <dc:language>en-US</dc:language>
  <cp:lastModifiedBy>Jamie Richards</cp:lastModifiedBy>
  <cp:lastPrinted>1999-03-19T19:32:44Z</cp:lastPrinted>
  <dcterms:modified xsi:type="dcterms:W3CDTF">1999-03-31T03:53:19Z</dcterms:modified>
  <cp:revision>9</cp:revision>
  <dc:subject/>
  <dc:title>PITCH</dc:title>
</cp:coreProperties>
</file>