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18D1-D41D-42D6-8704-338D603BA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A582-2A03-41BD-8624-696929B5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C6C1-A4D4-45C5-A5C7-436B087F3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232F-2814-431F-9423-6D0A47EF6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E001-CDB3-4954-8185-63922C56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CAF0-B70A-4E49-A99E-6466A7EB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2D2F-AEBC-4677-827F-7A055B0D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9831-92DC-469F-99E3-1FDFA04D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320C-200B-46A3-A2DD-73AD557C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271B-AE28-484D-A1AF-8BC98122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DD8E-BCA2-47DF-9B62-2392AE47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CEFC-F2D7-40B0-9E81-CB8E7782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17AB-B336-4992-BD10-CAF15BAA7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tmospheric 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atmosphere is made up of a mixture of invisible gases.  The main gases in the atmosphere ar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itroge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xyge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arbon dioxid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addition to these gases, the lower layers of the atmosphere contain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ater vapou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 From a weather standpoint, this water vapour is the most important constituent of the atmospher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3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roperties of the Atmospher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PACITY FOR EXPAN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PACITY FOR COMPRE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3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le the letter which corresponds to the answer of each of the following ques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entify the three main gases that are present in the atmosphe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itro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rbon Monox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rb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ch of the following are the three principal properties of the atmosphe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sco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pacity for Expan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luid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pacity for Compr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pacity for Combu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680" y="14860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1752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93880" y="5295960"/>
            <a:ext cx="53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oose the word which best fits the following senten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25560" y="5624640"/>
            <a:ext cx="722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cause the atmosphere ha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t exerts a pressure on the Earth’s surfa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5867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50800" y="6019920"/>
            <a:ext cx="637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igh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3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le the letter which corresponds to the answer of each of the following ques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entify the three main gases that are present in the atmosphe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itro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rbon Monox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rb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ch of the following are the three principal properties of the atmosphe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sco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pacity for Expan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luid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pacity for Compr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pacity for Combu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0680" y="14860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1752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93880" y="5295960"/>
            <a:ext cx="53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oose the word which best fits the following senten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25560" y="5624640"/>
            <a:ext cx="722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cause the atmosphere ha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t exerts a pressure on the Earth’s surfa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5867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50800" y="6019920"/>
            <a:ext cx="637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igh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3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81952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4114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48006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24280" y="44956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48320" y="350532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281952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54120" y="556272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60199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1T13:05:41Z</dcterms:created>
  <dc:creator>RC Air Cadets</dc:creator>
  <dc:description/>
  <dc:language>en-US</dc:language>
  <cp:lastModifiedBy>Jamie Richards</cp:lastModifiedBy>
  <cp:lastPrinted>1999-03-01T13:13:26Z</cp:lastPrinted>
  <dcterms:modified xsi:type="dcterms:W3CDTF">1999-03-31T03:52:19Z</dcterms:modified>
  <cp:revision>7</cp:revision>
  <dc:subject/>
  <dc:title>PITCH</dc:title>
</cp:coreProperties>
</file>