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1B0-4953-4E42-AD67-DBA1C19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D69-EF62-44C7-AC88-6CACBA9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286-22C0-481C-B217-F568F97E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6BD-D3FF-4F4C-A3A9-09B9E3C9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B1D-8BD3-4F5A-BA56-913B4F46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FB3-44BA-4740-8D7F-6092BBEC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536-31C0-4D95-927F-9E3642E3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40B-EE82-4DCC-BB55-182DF4D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33A-6307-4ACE-9328-76B11E4E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077-FCBB-453E-9F6C-0842324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03C-D124-47B0-9FFF-85F44DA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6DA-26FC-4C1E-AD71-D2552CDC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4A12-AB59-4E64-8D55-CB4C85A16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" y="1905120"/>
          <a:ext cx="614664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1905120"/>
                    <a:ext cx="6146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48:33Z</dcterms:modified>
  <cp:revision>8</cp:revision>
  <dc:subject/>
  <dc:title>No Slide Title</dc:title>
</cp:coreProperties>
</file>