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37F-6FB2-4594-9E2C-BD76CF72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3C2-8B62-434F-A087-9B6A163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A7A-F0D6-4592-B5C5-9AD164B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EF4-73ED-4330-9E6C-E12D7FF1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25C-AAAD-407D-9F70-5C6B408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2EB-8451-419C-80C7-5D618398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636-C670-4892-83E1-B0FCD2B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365-6E65-4A2B-80F6-8C1B755C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70B-E49B-446F-B939-9545DE43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82D-82BD-4815-AFCF-923D112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33F-162B-49BB-A238-13168DF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2EF-4636-4B3F-A51D-6BACCD6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ACF-4C96-4CAC-8E42-FB373DE9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mé is not a job application but is a chronological description of your education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um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well prepared and logically organized. In other words it must be easy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mpeccable in its presenta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cts it includes must be true and pre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64008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d given 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ne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Insurance No. (optional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of birt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atus (single, married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6477120"/>
            <a:ext cx="195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62940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ucation &amp; Work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your education in reverse chronological order, beginning with last diploma recei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chools attended and currently attend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ort description of all jobs and positions held in the past, including any employment at a summer training cent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that you have done, even the smallest jobs should be inclu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6629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spend your spare time? Are you involved in any sports, social activities or cultural pursu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re any awards that you have won in school, cadets or elsewhere. Do not hesitate to mention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134460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6880" y="754380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221004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019920"/>
            <a:ext cx="15192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828800"/>
            <a:ext cx="662940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do not need to have references, but it will not hurt to have the support of two or three people who could attest to your qualifications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ople should provide a letter of reference if needed, or at least be able to answer a few questions abou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have the permission of these people before using them as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7696080"/>
            <a:ext cx="160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SENTATION OF YOUR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82880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not be more than three p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easy to re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writing style should be dynamic and precise, and free of lengthy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ust be printed on 81/2 x 11 white or slightly coloured paper, on one sid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grammar is perfe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bbreviations or acronyms. Write the titles or positions in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5:21:31Z</cp:lastPrinted>
  <dcterms:modified xsi:type="dcterms:W3CDTF">1999-03-12T15:21:35Z</dcterms:modified>
  <cp:revision>28</cp:revision>
  <dc:subject/>
  <dc:title>No Slide Title</dc:title>
</cp:coreProperties>
</file>