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9C1-6B48-4CF3-ACFD-2E72CF69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270-9BB9-4458-926D-9B9190E6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D1E-B0D9-44E0-B537-5B022D5C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551-4B89-4D2A-A6B1-755C51C0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965-B581-47AB-BE42-4F70F144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61C-3FCD-48A4-B6A5-4600C611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91A-B30E-4F90-97E9-88F3406A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7B9-6BD8-46C9-90E3-57281B5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5ED-1933-4855-A742-EF61799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454-B568-4B06-9891-20487D1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569-33AA-4B24-909C-1D3152D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84E-B3DF-40A8-9C10-53687B4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6B2-844F-45B7-93C8-BB414D40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MO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graph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63248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4652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ustin%20hoffman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74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19:30Z</dcterms:created>
  <dc:creator>DND</dc:creator>
  <dc:description/>
  <dc:language>en-US</dc:language>
  <cp:lastModifiedBy>Jamie Richards</cp:lastModifiedBy>
  <dcterms:modified xsi:type="dcterms:W3CDTF">1999-04-26T03:09:15Z</dcterms:modified>
  <cp:revision>9</cp:revision>
  <dc:subject/>
  <dc:title>COMPONENTS of a MEMORANDUM</dc:title>
</cp:coreProperties>
</file>