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0BB-F5B9-4444-97A0-038162BC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ABD-2A14-494E-9DDE-157A4B8D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99F-25BF-4847-98F0-E660CB4F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111-0068-4217-867A-65F57EF8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AAF-8950-498B-AB49-A2085CE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F01-C8A5-4273-991C-9076BE7E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58D-F5C5-45BD-9EFE-ED49E2C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EBC-B4BD-461B-A9C7-C20DB10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CFD-31A0-4AF6-87FD-C062C52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FF0-13C0-48C5-A28A-1830CF8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4E2-FA5C-4564-83AA-F0ADEBA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C85-54F8-4630-9C3F-32B6E06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AAF-E466-4A6F-A1C4-D897FF26A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51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5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8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9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4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195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0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221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2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3T01:20:12Z</dcterms:modified>
  <cp:revision>45</cp:revision>
  <dc:subject/>
  <dc:title>No Slide Title</dc:title>
</cp:coreProperties>
</file>