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708-BB0C-4832-8552-0944733C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2EB-256B-4B96-9FBF-BCBCCCD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D00-1DFB-4FC1-9AAB-6BE604FA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24E-0241-43E5-9689-40385788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653-B87C-4939-BE33-8B71C17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A6D-872E-40CC-A27F-51F64334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CAA-F8E2-4DBA-9F99-E33D4925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379-9B17-4BD9-A4CB-2C5675E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B00-97A5-4E3D-8CDD-1426D3B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8BC-A290-42F4-BB63-1B79BC2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CB2-C9D6-48C0-BEED-4B5DFF2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0B4-941B-4CA0-BB63-95F2040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F42-9F5E-47CA-B92E-36C649478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TMOSPHERE IS HEATED FROM BEL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eating" descr=""/>
          <p:cNvPicPr/>
          <p:nvPr/>
        </p:nvPicPr>
        <p:blipFill>
          <a:blip r:embed="rId1"/>
          <a:srcRect l="0" t="0" r="1868" b="0"/>
          <a:stretch/>
        </p:blipFill>
        <p:spPr>
          <a:xfrm>
            <a:off x="152280" y="2270160"/>
            <a:ext cx="87631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ors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Arial"/>
              </a:rPr>
              <a:t>Affecting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ur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aso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6:32Z</cp:lastPrinted>
  <dcterms:modified xsi:type="dcterms:W3CDTF">1999-03-31T03:48:08Z</dcterms:modified>
  <cp:revision>11</cp:revision>
  <dc:subject/>
  <dc:title>Cloud Families</dc:title>
</cp:coreProperties>
</file>