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7F8-8EDF-4B1F-81FA-7ABB1359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618-B3BF-4401-96CC-F0AAECB2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6D4-D9B4-429D-AF6B-41BFD88C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54C-5A9E-48BE-824F-BA8F39EB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F98-2669-4F65-A20C-1FEF4597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438-08AE-494C-BCE6-314F0998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72E-528D-4F25-9AC0-0D6D2EBF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EF5-F759-4E6D-98C3-79C8F3AC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26E-776C-40B8-BA16-76348091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0D6-FFE3-46CE-B8D5-4E0957B2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E5B-F239-4E56-B0A9-A44CE7A4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80D-A598-48CA-B4D6-46CD5071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1710-6A7E-4B6F-A9EB-8C9B04970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lative Size of Water Dro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ain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3786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UD DRO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ZZLE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5410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N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Forms of Precipit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zz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ow-Pel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 Pr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 Pel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e Pr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zz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-Pel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e Pel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pitation in the form of very small drops of water which appear to flo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are tiny ice crystals in the form of need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form of precipitation occurs when raindrops freeze. They are hard, transparent, globular grains of ice about the size of raindr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 smaller cloud, a hailstone usually remains small, does not have a hard covering and usually arrives at the ground as a soft, white ice pell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visible water vapor in the air sublimates directly into ice crystals, without passing through any intermediate water stor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pitation in the form of large water drople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form of precipitation forms in a cloud when water droplets freeze onto ice crystal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form of precipitation with its description by placing the correct letter in the appropriate bla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640" y="1368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4304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34304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04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34304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3430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34304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34304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17T19:04:14Z</cp:lastPrinted>
  <dcterms:modified xsi:type="dcterms:W3CDTF">1999-03-31T03:47:30Z</dcterms:modified>
  <cp:revision>8</cp:revision>
  <dc:subject/>
  <dc:title>Cloud Families</dc:title>
</cp:coreProperties>
</file>