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B04-5042-40E3-B8FB-B734B9E2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651-7504-47F0-834B-E17D23B6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01-E3B0-4226-86C9-78ADA109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101-890D-4683-A199-E76365D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D27-C809-4DBC-ACBE-76A9F90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491-4897-4A2A-BEE5-0EFCD99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6E2-C177-48AE-A32F-198EE970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08E-4F7C-42CC-B5A3-CC2E11F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4FB-0F3F-4FC5-B5B5-29088A5E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282-9E5C-4038-B9ED-E8F47EB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781-5DE7-40E8-B981-066319C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7F3-6C7C-4F76-AC74-DAC694F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84F4-DC57-4651-8D30-C31FEB53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ed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irplane’s speed as indicated by the airspeed indic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tual speed of the airplane through the ai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peed of the airplane relative to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tic Meri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rection in which a compass needle will lie when influenced only by the Earth’s magnetic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ss Nor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irection in which a particular compass needle will lie when influenced by both the Earth’s magnetic field and local magnetic influences (deviation) in the air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efer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to or from any point, measured as an angle clockwise from a meri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ir in motion, especially a mass of air having a common direction or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angle between the heading being flown and the track made good over the 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eading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an airplane is the angle between the longitudinal axis of the airplane at any moment and a meridia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ther words, it is the direction the nose of the aircraft is point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ifferent than a bearing.  A bearing from an aircraft to a particular location would not necessarily be the same as the direction the plane was head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intended) is the direction an airplan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intend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travel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Made Goo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th traveled by the airplane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Erro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, measured in degrees either left or right of the required track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old required track and the new required track necessary to arrive at th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33:38Z</dcterms:created>
  <dc:creator>DND</dc:creator>
  <dc:description/>
  <dc:language>en-US</dc:language>
  <cp:lastModifiedBy>Jamie Richards</cp:lastModifiedBy>
  <cp:lastPrinted>1999-03-17T14:50:24Z</cp:lastPrinted>
  <dcterms:modified xsi:type="dcterms:W3CDTF">1999-03-31T04:00:09Z</dcterms:modified>
  <cp:revision>3</cp:revision>
  <dc:subject/>
  <dc:title>NAVIGATION TERMS</dc:title>
</cp:coreProperties>
</file>