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B04-A1BD-4C4B-B030-09355339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594-059D-4ED4-88BC-78541FBB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D85-FB12-4D2B-A257-275D2503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551-3E9D-4C61-B82E-23EE022A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CFA-E610-4DCD-A967-8AE6CC6A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644-A172-4443-BA37-6CB06D5B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213-2335-4BBC-9372-D07F8B2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46A-F5FE-491F-9753-4AE5379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E8A-554E-4AB4-AC6A-E3416F4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780-4B30-42DA-8DC4-42C9D99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32F-F008-4E16-AF71-FDC9A55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4AB-2EED-476A-BDED-574BB2B9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442-573D-4319-97F3-44091F360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ilotage Charts (C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Navigation Charts (V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Aeronautical Charts (W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Terminal Area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Navigation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21640" y="4114800"/>
          <a:ext cx="1819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1640" y="4114800"/>
                    <a:ext cx="1819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of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IEF ON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H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h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4796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3280" y="177840"/>
            <a:ext cx="85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ntour Lines and Hach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p" descr=""/>
          <p:cNvPicPr/>
          <p:nvPr/>
        </p:nvPicPr>
        <p:blipFill>
          <a:blip r:embed="rId1"/>
          <a:srcRect l="0" t="15242" r="0" b="4271"/>
          <a:stretch/>
        </p:blipFill>
        <p:spPr>
          <a:xfrm>
            <a:off x="457200" y="1617840"/>
            <a:ext cx="8077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04:32Z</dcterms:created>
  <dc:creator>DND</dc:creator>
  <dc:description/>
  <dc:language>en-US</dc:language>
  <cp:lastModifiedBy>Jamie Richards</cp:lastModifiedBy>
  <cp:lastPrinted>1999-03-17T13:29:04Z</cp:lastPrinted>
  <dcterms:modified xsi:type="dcterms:W3CDTF">1999-03-31T03:57:19Z</dcterms:modified>
  <cp:revision>4</cp:revision>
  <dc:subject/>
  <dc:title>TYPES OF NAVIGATION CHARTS</dc:title>
</cp:coreProperties>
</file>