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0DDF-7205-46AD-A2B8-685D32374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F9C0-C1EB-465A-AFF8-E200F98B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5D21-7001-4236-B67D-8718DDEC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9E36-DAD5-43ED-B7F1-9A59E7DFC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12F2-3279-4B64-8D64-CCCF04A6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5E61-D141-43D1-BFB4-C30343D3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6A6A-38CB-4567-97AB-A66C89FE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F34D-5C1C-439D-9BF2-92074442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B436-659B-4F83-8EB6-716C3B1D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A27C-B992-4535-BFFB-E5D42B14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2130-A691-4A42-A839-006A300D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CF7B-9A73-48CD-9335-A6A1EE12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133A-960A-4DA1-94E7-A66D1BB92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ivisions of the At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atmosphere" descr=""/>
          <p:cNvPicPr/>
          <p:nvPr/>
        </p:nvPicPr>
        <p:blipFill>
          <a:blip r:embed="rId1"/>
          <a:srcRect l="7761" t="2184" r="8846" b="2835"/>
          <a:stretch/>
        </p:blipFill>
        <p:spPr>
          <a:xfrm>
            <a:off x="1700280" y="1074600"/>
            <a:ext cx="5538600" cy="54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l in each of the spaces with the correct name for that level of the atmosphe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551560" cy="5415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91520" y="23623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297180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91520" y="35053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1600" y="990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129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175248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32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292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92920" y="5410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3280" y="5943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88760" y="312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88400" y="2590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8840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65000" y="137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8:37:42Z</dcterms:created>
  <dc:creator>RC Air Cadets</dc:creator>
  <dc:description/>
  <dc:language>en-US</dc:language>
  <cp:lastModifiedBy>Jamie Richards</cp:lastModifiedBy>
  <cp:lastPrinted>1999-03-09T14:03:22Z</cp:lastPrinted>
  <dcterms:modified xsi:type="dcterms:W3CDTF">1999-03-31T03:53:00Z</dcterms:modified>
  <cp:revision>8</cp:revision>
  <dc:subject/>
  <dc:title>Cloud Families</dc:title>
</cp:coreProperties>
</file>