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6CD-61EC-45CE-9EA1-937CBAB4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47C-B9FD-4017-A02B-45BC1BE7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06B-A207-414B-9BC8-49D02F64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EF9-B9AD-4EEA-B04D-106EB82A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72A-54C6-43E5-8C26-1BB657AC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F8C-4A93-4C49-8666-0012705B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CAD-00DC-4C70-99A8-BE38423A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DFF-05F0-494C-B8E8-F88AAEC7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4C8-069A-4796-AB25-C33C5622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B24-91C3-4FA3-9788-4B9047B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00B-514D-4D76-B321-B030031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063-A47D-4169-9D25-D93B4B7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D54-E3A6-46C0-827F-853AE85CB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81480" y="762120"/>
          <a:ext cx="8688600" cy="9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8688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05120"/>
          <a:ext cx="6562800" cy="519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65628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2438280"/>
          <a:ext cx="5105160" cy="442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38280"/>
                    <a:ext cx="51051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5:00Z</dcterms:modified>
  <cp:revision>23</cp:revision>
  <dc:subject/>
  <dc:title>No Slide Title</dc:title>
</cp:coreProperties>
</file>