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FA21-3FCC-4F67-BB14-C3B0FD78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D123-AF30-4E18-A238-CC2E4EFA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9AAF-8E11-418B-BAF2-5198FB73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EC31-8B53-4200-B946-D7D9D8BB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5D3A-DA10-4F5A-89CC-CCC1E4C8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C382-4935-4017-AE18-36B6E86A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9E1F-7012-43FD-B391-1D23E4DF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63DC-6F69-4343-9801-690F4CCA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38ED-3081-4B75-B2FA-D08C85E2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6DAA-EA52-4846-8FC3-46249B8A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4A04-300C-42B2-A35C-127EA975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3B7B-0600-4613-B559-4C9FBCC9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E09D-6865-4F16-980A-5387542A6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532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80880"/>
            <a:ext cx="624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OR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447920"/>
            <a:ext cx="6400800" cy="48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ale is a “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ate of mi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. It directly influences the performance and proficiency of individuals and, therefore, that of the organization itself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ale is about how a person feels about his/her job, not a reflection of how/she feels about the unit or organization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7400" y="5867280"/>
            <a:ext cx="281952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32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8088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ORALE IS INFLUENCED BY THE FOLLOWING FACTO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514600"/>
            <a:ext cx="6400800" cy="57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Purpo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adershi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iplin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lf-respec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d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radeshi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tual Conf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det’s well-Being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fort and Welf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32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38088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TTITUDES THAT MAKE UP MOR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828800"/>
            <a:ext cx="6400800" cy="46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ate of anyone’s morale at any given time depends upon and is measurable by their attitud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quadr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mselv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ir companions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ir lea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6172200"/>
            <a:ext cx="2362320" cy="2216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876920" y="5943600"/>
            <a:ext cx="10238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532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80880"/>
            <a:ext cx="624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SPRIT DE COR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447920"/>
            <a:ext cx="662940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represents one’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rid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belonging to a particular organization or unit. Basically it can be described as you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ense of group ident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can contribute to the development of esprit de corps by exerting your influence and personality in the following ar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de in the Grou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quenes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dition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ynamic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29000" y="6515280"/>
            <a:ext cx="312408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32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80880"/>
            <a:ext cx="62485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DIFFERENCES BETWEEN MORALE AND ESPRIT DE COR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514600"/>
            <a:ext cx="640080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th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epara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ntities. Either can exist independently of the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ale is how you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e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bout your job, your leaders, yourself. Esprit de corps, on the other hand, is 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rid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ou have in your group, unit or organ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38280" y="5791320"/>
            <a:ext cx="18352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5T12:34:36Z</cp:lastPrinted>
  <dcterms:modified xsi:type="dcterms:W3CDTF">1999-03-15T12:34:38Z</dcterms:modified>
  <cp:revision>32</cp:revision>
  <dc:subject/>
  <dc:title>No Slide Title</dc:title>
</cp:coreProperties>
</file>