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A45-93AB-436A-BBAE-EA348CE6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8D2-213C-431D-BA72-253C12C6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56F-5C6A-4353-A92B-B546569C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B5A-7C47-416D-9D81-C0B08D67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B1BE-FFC2-44DD-964E-249F6F27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3F6-D0C4-4BB7-AF8D-153FA106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3F8-F00C-4D16-B2BD-E24792B1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2A4-F301-4B76-8E78-F7D17E3A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3B8-0E44-4BC9-88BB-394582CC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ABF-12F6-4EE3-9F79-94610FD1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DFE-EDA1-4FF4-8F9F-1825B3EC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3BB-DAD9-4807-829F-0BAA5077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860F-6099-4EA1-A785-A4F0E6E91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1517400" cy="1365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19520"/>
            <a:ext cx="1289160" cy="12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648320"/>
            <a:ext cx="12952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280"/>
            <a:ext cx="78483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FIRE EXTINGUIS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5600" y="1249200"/>
            <a:ext cx="5744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rdinary Combust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er, wood, drapes, and uphol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90920"/>
            <a:ext cx="6172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mable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el oil, gasoline, paint, grease, solvent and other flammable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572000"/>
            <a:ext cx="6703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lectrical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ring, overheated fuse boxes, conductors, and other elect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040" y="654516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Haettenschweiler"/>
              </a:rPr>
              <a:t>HOW FIRE EXTINGUISHERS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040" y="1166760"/>
            <a:ext cx="6963120" cy="4770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the extinguisher nozzle at th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e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eeze or press th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from side to side at the bas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1905120" cy="55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00440" y="1050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77120" y="2498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77120" y="3946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77120" y="5241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040" y="654516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371600"/>
            <a:ext cx="51814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N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Close all windows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used doo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Follow the fire escap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 and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Move to the muster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a and wait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04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0"/>
            <a:ext cx="8686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RESPONDING TO THE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40" y="654516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256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1.   Shout “ FIRE, FIRE, FIRE” and pull the al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2.  Phone the 911 Emergency Service or  local Fir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epartment and state the exact location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0"/>
            <a:ext cx="883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DISCOVERING A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200400" cy="194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040" y="654516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1T14:57:24Z</cp:lastPrinted>
  <dcterms:modified xsi:type="dcterms:W3CDTF">1999-03-12T14:59:07Z</dcterms:modified>
  <cp:revision>20</cp:revision>
  <dc:subject/>
  <dc:title>No Slide Title</dc:title>
</cp:coreProperties>
</file>