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3FA-1F23-42DF-BBA7-2096A8A6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BE0-2131-4A25-B4ED-F529225B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57B-B61D-41D9-B3F8-505E2920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A87-E566-444F-95FC-881C0107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DB2-19B2-4581-BF21-B39A265E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9B6-085E-4BC9-A564-3AE046EA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DB9-6A4D-4BDF-B30B-8BE3BFF7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C95-AA6F-4734-A902-EA748034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611-938E-4CD6-B1E9-9A845D5F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327-8F0A-4C24-9FF6-FE3B0079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366-5384-44B6-8F67-A571D6C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F0E-93FD-4DB4-85EA-A6368403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5FD1-6C01-495A-AE0B-93FE7AB4D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86400" y="3200400"/>
          <a:ext cx="317808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200400"/>
                    <a:ext cx="31780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te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 of 5,2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utical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,080 feet) is the average length of one minute of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ome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1,000 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9120" y="3733920"/>
            <a:ext cx="38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peed of one nautical mile per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statute mile per h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kilometer per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autical mile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 m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M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 statute miles it i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bbreviation for kilometer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or knot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15200" y="2209680"/>
          <a:ext cx="1219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09680"/>
                    <a:ext cx="1219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467480" y="2286000"/>
            <a:ext cx="8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00200" y="3443400"/>
          <a:ext cx="586728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43400"/>
                    <a:ext cx="586728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“ONE-IN-SIXTY”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rror in the track of one degree will cause an error in position of about one mile in a distance of 60 m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6080" y="5029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67160" y="50292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320" y="1519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the correct term into the blank space found in each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2193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5,280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9051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6,080 feet) is the average length of one minute of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5909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1,000 me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2767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peed of one nautical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962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statue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632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kilometer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9080" y="2682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213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te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87760" y="5181480"/>
            <a:ext cx="19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tical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14640" y="5213520"/>
            <a:ext cx="9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09040" y="5181480"/>
            <a:ext cx="11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4:53:50Z</dcterms:created>
  <dc:creator>DND</dc:creator>
  <dc:description/>
  <dc:language>en-US</dc:language>
  <cp:lastModifiedBy>Jamie Richards</cp:lastModifiedBy>
  <cp:lastPrinted>1999-03-17T15:42:24Z</cp:lastPrinted>
  <dcterms:modified xsi:type="dcterms:W3CDTF">1999-03-31T04:02:06Z</dcterms:modified>
  <cp:revision>4</cp:revision>
  <dc:subject/>
  <dc:title>UNITS OF DISTANCE AND SPEED</dc:title>
</cp:coreProperties>
</file>