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993D-F5BF-4D30-9E7A-7EC2E2194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8FFB-A07C-4F12-A6EC-25DD45693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DE6D-F6E6-4BCF-91BE-745E783F4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37C0-2289-44DB-9C45-DF6A5696F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9C40-353A-4403-93B2-E04A2E9B2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637E-24A2-446A-A907-1C37D604E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0E4A-30B6-41E2-89BB-E20CEEF46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70F5-49B2-4F43-9D87-7F6A46452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1125-4E32-4C59-BA74-8DF8B4AE5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97D8-8268-4386-9929-6A35B831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8CEA-A0B1-43FD-A8E9-32B75A7C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9364-3E38-457A-A4AD-F93EF948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345BD-F8DD-4E9C-BE9B-E2E354E092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92520" y="4541760"/>
            <a:ext cx="261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68400"/>
            <a:ext cx="510552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 408.01 Level F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nex  A - Crossword Puzzle - Those Things that Influence Moral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762120"/>
            <a:ext cx="4190760" cy="35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f all your cadets work together to achieve the same goal, they will have a tendency to stick closely together and push in the same dir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Before morale can be generated, individual members of the organization must have their own feelings of ________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 Problems that the cadets may be having at home, in school or even at the squadron can grow and ruin morale and efficiency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  Once self-respect is achieved, ______in the organization should be stimul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 This is closely linked to comradeship but tends to be a form of mutual respect between cadets based on each other's professional abil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648320" y="914400"/>
            <a:ext cx="4190760" cy="32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his is an intangible but is, nevertheless, real. You must encourage group members to develop a sense of loyalty, a sense of family and a sense of humo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_________ is essential for fostering good morale in air cad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Cadets will work long hours under bad conditions and morale will not be affected, provided that you tell them why and they are satisfied that you have a sincere interest in their welf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 By setting a poor example and neglecting to practice what is taught, you, as the leader, can destroy morale. Nothing succeeds like succes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92520" y="4541760"/>
            <a:ext cx="261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68400"/>
            <a:ext cx="510552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 408.01 Level F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nex  A - Crossword Puzzle - Those Things that Influence Moral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18288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23623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7920" y="23623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5248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2666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40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57400" y="2666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30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574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47920" y="4800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62320" y="14479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718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14479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8128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862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362320" y="4800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5740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57400" y="2057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91120" y="14479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9568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41911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2666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057400" y="8380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4956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0060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8080" y="2057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006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32767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9568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00600" y="44956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32767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238880" y="2666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23888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32448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32767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238880" y="1752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00600" y="54100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5715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0060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0060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00600" y="2057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1752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8620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00600" y="41911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97180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8128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57400" y="1752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574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934320" y="32767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23623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6688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362320" y="23623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5740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1008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848720" y="51055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1500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8620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886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1752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18288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8380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18288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574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18288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8880" y="8380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18288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8128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18288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18288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2940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006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18288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00600" y="3886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105520" y="14479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5248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23888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00600" y="6324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00600" y="6019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76720" y="51055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9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54380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05520" y="51055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0060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1500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51055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62940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2448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54380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1008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91120" y="51055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934320" y="51055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3888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9568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8620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8128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848720" y="32767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238880" y="2057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23888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23888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5740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23888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23888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3-02T13:33:27Z</cp:lastPrinted>
  <dcterms:modified xsi:type="dcterms:W3CDTF">1999-03-02T14:10:30Z</dcterms:modified>
  <cp:revision>28</cp:revision>
  <dc:subject/>
  <dc:title>No Slide Title</dc:title>
</cp:coreProperties>
</file>