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4D07A0-0643-4921-8092-18ED20CDC3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59E1C-092F-4521-8E54-5E7DAE9AC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F1147A-250D-4742-91AB-5C0A71ACEA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E57D8-60FB-4940-890E-A727B373E6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29D24-BB3C-47FC-9FBB-84F037F47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B5D0D-F9B9-4537-94CD-F82B2375B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8C011-F65D-4E42-9565-8FC7987D3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2E5C6-74B3-415F-B085-26AD18480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9CCA4-370C-4A1C-BF10-961411111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F7D84-E966-47E7-8503-45D9CE9B3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3BBE0-0832-4A4C-A3CD-2071772A8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C443F-362F-483E-A49C-8A2E4A5FF9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60690-9F9D-47FB-8822-8B0B49833E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960" y="533160"/>
            <a:ext cx="93726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SCENARIO 1</a:t>
            </a:r>
            <a:endParaRPr b="0" lang="en-US" sz="4000" spc="-1" strike="noStrike">
              <a:solidFill>
                <a:srgbClr val="000000"/>
              </a:solidFill>
              <a:latin typeface="Times New Roman"/>
            </a:endParaRPr>
          </a:p>
        </p:txBody>
      </p:sp>
      <p:sp>
        <p:nvSpPr>
          <p:cNvPr id="42" name="PlaceHolder 2"/>
          <p:cNvSpPr>
            <a:spLocks noGrp="1"/>
          </p:cNvSpPr>
          <p:nvPr>
            <p:ph/>
          </p:nvPr>
        </p:nvSpPr>
        <p:spPr>
          <a:xfrm>
            <a:off x="456840" y="1447560"/>
            <a:ext cx="8001000" cy="434340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are placed in charge of running a sports day. You have appointed a F\Sgt. and a Sgt. to organize the activities for the weekend. You also ask a F\Sgt. and a Sgt. to acquire supplies and equipment for the weekend. Use members from your own squadron and your own phone numbers. The training officer must be informed of the appointments as does the commanding officer. Action should be taken by the people who you have assigned tasks to. Your address is your home squadron and the file number is 1085-13-1. You have had a conversation with the training officer on the 13 Feb 99 about the sports day. You are using this memo to inform the Training Officer and the Commanding Officer of your decisions.</a:t>
            </a:r>
            <a:endParaRPr b="0" lang="en-US" sz="2400" spc="-1" strike="noStrike">
              <a:solidFill>
                <a:srgbClr val="000000"/>
              </a:solidFill>
              <a:latin typeface="Times New Roman"/>
            </a:endParaRPr>
          </a:p>
        </p:txBody>
      </p:sp>
      <p:sp>
        <p:nvSpPr>
          <p:cNvPr id="43"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8305200" y="6607080"/>
            <a:ext cx="669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P # 1</a:t>
            </a:r>
            <a:endParaRPr b="0" lang="en-US" sz="1000" spc="-1" strike="noStrike">
              <a:solidFill>
                <a:srgbClr val="000000"/>
              </a:solidFill>
              <a:latin typeface="Times New Roman"/>
            </a:endParaRPr>
          </a:p>
        </p:txBody>
      </p:sp>
      <p:sp>
        <p:nvSpPr>
          <p:cNvPr id="45" name=""/>
          <p:cNvSpPr/>
          <p:nvPr/>
        </p:nvSpPr>
        <p:spPr>
          <a:xfrm>
            <a:off x="-1800" y="6607080"/>
            <a:ext cx="1267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Four 404.01c</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SCENARIO 2</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are in charge of the modeling club and need money for more models. You have to ask the training officer for the money. S\He will then forward your request through the proper channels.  You have talked with the training officer about this on the last parade night. You should let the members of the modeling club know about the request. The training officer has told you that he will need some justification for more models as many were supplied at the beginning of the year.  </a:t>
            </a:r>
            <a:endParaRPr b="0" lang="en-US" sz="2400" spc="-1" strike="noStrike">
              <a:solidFill>
                <a:srgbClr val="000000"/>
              </a:solidFill>
              <a:latin typeface="Times New Roman"/>
            </a:endParaRPr>
          </a:p>
        </p:txBody>
      </p:sp>
      <p:sp>
        <p:nvSpPr>
          <p:cNvPr id="48"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8305200" y="6607080"/>
            <a:ext cx="669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P # 2</a:t>
            </a:r>
            <a:endParaRPr b="0" lang="en-US" sz="1000" spc="-1" strike="noStrike">
              <a:solidFill>
                <a:srgbClr val="000000"/>
              </a:solidFill>
              <a:latin typeface="Times New Roman"/>
            </a:endParaRPr>
          </a:p>
        </p:txBody>
      </p:sp>
      <p:sp>
        <p:nvSpPr>
          <p:cNvPr id="50" name=""/>
          <p:cNvSpPr/>
          <p:nvPr/>
        </p:nvSpPr>
        <p:spPr>
          <a:xfrm>
            <a:off x="-1800" y="6607080"/>
            <a:ext cx="1267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Four 404.01c</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02T18:31:54Z</dcterms:created>
  <dc:creator>DND</dc:creator>
  <dc:description/>
  <dc:language>en-US</dc:language>
  <cp:lastModifiedBy>Jamie Richards</cp:lastModifiedBy>
  <dcterms:modified xsi:type="dcterms:W3CDTF">1999-04-26T03:09:33Z</dcterms:modified>
  <cp:revision>6</cp:revision>
  <dc:subject/>
  <dc:title>SCENARIO 1</dc:title>
</cp:coreProperties>
</file>