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E4B-1918-4438-B47F-51F18324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B63-B1D3-4154-BDF7-85138A12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459-46A6-4E39-BDD5-9886D60C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8AB-E25B-4697-9324-7130ABA0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846-B9C8-413B-99F3-BAE19A1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AC0-9620-4AF0-9F12-3F11252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DDC-5B84-4206-ACBA-D0B75C2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23F-61A0-4A86-AE32-9A2721C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EF1-DB78-420E-98C4-52A65C08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5DF-04EB-4E13-99BE-46A1022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5DD-E3EE-4CA7-A3CD-A27446A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2BB-0302-4F4C-87CC-5D0BB6C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BBF-62C7-4E80-AC95-35B7B8930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07876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0787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828800" y="1905120"/>
          <a:ext cx="6242040" cy="637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05120"/>
                    <a:ext cx="624204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49:29Z</dcterms:modified>
  <cp:revision>23</cp:revision>
  <dc:subject/>
  <dc:title>No Slide Title</dc:title>
</cp:coreProperties>
</file>