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966-89E9-474E-B0A5-EC54832A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0EC-E83C-4C43-A053-521D0B3A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EFF-4A05-437D-8C0F-92EA6AD9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677-05EA-4C2F-91DA-1AEE9A28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0F4-45B1-43FD-A454-A7E4023D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D48-BA09-4CCF-8AF7-8A3EB91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31E-0C9C-42C9-8DD7-D57F304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C4A-A76A-48B4-9B30-5FE746F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9EE-BDB1-47DC-BF5E-BAD2EC9A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271-C69A-4BDE-9633-74F11DD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AEE-0409-408D-9774-16CF494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CA7-7038-45DB-9880-8D4B9CD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FFF-EA8C-4B5C-8894-35ACEDE8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meeting to order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 the order of business as detailed i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the business and conduct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200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time allotted to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debate to the question unde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secure a hearing for those entitled to s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3886200"/>
            <a:ext cx="8809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fair, just and impar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lecturing, being domineering and offering personal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meeting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898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10080" y="4419720"/>
            <a:ext cx="1606680" cy="19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315200" y="5029200"/>
            <a:ext cx="1330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8:03:12Z</dcterms:created>
  <dc:creator>DND</dc:creator>
  <dc:description/>
  <dc:language>en-US</dc:language>
  <cp:lastModifiedBy>Jamie Richards</cp:lastModifiedBy>
  <dcterms:modified xsi:type="dcterms:W3CDTF">1999-04-26T03:10:43Z</dcterms:modified>
  <cp:revision>6</cp:revision>
  <dc:subject/>
  <dc:title>CONDUCTING A MEETING</dc:title>
</cp:coreProperties>
</file>