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8A0-6D84-4D51-82BC-1F2F549A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3D0-A4CB-4177-A952-BB1ED45E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186-6306-495A-A712-6EE0C03A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271-EFC4-49B8-906F-2923C311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A08-938D-4337-8631-5F6356A5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637-A3EE-471A-A1F0-915C8200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BB4-91F5-462E-A323-5BCF5A5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95A-82BC-4819-9B8E-5CA710AF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7DD-21D0-487B-BABD-4A0A7990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D4A-1108-4911-ABA0-710B7B3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F28-B612-4767-81DC-A4C56AA1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126-C874-4ED1-AB2F-EACC488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CD7A-031F-4EA8-9838-F5A9152C3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-PERFORMANCE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971800" cy="192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3276720"/>
            <a:ext cx="198144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14:28:12Z</dcterms:created>
  <dc:creator>DND</dc:creator>
  <dc:description/>
  <dc:language>en-US</dc:language>
  <cp:lastModifiedBy>Jamie Richards</cp:lastModifiedBy>
  <cp:lastPrinted>1999-02-12T14:33:58Z</cp:lastPrinted>
  <dcterms:modified xsi:type="dcterms:W3CDTF">1999-04-21T19:11:40Z</dcterms:modified>
  <cp:revision>3</cp:revision>
  <dc:subject/>
  <dc:title>DEMONSTRATION-PERFORMANCE METHOD</dc:title>
</cp:coreProperties>
</file>