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C64-BCC8-4559-AD45-C4092526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3A9-FBA0-436D-A39A-FDA9759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379-4608-457E-B1CE-2209F70E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4E9-B000-43DE-A81D-69445A69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984-1359-4E40-A2A3-5AE5650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764-3D54-4D62-98A4-465A3EC9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ADF-826D-4C69-A7F6-55E3EBB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D3C-872C-446E-9983-61238A38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73C-5FF3-459B-96ED-202F20F0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301-F4CA-4B87-BD8F-3B8A94B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87A-4B5F-40B0-B006-C262D6F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5B4-1386-4E02-BB23-03B4A40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C5D4-3B89-47BD-A4A2-C3E8A4D9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HREE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280" y="1447920"/>
            <a:ext cx="54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D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CADET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LETIC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IAN LEVEL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ERO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IR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0T19:42:52Z</cp:lastPrinted>
  <dcterms:modified xsi:type="dcterms:W3CDTF">1999-02-19T21:22:44Z</dcterms:modified>
  <cp:revision>34</cp:revision>
  <dc:subject/>
  <dc:title>No Slide Title</dc:title>
</cp:coreProperties>
</file>