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B5A-AC12-49F4-9E46-30FEB9D5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FB7-C100-4B98-9239-29E7321A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7B0-3ABE-4947-B876-F1EE1E09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FD2-37E4-4369-89AB-EE88D685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F7A-6355-488C-AB54-0491842E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185-3AE6-4A62-878B-7E9DDDCD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130-5970-42C9-822A-BC948D4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0F2-CCF4-4735-AB24-8AA3F7D4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611-1BC9-49BE-82CA-043F4CD1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6A6-F3E7-4A60-82A1-F681F96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067-B868-4DB6-AE99-DFEA355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DE5-B645-4BC7-915F-69F5F92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945-8139-433F-8029-CA0E9F40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12Z</dcterms:modified>
  <cp:revision>23</cp:revision>
  <dc:subject/>
  <dc:title>No Slide Title</dc:title>
</cp:coreProperties>
</file>