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B7A-6010-4691-A956-B0EA998A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C1E-98DE-4C49-B9A2-653B6578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BEC-76A4-4C3E-A5D1-667347FB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CD2-8C52-4503-B287-ABD6C041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A6E-F1D5-4434-B49B-6DB40CC5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4FC-5A1B-4E7B-8C24-E605EC0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F33-71AC-43F2-A259-8CB22EF6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9E0-259B-4675-B8E1-C4BB2C6C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61F-1005-4B59-AC4C-35A5ABA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368-92E7-454A-ABB3-77E6D97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87D-9189-4677-8223-F5B9A333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223-67F6-499A-AD4A-9E9EB094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C923-DE1E-4B18-AD1A-3E00EBB68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14400"/>
          <a:ext cx="7621560" cy="8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14400"/>
                    <a:ext cx="7621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76440" y="1905120"/>
          <a:ext cx="5876640" cy="420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440" y="1905120"/>
                    <a:ext cx="58766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1981080"/>
          <a:ext cx="5232240" cy="5029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981080"/>
                    <a:ext cx="52322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28:33Z</dcterms:modified>
  <cp:revision>10</cp:revision>
  <dc:subject/>
  <dc:title>No Slide Title</dc:title>
</cp:coreProperties>
</file>