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EF6-3D55-4DDF-9B3B-0EFCD6C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CDC-282E-43C2-A27B-927F9AFC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FED-F8DC-4AC4-BB8B-C85479C9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C35-5274-47E3-9D49-5BF387BD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C69-08F2-4D22-A035-B48ACB2F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3D7-EB03-40ED-9B10-096E4EA1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2D2-DFE0-44F6-9E97-1DD5E946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51C-05DF-45A8-BDE2-FEAA3CF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B7B-6574-4C35-9472-62F7A75B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7E4-FAB5-440E-BD02-F7602CD0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540-5F59-4195-A259-431EF471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070-A3D0-40AF-9E79-3AAD16F2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C16-DCE5-4646-A317-9ED53462A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ral soundness, honesty, freedom from corrupting influence or practices, strictness in the fulfilment of contracts and trustworthiness in discharging responsibilitie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533520"/>
            <a:ext cx="6599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NES WOR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THER’S PROPERT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ANCIAL HONEST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53352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GREDIENTS THAT MAKE UP INTEGRIT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FFESSIONAL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NS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609480"/>
            <a:ext cx="6599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09T19:59:39Z</cp:lastPrinted>
  <dcterms:modified xsi:type="dcterms:W3CDTF">1999-03-09T20:02:54Z</dcterms:modified>
  <cp:revision>4</cp:revision>
  <dc:subject/>
  <dc:title>No Slide Title</dc:title>
</cp:coreProperties>
</file>