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314-2EFB-4863-B675-043DD356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04E-283C-4C5A-8662-B9271E3F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6D7-8A10-44E3-9E4E-69904358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355-955A-44B1-B97C-D0D8E3F9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3226-12E0-4F91-97F9-2897E15D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583-09ED-4F1C-965E-65BBBBC9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2C2-0010-47FD-AEFA-DED8970E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3BB-6FCD-4752-8224-79BA3BD7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C5D-9F93-40A9-AB5F-552740F2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079-4028-417D-BFB1-1F94EE95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2DA-5FAA-4370-BBE1-51FA5161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B82-AB34-4FAD-89A2-7CFCB06E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DB55-2CF1-4FA9-B5B0-829F8F698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905120"/>
            <a:ext cx="7620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M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L FOR VOLUNT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380880"/>
            <a:ext cx="76201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FOUR TYPES OF ORD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1447920" cy="247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761760" cy="2638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19920" y="2057400"/>
            <a:ext cx="838080" cy="286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696080" y="3124080"/>
            <a:ext cx="76212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45720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ORDER- GIVING PROCESS</a:t>
            </a:r>
            <a:endParaRPr b="0" lang="en-US" sz="4000" spc="1" strike="noStrike">
              <a:ln w="12600">
                <a:solidFill>
                  <a:srgbClr val="000080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pa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li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fi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alu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2819160" cy="2408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77120" y="2362320"/>
            <a:ext cx="1800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43000" y="53352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RITTEN ORDER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33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to transmit orders to another loca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33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when Precise figures or complex details are involv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33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when it is necessary to hold a person responsible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33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when sequence is important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ct adherence is necess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400800" y="5257800"/>
            <a:ext cx="24811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66680" y="53352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ERBAL ORDER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895480" y="2361960"/>
            <a:ext cx="5943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80008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in a local emergenc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80008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for minor details locall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80008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to clarify a written order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80008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in routine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5146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18T21:32:00Z</cp:lastPrinted>
  <dcterms:modified xsi:type="dcterms:W3CDTF">1999-02-22T19:54:44Z</dcterms:modified>
  <cp:revision>27</cp:revision>
  <dc:subject/>
  <dc:title>No Slide Title</dc:title>
</cp:coreProperties>
</file>