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2D69-75EF-426D-8C7A-1F8E57CD0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5585-0BF4-4644-8113-7C3D493E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99FA-0FA5-4B91-A0B2-EA629AE5F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BFC6-3CBB-453D-BDF5-8A27D0881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A04D-6C56-4129-B1DB-02DB2E42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146D-21A0-4CA2-B58E-1295001E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E0BE-870E-422B-8C73-13DCD02D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902C-2D07-4C8F-AD8C-E49CD316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E933-B9B2-4D9B-8D47-5A53BD1E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AD33-A550-40E4-87BC-59E7D021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C6BE-1824-4D0B-AAD0-E593A374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8BFB-E6EA-4E63-8FA7-304E7121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8A73-175C-45F9-8605-21F5FE822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ISTRESS SIG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Y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when threatened by grave or imminent danger or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ware of a threat of grave or imminent da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0" y="4267080"/>
            <a:ext cx="344016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ISTRESS C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DAY spoken three 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ords THIS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all sign of the station in dist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981080" y="2971800"/>
          <a:ext cx="525780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971800"/>
                    <a:ext cx="525780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ISTRESS MESSAG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533520" y="380880"/>
            <a:ext cx="11582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2" marL="1040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stress signal “MAYDAY”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ll sign of station in distres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ature of the distress condition and kind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stance required (i.e. what has happened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ntion of the person in comman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00400" y="4952880"/>
            <a:ext cx="28954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ISTRESS MESSAG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533880" y="10666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2" marL="994320" indent="-19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rticulars of its positio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persons 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ard and injuries (if applicable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ther information tha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ht facilitate rescue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ll signal of the st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distr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410080" y="3200400"/>
            <a:ext cx="335304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ISTRESS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DAY-MAYDAY-MAY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FOXTROT OSCAR NOVEMBER ROM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XTROT OSCAR NOVEMBER ROM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XTROT OSCAR NOVEMBER ROM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VE ZERO MILES SOUTH OF GRAND FALLS AT ONE SEVEN TWO FIVE EAS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THOUS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OULS A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SSNA 185 I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ATTEMPT CRASH LANDING ON 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XTROT OSCAR NOVEMBER ROMEO-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RECEIPT OF A DISTRESS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all sign of the station in dist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ords THIS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all sign of the station acknowledging recei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ords RECEIVED MAY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124080" y="3962520"/>
          <a:ext cx="266724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3962520"/>
                    <a:ext cx="266724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RECEIPT OF DISTRESS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XTROT OSCAR NOVEMBER ROM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XTROT OSCAR NOVEMBER ROM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XTROT OSCAR NOVEMBER ROM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GANDER RADIO-GANDER RADIO-GANDER RA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D MAY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NDER RADIO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ISTRESS PROCEDURE</a:t>
            </a: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mber the sentences so that they are in the proper order of a distress procedure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: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iculars of its pos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other information that might facilitate resc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 sign of the station in distress. (o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ress signal “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YDA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ture of the distress condition and kind of assistance requi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tention of the person in comm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 sign of station in distress. (Three tim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persons on board and injuries. (If applica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9T14:33:50Z</dcterms:created>
  <dc:creator>DND</dc:creator>
  <dc:description/>
  <dc:language>en-US</dc:language>
  <cp:lastModifiedBy>dnd</cp:lastModifiedBy>
  <cp:lastPrinted>1999-03-12T19:20:08Z</cp:lastPrinted>
  <dcterms:modified xsi:type="dcterms:W3CDTF">1999-03-30T18:37:02Z</dcterms:modified>
  <cp:revision>12</cp:revision>
  <dc:subject/>
  <dc:title>DISTRESS SIGNAL</dc:title>
</cp:coreProperties>
</file>