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E24-78D3-492A-9454-549CDF37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D5D-5F11-4A5A-B073-1CCA3F2D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315-6AD4-49A5-AE8F-7245D46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F3B-4A43-4793-BBA1-84C3C3E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3F4-B9CB-4D4F-B78C-2ACEBAB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980-E455-4C0B-BD24-1BCB53F5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0D6-1123-44D1-BB04-BAA0196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525-3761-4542-9490-ECC6808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F74-DE52-496E-9E91-7695A97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6DD-96C2-40EC-9DDE-E3F34790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D4C-F579-4343-BC35-5804AFA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89B-4F33-420C-9F91-2F9983A7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81F-2D1B-489C-AA09-CE6694C9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1T14:57:27Z</dcterms:modified>
  <cp:revision>19</cp:revision>
  <dc:subject/>
  <dc:title>No Slide Title</dc:title>
</cp:coreProperties>
</file>