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AA8-0401-4B78-9ABC-B758780D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42E-8150-4DD2-876E-02DD46B4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89F-599F-4EA8-8277-A041C853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6A5-DA90-4298-8E6C-55E10BE3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475-1FDC-4304-8DC0-C13419B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BD2-E2F2-4715-9E7C-B006466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63D-D858-4D77-98A1-66EEC4F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7E4-BF2E-47A9-AC6F-F58B647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9C7-83C2-46F2-9EA9-C4DD62E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EA3-7E42-4585-8064-9D8B92E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723-776C-44AF-BDFF-2284E64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41C-97E4-4C86-B5BF-71B181A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33D-5071-4ED7-8FCE-795D5968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ion is measured clockwise from north to the nearest degree and is expressed in a three figure grou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=000, East=090, South=180, West=27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circle of direction is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ss R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22860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20:56Z</dcterms:modified>
  <cp:revision>16</cp:revision>
  <dc:subject/>
  <dc:title>Navigating Position</dc:title>
</cp:coreProperties>
</file>