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03DFA-99E7-47EA-8A97-810174D11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70EA-1A10-4BA4-B711-718F70AEF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CDEAE-5EB7-4EC9-BEE5-14DFED97A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E622D-7D6E-4910-9D21-A4DE53521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5188-F6C5-4BAB-85AF-FDE808B84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300D-810F-42ED-A47B-75C412C0D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CED58-0C15-4B0B-8E5A-CA40C8469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B507-7A76-4F51-8B4B-21F5B35FE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A04A-CA83-478E-B760-B23746CA0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65E4-D3A4-4978-BE04-D1B0069E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1A0D-F8B1-42B0-BCF5-65782EAC0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C61F-5278-4180-AF98-0F1FD18ED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2E91-1D40-4982-B63A-D6107B82E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2520" y="4541760"/>
            <a:ext cx="2613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
          <p:cNvSpPr/>
          <p:nvPr/>
        </p:nvSpPr>
        <p:spPr>
          <a:xfrm>
            <a:off x="228600" y="228600"/>
            <a:ext cx="5105520" cy="488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 409.04 Level Thr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A - Crossword Puzzle - Types of Verbal Suppor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3" name=""/>
          <p:cNvSpPr/>
          <p:nvPr/>
        </p:nvSpPr>
        <p:spPr>
          <a:xfrm>
            <a:off x="152280" y="1066680"/>
            <a:ext cx="1600200" cy="501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ACROSS:</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We shall defend our island, whatever the cost may be. We shall fight on the beaches. We shall fight on the landing grounds. We shall fight in the fields and in the streets and we shall fight in the hills. We shall never surrender”.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When I was a cadet, I used to spray shine my boots, but I eventually discovered that nothing works better than a cloth, boot polish and hard work.”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This is an illustration used to clarify and simplify an idea.</a:t>
            </a:r>
            <a:endParaRPr b="0" lang="en-US" sz="1000" spc="-1" strike="noStrike">
              <a:solidFill>
                <a:srgbClr val="000000"/>
              </a:solidFill>
              <a:latin typeface="Times New Roman"/>
            </a:endParaRPr>
          </a:p>
        </p:txBody>
      </p:sp>
      <p:sp>
        <p:nvSpPr>
          <p:cNvPr id="44" name=""/>
          <p:cNvSpPr/>
          <p:nvPr/>
        </p:nvSpPr>
        <p:spPr>
          <a:xfrm>
            <a:off x="2286000" y="289548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5" name=""/>
          <p:cNvSpPr/>
          <p:nvPr/>
        </p:nvSpPr>
        <p:spPr>
          <a:xfrm>
            <a:off x="4419720" y="38098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7242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8098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909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1148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4197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053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292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2860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114800" y="35053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286000" y="32004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8954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0" y="19810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114800" y="53341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114800" y="41148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8954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04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9436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114800" y="50292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114800" y="47242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114800" y="44197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114800" y="32004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114800" y="5638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1148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6386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6000" y="22860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0" y="25909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242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334120" y="38098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286000" y="35053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286000" y="13716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0" y="16765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943600" y="137160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14800" y="2590920"/>
            <a:ext cx="304920" cy="30456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9" name=""/>
          <p:cNvSpPr/>
          <p:nvPr/>
        </p:nvSpPr>
        <p:spPr>
          <a:xfrm>
            <a:off x="25909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0" name=""/>
          <p:cNvSpPr/>
          <p:nvPr/>
        </p:nvSpPr>
        <p:spPr>
          <a:xfrm>
            <a:off x="5943600" y="19810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05320" y="38098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82" name=""/>
          <p:cNvSpPr/>
          <p:nvPr/>
        </p:nvSpPr>
        <p:spPr>
          <a:xfrm>
            <a:off x="22860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943600" y="22860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943600" y="25909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8098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943600" y="16765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7242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004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8098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1148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4197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292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053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5909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860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9810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6765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8" name=""/>
          <p:cNvSpPr/>
          <p:nvPr/>
        </p:nvSpPr>
        <p:spPr>
          <a:xfrm>
            <a:off x="35053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3818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80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4674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7724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73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6868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71629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5530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2485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9436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6386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3341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629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943600" y="106668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13" name=""/>
          <p:cNvSpPr/>
          <p:nvPr/>
        </p:nvSpPr>
        <p:spPr>
          <a:xfrm>
            <a:off x="7238880" y="1600200"/>
            <a:ext cx="1676520" cy="31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DOWN:</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Only 50 cadets from this region will be selected will be selected for glider training out of approximately 3500 cadets in the region…so the competition is high.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hese are logical explanations that satisfy the question, “Why?”.</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This represents a bridge that links the known to the unknown.</a:t>
            </a:r>
            <a:endParaRPr b="0" lang="en-US" sz="1000" spc="-1" strike="noStrike">
              <a:solidFill>
                <a:srgbClr val="000000"/>
              </a:solidFill>
              <a:latin typeface="Times New Roman"/>
            </a:endParaRPr>
          </a:p>
        </p:txBody>
      </p:sp>
      <p:pic>
        <p:nvPicPr>
          <p:cNvPr id="114" name="" descr=""/>
          <p:cNvPicPr/>
          <p:nvPr/>
        </p:nvPicPr>
        <p:blipFill>
          <a:blip r:embed="rId1"/>
          <a:stretch/>
        </p:blipFill>
        <p:spPr>
          <a:xfrm flipH="1" rot="10800000">
            <a:off x="2895480" y="4495680"/>
            <a:ext cx="652680" cy="1981440"/>
          </a:xfrm>
          <a:prstGeom prst="rect">
            <a:avLst/>
          </a:prstGeom>
          <a:ln w="0">
            <a:noFill/>
          </a:ln>
        </p:spPr>
      </p:pic>
      <p:pic>
        <p:nvPicPr>
          <p:cNvPr id="115" name="" descr=""/>
          <p:cNvPicPr/>
          <p:nvPr/>
        </p:nvPicPr>
        <p:blipFill>
          <a:blip r:embed="rId2"/>
          <a:stretch/>
        </p:blipFill>
        <p:spPr>
          <a:xfrm>
            <a:off x="7086600" y="5029200"/>
            <a:ext cx="1676520" cy="156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lued Customer</dc:creator>
  <dc:description/>
  <dc:language>en-US</dc:language>
  <cp:lastModifiedBy>dnd</cp:lastModifiedBy>
  <cp:lastPrinted>1999-03-09T23:16:45Z</cp:lastPrinted>
  <dcterms:modified xsi:type="dcterms:W3CDTF">1999-03-09T23:16:47Z</dcterms:modified>
  <cp:revision>33</cp:revision>
  <dc:subject/>
  <dc:title>No Slide Title</dc:title>
</cp:coreProperties>
</file>