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AFC-358D-4C64-B132-F08C04A6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E68-C5D3-4D4A-8981-22700890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7FD-2EE4-4251-B104-0E688752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640-246C-41CF-8E15-E9FD0C12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46D-54BC-4573-939D-FEBD1F28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345-FFD4-475F-90EE-8FEDE3D4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5EC-D893-4B0A-A5C5-210C944E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7B2-A51B-4224-BCBB-BD7D0BED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F6C-8989-4C7A-B19C-507DE378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B70-E576-4CF4-9BF1-41D52D7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FA2-A744-46D4-88F3-399D5324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088-AB9E-4298-97AE-AB6401FB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0D46-4760-4179-8234-B1AE8B72C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533520" y="609480"/>
            <a:ext cx="10744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that you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understood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or permission gra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the separ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or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(to be used when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 clear distinction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and other por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channel…bef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4771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1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4724280"/>
            <a:ext cx="1542960" cy="1752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609480" y="1219320"/>
            <a:ext cx="107442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ed to proceed under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spec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version is…is that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rror has been made in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(mess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d). The correct 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transmission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2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533520" y="1523880"/>
            <a:ext cx="1127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a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your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a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use instead of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62920" y="4724280"/>
          <a:ext cx="12589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24280"/>
                    <a:ext cx="1258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33720" y="4648320"/>
          <a:ext cx="131112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648320"/>
                    <a:ext cx="13111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3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457200" y="1371600"/>
            <a:ext cx="1295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 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ess relay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on (frequen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r that is not correct,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do not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is end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3809880"/>
          <a:ext cx="27144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2714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4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772400" y="3886200"/>
            <a:ext cx="9144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533520" y="1066680"/>
            <a:ext cx="1508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ransmission is ended and I expec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from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all of the message back to 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as received after I have gi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OVER”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PEAT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all of your l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5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838080" y="1143000"/>
            <a:ext cx="12191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ust pause for a few seconds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, please w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expression to indicate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has been impo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ue to a distress situ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1752480" y="3733920"/>
            <a:ext cx="1524240" cy="251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6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90720"/>
            <a:ext cx="914400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stress cancellation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express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orm and individual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that a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is in prog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comes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in dist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MAY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3429000"/>
          <a:ext cx="251460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25146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7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108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tructions receive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ood and will be compli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quest: Commun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fficult, please send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formation: S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difficult,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nd each word twic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057400" cy="20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8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2:26:42Z</dcterms:created>
  <dc:creator>DND</dc:creator>
  <dc:description/>
  <dc:language>en-US</dc:language>
  <cp:lastModifiedBy>dnd</cp:lastModifiedBy>
  <cp:lastPrinted>1999-02-19T18:23:46Z</cp:lastPrinted>
  <dcterms:modified xsi:type="dcterms:W3CDTF">1999-03-30T17:05:18Z</dcterms:modified>
  <cp:revision>8</cp:revision>
  <dc:subject/>
  <dc:title>PROCEDURAL WORDS &amp; PHRASES</dc:title>
</cp:coreProperties>
</file>