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A55-D06A-45AF-9A53-1BBF703D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0A5-9920-43AE-9804-8A0B2D67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836-417C-4E69-9DF8-48D55F96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B09-B60E-43DF-BAB8-864F98FF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1ED8-DE65-4E54-AE83-07B21242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EDB-223C-4A7D-9B15-A8E0A9DA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FF6-7D56-4BF0-AFFE-2B82CEC5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7CB-81F3-4AD0-8B8F-C7505B8C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9CE-8913-4E2F-BA25-10CFDF8D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D55-8708-4A7C-88FA-625161AA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FA5-0C40-4D6B-A06D-D7F16104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2F3-2C6F-44C8-9BE0-A2BD5D8F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FEC3-7672-4641-BE14-224D97ACB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12 COMMON EXPEC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GOOD LEADERSHI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KNOW WHAT IS EXPECTED OF TH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BE RECOGNIZED FOR GOOD      PERFORMANC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BE TREATED WITH DIGN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HAVE OPPORTUNITIES FOR PROMO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45240" y="3900600"/>
            <a:ext cx="2421000" cy="1814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932880" y="3962520"/>
            <a:ext cx="1617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der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er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44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12 COMMON EXPEC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11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ENJOY A CERTAIN FREEDO  OF AC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ENGAGE IN SOCIAL ACTIVITI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RECEIVE AN EXPLANATION FOR CHANG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BE ASSIGNED STIMULATING WORK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BE TREATED EQUALLY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HIGH-CONTRIB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77120" y="4419720"/>
            <a:ext cx="2340000" cy="2033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34320" y="4648320"/>
            <a:ext cx="1295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pect each other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844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4T13:25:15Z</cp:lastPrinted>
  <dcterms:modified xsi:type="dcterms:W3CDTF">1999-01-14T13:28:28Z</dcterms:modified>
  <cp:revision>5</cp:revision>
  <dc:subject/>
  <dc:title>No Slide Title</dc:title>
</cp:coreProperties>
</file>