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5BBF-D8FB-4455-A18C-5D4C609FA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8939-7218-4C46-A81B-979CF449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730B-595E-49FD-8248-1FBAFE41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33B2-A057-4782-A605-B4BBBD1C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F312-DC08-41D9-9C6A-B7CD4150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B17-516B-495E-876C-E70438AD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E890-92A3-4E84-BA4F-2EC0539A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0A02-B9AF-4DA8-9601-EE6E9CB4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9B26-5F85-4CFB-B4D1-D9E75BDB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8D80-1790-47D1-8260-9459082B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ECED-AD36-4AF6-BCBD-9F0B4F6B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50F-8BD4-4FD9-842D-E05F751C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FAFB-78D2-46A1-9D65-06DB5243A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09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HREE R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523880"/>
            <a:ext cx="4496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3048120"/>
            <a:ext cx="4496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4572000"/>
            <a:ext cx="4496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838080" y="15238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837720" y="1523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838080" y="15238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914040" y="1523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19320" y="152388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523520" y="1523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828440" y="1523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133720" y="152388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2320" y="152388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666520" y="1523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971440" y="1523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276720" y="152388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580920" y="1523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85840" y="1523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114440" y="1523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343040" y="1523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571640" y="1523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800600" y="17524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105160" y="2057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714640" y="1905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790960" y="3429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79096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10280" y="17524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 R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6600" y="32767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e R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86600" y="48006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r R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609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NEL POSITION SYMB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4191120"/>
            <a:ext cx="4572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5334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533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3048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ght Serge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1905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ght Comma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symbols5" descr=""/>
          <p:cNvPicPr/>
          <p:nvPr/>
        </p:nvPicPr>
        <p:blipFill>
          <a:blip r:embed="rId1"/>
          <a:srcRect l="10393" t="0" r="72858" b="12051"/>
          <a:stretch/>
        </p:blipFill>
        <p:spPr>
          <a:xfrm>
            <a:off x="1371600" y="2743200"/>
            <a:ext cx="501480" cy="990720"/>
          </a:xfrm>
          <a:prstGeom prst="rect">
            <a:avLst/>
          </a:prstGeom>
          <a:ln w="0">
            <a:noFill/>
          </a:ln>
        </p:spPr>
      </p:pic>
      <p:pic>
        <p:nvPicPr>
          <p:cNvPr id="101" name="symbols4" descr=""/>
          <p:cNvPicPr/>
          <p:nvPr/>
        </p:nvPicPr>
        <p:blipFill>
          <a:blip r:embed="rId2"/>
          <a:srcRect l="19145" t="7718" r="64287" b="12051"/>
          <a:stretch/>
        </p:blipFill>
        <p:spPr>
          <a:xfrm>
            <a:off x="1371600" y="1447920"/>
            <a:ext cx="54144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335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IGHT IN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722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7524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7521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7521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8288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807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1333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9047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9047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6668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6665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6665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7432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8951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0477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8191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8191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5049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5049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5053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5812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7339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8858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6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6572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4193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4193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4197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4956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6483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8002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5720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5716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3337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3337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3341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4100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5627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7146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4864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4860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722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1718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1722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2485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4004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5530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3244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324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8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76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48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28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10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86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91120" y="2133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670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670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1981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048120" y="1600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5181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65760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5053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0532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12372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symbols5" descr=""/>
          <p:cNvPicPr/>
          <p:nvPr/>
        </p:nvPicPr>
        <p:blipFill>
          <a:blip r:embed="rId1"/>
          <a:srcRect l="10393" t="0" r="72858" b="12051"/>
          <a:stretch/>
        </p:blipFill>
        <p:spPr>
          <a:xfrm>
            <a:off x="3962520" y="5334120"/>
            <a:ext cx="463320" cy="914400"/>
          </a:xfrm>
          <a:prstGeom prst="rect">
            <a:avLst/>
          </a:prstGeom>
          <a:ln w="0">
            <a:noFill/>
          </a:ln>
        </p:spPr>
      </p:pic>
      <p:pic>
        <p:nvPicPr>
          <p:cNvPr id="232" name="symbols4" descr=""/>
          <p:cNvPicPr/>
          <p:nvPr/>
        </p:nvPicPr>
        <p:blipFill>
          <a:blip r:embed="rId2"/>
          <a:srcRect l="19145" t="7718" r="64287" b="12051"/>
          <a:stretch/>
        </p:blipFill>
        <p:spPr>
          <a:xfrm>
            <a:off x="3962520" y="1219320"/>
            <a:ext cx="4521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4572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IGHT IN COLUMN OF TH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3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288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812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956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100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5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288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288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432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43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100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00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485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8288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18284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18288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9051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0570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2096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19810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9807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7432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7428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27432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8195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9714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1240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8954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895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812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5812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5809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5809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36576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8095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9621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7335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7335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4956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4953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4953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5720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7239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48765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6479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6479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100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4100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54097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4097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4864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56383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7909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5623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5623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248520" y="2666880"/>
            <a:ext cx="53316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62481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2481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62485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3244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4771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6290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4008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4004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57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09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62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43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9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95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48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812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57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9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86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62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038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956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48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4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800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876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2485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24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53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05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4100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486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38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15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867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43400" y="1295280"/>
            <a:ext cx="1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343400" y="1295280"/>
            <a:ext cx="1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00400" y="1981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124080" y="1600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76720" y="5181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73392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58128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58128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20004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93432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93432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3432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1008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8640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symbols5" descr=""/>
          <p:cNvPicPr/>
          <p:nvPr/>
        </p:nvPicPr>
        <p:blipFill>
          <a:blip r:embed="rId1"/>
          <a:srcRect l="13571" t="11776" r="0" b="67750"/>
          <a:stretch/>
        </p:blipFill>
        <p:spPr>
          <a:xfrm flipH="1">
            <a:off x="4114800" y="5562720"/>
            <a:ext cx="914400" cy="480960"/>
          </a:xfrm>
          <a:prstGeom prst="rect">
            <a:avLst/>
          </a:prstGeom>
          <a:ln w="0">
            <a:noFill/>
          </a:ln>
        </p:spPr>
      </p:pic>
      <p:pic>
        <p:nvPicPr>
          <p:cNvPr id="367" name="symbols4" descr=""/>
          <p:cNvPicPr/>
          <p:nvPr/>
        </p:nvPicPr>
        <p:blipFill>
          <a:blip r:embed="rId2"/>
          <a:srcRect l="1429" t="37860" r="66572" b="15085"/>
          <a:stretch/>
        </p:blipFill>
        <p:spPr>
          <a:xfrm>
            <a:off x="4114800" y="1332000"/>
            <a:ext cx="9907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520" y="9907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IGHT IN COLUMN OF RO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43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8288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812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956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00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485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288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432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43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812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812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956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956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100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100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485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2485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8288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18284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18288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19051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0570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22096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43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19810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9807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43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7432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7428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7432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28195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29714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1240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28954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2895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812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5812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35809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809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6576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8095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39621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37335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37335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956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44956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44953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4953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45720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7239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8765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6479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6479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54100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54097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54097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54864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56383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7909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55623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55623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248520" y="2666880"/>
            <a:ext cx="53316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62481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62481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62485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63244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4771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66290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64008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4004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81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057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133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09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62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43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95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71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048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24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00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812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657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733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809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6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038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956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48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724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800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876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952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2485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324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553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05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4100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86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38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15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867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343400" y="1295280"/>
            <a:ext cx="1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343400" y="1295280"/>
            <a:ext cx="1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93432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93432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93432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2880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38080" y="4038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50292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0020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838080" y="5181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8168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934320" y="50292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20120" y="5181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67813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92468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symbols5" descr=""/>
          <p:cNvPicPr/>
          <p:nvPr/>
        </p:nvPicPr>
        <p:blipFill>
          <a:blip r:embed="rId1"/>
          <a:srcRect l="13571" t="11776" r="0" b="67750"/>
          <a:stretch/>
        </p:blipFill>
        <p:spPr>
          <a:xfrm flipH="1">
            <a:off x="533160" y="3429000"/>
            <a:ext cx="990360" cy="520560"/>
          </a:xfrm>
          <a:prstGeom prst="rect">
            <a:avLst/>
          </a:prstGeom>
          <a:ln w="0">
            <a:noFill/>
          </a:ln>
        </p:spPr>
      </p:pic>
      <p:pic>
        <p:nvPicPr>
          <p:cNvPr id="502" name="symbols4" descr=""/>
          <p:cNvPicPr/>
          <p:nvPr/>
        </p:nvPicPr>
        <p:blipFill>
          <a:blip r:embed="rId2"/>
          <a:srcRect l="1429" t="37860" r="66572" b="15085"/>
          <a:stretch/>
        </p:blipFill>
        <p:spPr>
          <a:xfrm>
            <a:off x="7391520" y="3429000"/>
            <a:ext cx="9903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924680" y="63244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6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971800" y="1143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GHT IN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7524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524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7524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6668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053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4197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3341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1722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7524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7521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17521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18288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19807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21333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19047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19047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26668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26665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26665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27432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28951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0477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8191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8191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35049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35049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5053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35812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37339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38858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36576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36572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44193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44193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4197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44956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46483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48002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45720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45716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53337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53337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53341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54100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5627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57146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54864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54860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61722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61718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61722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62485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64004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65530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63244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6324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81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057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133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209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286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743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19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95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71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48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81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657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733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09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886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62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95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648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724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800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76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248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324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53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28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10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486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38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715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2670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2670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696080" y="5181480"/>
            <a:ext cx="990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0"/>
            <a:ext cx="91440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raw the correct symbols for Flight Commander and Flight Serge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Place the symbols in the correct positions, and indicate the number of paces they are located from the nearest ran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dicate the direction the flight is facing with an arrow (Inside the bo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96080" y="48006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924680" y="63244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6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752480" y="1295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GHT IN COLUMN OF TH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7524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7524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7524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668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5053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41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1722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17524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17521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17521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18288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19807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21333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19047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19047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26668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26665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6665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27432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28951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30477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28191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28191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35049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35049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35053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35812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37339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38858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36576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36572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44193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44193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44197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44956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46483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48002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45720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45716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53337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53337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53341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54100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55627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57146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54864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54860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61722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61718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61722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62485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64004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65530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63244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6324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981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057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133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09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286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43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819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895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971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048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124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581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657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733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09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886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962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495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724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800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876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248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324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553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828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410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86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638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715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2670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670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696080" y="5181480"/>
            <a:ext cx="990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0"/>
            <a:ext cx="91440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raw the correct symbols for Flight Commander and Flight Serge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Place the symbols in the correct positions, and indicate the number of paces they are located from the nearest ran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dicate the direction the flight is facing with an arrow (Inside the bo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696080" y="48006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924680" y="63244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905120" y="1295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GHT IN COLUMN OF RO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7524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7524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7524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6668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5053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4197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3341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1722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17524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17521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17521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18288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19807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21333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19047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19047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26668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26665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26665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27432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28951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30477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28191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28191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35049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35049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5053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35812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37339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38858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6576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36572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4193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44193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44197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44956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46483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48002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45720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45716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53337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53337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53341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54100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55627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57146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54864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54860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61722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61718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61722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62485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64004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65530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63244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6324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981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057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133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09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286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743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819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895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971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048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24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581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657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733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809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886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62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495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648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724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800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876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248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324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553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828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10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486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638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715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2670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2670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696080" y="5181480"/>
            <a:ext cx="990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0"/>
            <a:ext cx="91440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raw the correct symbols for Flight Commander and Flight Serge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Place the symbols in the correct positions, and indicate the number of paces they are located from the nearest ran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dicate the direction the flight is facing with an arrow (Inside the bo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696080" y="48006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1T15:23:34Z</dcterms:created>
  <dc:creator>DND</dc:creator>
  <dc:description/>
  <dc:language>en-US</dc:language>
  <cp:lastModifiedBy>DND</cp:lastModifiedBy>
  <cp:lastPrinted>1999-01-11T17:54:44Z</cp:lastPrinted>
  <dcterms:modified xsi:type="dcterms:W3CDTF">1999-03-25T17:58:52Z</dcterms:modified>
  <cp:revision>17</cp:revision>
  <dc:subject/>
  <dc:title>No Slide Title</dc:title>
</cp:coreProperties>
</file>