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DCF-12C2-4AC2-99AC-2DEF9D1D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742-6F7F-4C6A-BA0D-5F6C5735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11A-FFB0-4C7A-ABD1-D439C330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E2E-1605-4C99-9B8F-A9B501E5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EA2-B2C8-451C-9A81-DD66753F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077-143F-4F99-AD3B-72342F5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424-9C3A-4C88-8989-3EE99EF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647-4037-4F0D-A464-16849ED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241-02E4-4791-A5A7-43A70D5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CC2-F8EC-459C-B25C-523F5997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8B0-A6A4-41AF-AAB7-658D798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A16-3B6B-4DB0-ADC8-F9D9F4F2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731-E559-41E8-B77E-96D4690BB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1T14:56:39Z</dcterms:modified>
  <cp:revision>10</cp:revision>
  <dc:subject/>
  <dc:title>No Slide Title</dc:title>
</cp:coreProperties>
</file>