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D5F-E669-4F0B-87FE-EC191FBF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75B-763D-4600-9183-17CF0D0F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4F2-4EC5-4C2F-8B50-B4137A81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D92-EE74-4F82-8EFE-C0300B96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048-A909-4488-B55F-CBB8B84B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E47-1415-4AA7-B365-E16D466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A1D-3334-4F8B-863A-46E7D48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205-2EE3-45EB-AF9D-5A16573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EB9-7107-4DC5-BF2D-79743C14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557-9780-4877-BE50-4EBF67E8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D40-7032-49EC-8A0E-48FE01C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735-961B-41C9-AFF4-F04F79C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F45-8268-4669-8773-DDAB3B69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29T19:48:27Z</dcterms:modified>
  <cp:revision>24</cp:revision>
  <dc:subject/>
  <dc:title>No Slide Title</dc:title>
</cp:coreProperties>
</file>