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A676-CF19-408F-879A-776D1719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DC3-4575-44BB-8A41-9A8F1128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882C-5CC6-4629-A8E4-C0479E80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DE4-BF98-415E-93C6-099E6EF5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A46-8325-4E9E-B5F0-8EEACD48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C3BB-1139-4A7E-B0C2-FE8D1B53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B23-8CB1-4CDE-8A57-A8588B5D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A4A-F25A-4DD2-A45B-FC20FB56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81D-A33B-432D-A201-C0D84F59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4CD-E88F-4523-8464-B55F822A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660-856A-48EF-9262-028A62F2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2B9-FDC8-43D2-876C-4835CD2D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A8B9-73EF-474E-A9E0-7A9BC0206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44800" y="152280"/>
            <a:ext cx="51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Engine Gau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gauge2" descr=""/>
          <p:cNvPicPr/>
          <p:nvPr/>
        </p:nvPicPr>
        <p:blipFill>
          <a:blip r:embed="rId1"/>
          <a:srcRect l="4955" t="3399" r="39952" b="28377"/>
          <a:stretch/>
        </p:blipFill>
        <p:spPr>
          <a:xfrm>
            <a:off x="4925880" y="1674720"/>
            <a:ext cx="3684600" cy="343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480" y="52578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l Pressure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525780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l Temperature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auge1" descr=""/>
          <p:cNvPicPr/>
          <p:nvPr/>
        </p:nvPicPr>
        <p:blipFill>
          <a:blip r:embed="rId2"/>
          <a:srcRect l="16091" t="0" r="23169" b="61528"/>
          <a:stretch/>
        </p:blipFill>
        <p:spPr>
          <a:xfrm>
            <a:off x="533520" y="1800360"/>
            <a:ext cx="35020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6560" y="152280"/>
            <a:ext cx="51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Engine Gau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00720" y="5181480"/>
            <a:ext cx="30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linder-He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gauge3" descr=""/>
          <p:cNvPicPr/>
          <p:nvPr/>
        </p:nvPicPr>
        <p:blipFill>
          <a:blip r:embed="rId1"/>
          <a:srcRect l="25473" t="0" r="24110" b="61222"/>
          <a:stretch/>
        </p:blipFill>
        <p:spPr>
          <a:xfrm>
            <a:off x="654120" y="1916280"/>
            <a:ext cx="3308400" cy="3297240"/>
          </a:xfrm>
          <a:prstGeom prst="rect">
            <a:avLst/>
          </a:prstGeom>
          <a:ln w="0">
            <a:noFill/>
          </a:ln>
        </p:spPr>
      </p:pic>
      <p:pic>
        <p:nvPicPr>
          <p:cNvPr id="55" name="carbgauge" descr=""/>
          <p:cNvPicPr/>
          <p:nvPr/>
        </p:nvPicPr>
        <p:blipFill>
          <a:blip r:embed="rId2"/>
          <a:stretch/>
        </p:blipFill>
        <p:spPr>
          <a:xfrm>
            <a:off x="4981680" y="1905120"/>
            <a:ext cx="3400200" cy="3281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167800" y="5181480"/>
            <a:ext cx="30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uretor Ai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6560" y="152280"/>
            <a:ext cx="51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Engine Gau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5257800"/>
            <a:ext cx="28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ifold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gauge5" descr=""/>
          <p:cNvPicPr/>
          <p:nvPr/>
        </p:nvPicPr>
        <p:blipFill>
          <a:blip r:embed="rId1"/>
          <a:srcRect l="0" t="4996" r="56318" b="34970"/>
          <a:stretch/>
        </p:blipFill>
        <p:spPr>
          <a:xfrm>
            <a:off x="5105520" y="1884240"/>
            <a:ext cx="3300120" cy="3245040"/>
          </a:xfrm>
          <a:prstGeom prst="rect">
            <a:avLst/>
          </a:prstGeom>
          <a:ln w="0">
            <a:noFill/>
          </a:ln>
        </p:spPr>
      </p:pic>
      <p:pic>
        <p:nvPicPr>
          <p:cNvPr id="63" name="gauge4" descr=""/>
          <p:cNvPicPr/>
          <p:nvPr/>
        </p:nvPicPr>
        <p:blipFill>
          <a:blip r:embed="rId2"/>
          <a:srcRect l="0" t="11588" r="63833" b="36771"/>
          <a:stretch/>
        </p:blipFill>
        <p:spPr>
          <a:xfrm>
            <a:off x="609480" y="1828800"/>
            <a:ext cx="3276720" cy="3422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98160" y="52578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h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6T20:12:16Z</dcterms:created>
  <dc:creator>RC Air Cadets</dc:creator>
  <dc:description/>
  <dc:language>en-US</dc:language>
  <cp:lastModifiedBy>dnd</cp:lastModifiedBy>
  <cp:lastPrinted>1999-03-01T14:58:12Z</cp:lastPrinted>
  <dcterms:modified xsi:type="dcterms:W3CDTF">1999-03-30T13:06:49Z</dcterms:modified>
  <cp:revision>30</cp:revision>
  <dc:subject/>
  <dc:title>No Slide Title</dc:title>
</cp:coreProperties>
</file>