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2B4-9486-46E1-9D17-D2B90F39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33B-D20C-4A04-8239-9587A27E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465-26A4-4100-AD2A-CEB1F24D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997-ED52-44EE-9E2A-E3253A13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127-7ACE-45F6-B0AE-CB84F6B0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59E-8532-418A-9558-F0E11489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03F-5B16-44B4-BCE8-DC0610B6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918-570F-4ABF-AA08-F54452C1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7EF-B32A-4AD9-98F2-5CF643CF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357-DA99-426D-ABAC-5DCAA4F5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176-8691-47C9-BF72-EE2E75EF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BE1-5F8E-4866-AEFA-208B29DE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552B-D29D-497F-8A11-D6651C373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 OF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33520" y="2057400"/>
            <a:ext cx="0" cy="228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8610480" y="2057400"/>
            <a:ext cx="0" cy="2286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720" y="297180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80160" y="297180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WN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04960" y="1828800"/>
            <a:ext cx="24382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1160" y="205740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440" y="15508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5080" y="44197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T TRAINING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61880" y="441972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3640" y="1550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RS CHAIN OF COMM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3880" y="1523880"/>
          <a:ext cx="59216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9216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 OF COMMAND N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74760" y="1384200"/>
          <a:ext cx="4943520" cy="43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760" y="1384200"/>
                    <a:ext cx="4943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9:58:43Z</cp:lastPrinted>
  <dcterms:modified xsi:type="dcterms:W3CDTF">1999-02-19T21:11:11Z</dcterms:modified>
  <cp:revision>29</cp:revision>
  <dc:subject/>
  <dc:title>No Slide Title</dc:title>
</cp:coreProperties>
</file>