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DB8-084A-49EB-AEC8-EC1EF2A8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1F1-2F83-4728-90EB-E1635305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24A-B27D-4132-A576-5EA7B1EB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C4A-DB8F-492E-8FBD-738DA156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D8D-3098-480B-9BBE-DEDDF66D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6F8-5D9A-4A20-8C8C-0C6304B9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C5E-A703-4469-8526-A0BC024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142-58E6-43C0-ACF7-C1591A9A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942-1B91-4B9C-892A-1B1121B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422-0062-4575-A098-A0E27B4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908-7958-4017-8E9C-B3E5781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6F5-0E2B-4F96-A835-198BD12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3110-D2D6-4EDF-9504-26E2D1CC3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uel Syst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vity feed fuel 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only suitable for high-wing aircraft.  The tanks are mounted in the wings above the engine, with gravity causing the fuel to flow from the tanks to the eng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el pump fuel 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low-wing aircraft and in high performance aircraft.  An engine-driven fuel pump supplies the pressure required to keep the fuel flowing to the engin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uel Tan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anent ta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located in the fuselage or wing structure where the fuel supply is stored for normal op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xiliary ta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ither fixed or drop type, can be fitted when a greater than normal fuel supply is required.  They are located on the external structures of the wings or fusel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blems with the Fue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3712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o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-I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pour 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1T15:37:14Z</cp:lastPrinted>
  <dcterms:modified xsi:type="dcterms:W3CDTF">1999-03-30T13:07:48Z</dcterms:modified>
  <cp:revision>4</cp:revision>
  <dc:subject/>
  <dc:title>Fuel Systems</dc:title>
</cp:coreProperties>
</file>