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7EF-83C4-4706-B424-648D5736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7CB-4735-40D1-B141-02B71279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68E-6316-4713-9D49-9CC1657D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58F-E939-42DC-B684-E21838DC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A12-F8A2-4DB9-88D9-70F24AE2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FDF-8197-4538-B506-E7C5B317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937-D4E5-43A4-B10C-151C80BF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BD7-2F9A-42F8-A71A-39A9CE0E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50C-26E3-4E50-9EC7-79592757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036-5B71-401D-AB56-5A2D987C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B49-23CB-4FF6-B79B-395A1DAB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10B-AFAE-4CBA-BDE2-4B4ED4C4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F4AE-5505-4359-91FE-540A388C8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EXAMPLE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CRAFT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DAY ALL STATIONS-ALL STATIONS-ALL STATIONS-THIS IS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-FOXTROT OSCAR NOVEMBER ROMEO-FOXTROT OSCAR NOVEMBER ROMEO-AT ONE SEVEN FOUR ZERO EASTERN-FOXTROT OSCAR NOVEMBER ROMEO DISTRESS TRAFFIC ENDED-ICE CLEARED-RETURNING GRAND FALLS-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6545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04:26Z</dcterms:created>
  <dc:creator>DND</dc:creator>
  <dc:description/>
  <dc:language>en-US</dc:language>
  <cp:lastModifiedBy>dnd</cp:lastModifiedBy>
  <cp:lastPrinted>1999-01-20T18:19:40Z</cp:lastPrinted>
  <dcterms:modified xsi:type="dcterms:W3CDTF">1999-03-30T17:22:16Z</dcterms:modified>
  <cp:revision>4</cp:revision>
  <dc:subject/>
  <dc:title>DISTRESS EXAMPLE </dc:title>
</cp:coreProperties>
</file>