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9F2-C366-4C51-B2F7-78FDB202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D49-1270-4D47-A624-0BC97B2B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E4B-90B8-42B2-A0B8-35DC1E5A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72E-4FB4-4AEC-BE4A-FCCE2F98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5F4-E42D-454D-8B99-4E050842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868-4BB2-4A93-8D9C-AAF72D75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E19-96D9-4738-8006-064028DC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D8D-E2DA-4FF0-BD0F-3E85BD24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990-564C-4977-A684-D69CD25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EDA-DF1D-4229-AD8E-D51A39AF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C4E-44EF-497F-9B26-2F57196A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152-0E8A-43C5-B0FA-2E8B8249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715D-A039-4A95-8EFE-2DA9EF493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imulate mental activit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rouse and maintain intere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uide thoughts and provoke thinking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valuat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3000" y="304920"/>
            <a:ext cx="6858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URPOSE OF QUES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13971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380880"/>
            <a:ext cx="6858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YPES OF QUES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AD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VERSE AND R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estions should be brief and cle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questions that are too long or have more than one ans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wording that the cadets will understa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questions that can be answered with a yes or no or where the answer is obvio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30492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GOOD 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questions that make the cadets thin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questions that antagonize, create feelings of inferiority or cause other unfavorable reac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not over- ask a question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courage group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30492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GOOD 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380880"/>
            <a:ext cx="6858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TO ASK QUES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K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DICATE WHICH CADET SHOULD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EN TO THE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CONFIRM THE CORREC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3-12T13:44:57Z</cp:lastPrinted>
  <dcterms:modified xsi:type="dcterms:W3CDTF">1999-03-12T13:44:57Z</dcterms:modified>
  <cp:revision>19</cp:revision>
  <dc:subject/>
  <dc:title>No Slide Title</dc:title>
</cp:coreProperties>
</file>