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A045-8A68-4C26-A067-6E78AE2F4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C015-48E9-4B1C-9A79-7F6B87A5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89AD-8056-43F5-B581-FF7758DEC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328D-6824-46F9-8665-5F3B6C4DC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C966-AC20-4DC9-AB5D-01446CC1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AB6B-0300-43EB-95AE-69C636B2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EE28-8E79-453A-9A11-3FF5290A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2135-D63A-4CEF-8091-C2AF4FA2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0C2A-B3C5-4D71-A883-3BFD5FFF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0333-A51E-4B68-88D5-6EF4306C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45F5-FDDD-49EE-978A-6C2CE731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5ABD-07EF-4DD9-AEB0-C9DEECA5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CC7A-F4DB-4E97-BDA4-4970E09FC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410080" y="838080"/>
          <a:ext cx="7317000" cy="83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838080"/>
                    <a:ext cx="731700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914400" y="1752480"/>
          <a:ext cx="5646600" cy="5562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752480"/>
                    <a:ext cx="56466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711360" y="1905120"/>
          <a:ext cx="6146640" cy="56386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1360" y="1905120"/>
                    <a:ext cx="614664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3T14:23:26Z</dcterms:created>
  <dc:creator>Jamie Richards</dc:creator>
  <dc:description/>
  <dc:language>en-US</dc:language>
  <cp:lastModifiedBy>Jamie Richards</cp:lastModifiedBy>
  <dcterms:modified xsi:type="dcterms:W3CDTF">1999-04-23T18:48:33Z</dcterms:modified>
  <cp:revision>8</cp:revision>
  <dc:subject/>
  <dc:title>No Slide Title</dc:title>
</cp:coreProperties>
</file>