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B65-3147-45F9-83FA-3D7CE5AF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B07-4159-4F95-A3FE-406AC9C8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A09-31D2-4C7F-A898-66C31C17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2F14-8EC2-4E16-BFA6-20E785FA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B35-67DB-4440-8858-6932D665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F17-E23E-4556-8B09-E3975762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212-2095-4102-98C9-96599619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B79-3B6C-4DDC-AD44-29630276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1D8-260D-4DC7-B4C9-29C2EC47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331-7B48-4B4F-B3BA-53883077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407-D64A-4319-9C20-6075D9D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D7E-585A-4672-B60F-222CB6B1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FBAE-A01A-48E3-9960-85D875CD4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14800" y="914400"/>
          <a:ext cx="7621560" cy="8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914400"/>
                    <a:ext cx="76215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90920" y="1905120"/>
          <a:ext cx="5181480" cy="380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905120"/>
                    <a:ext cx="518148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43000" y="1295280"/>
          <a:ext cx="5048280" cy="7147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95280"/>
                    <a:ext cx="5048280" cy="71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09:42Z</dcterms:modified>
  <cp:revision>22</cp:revision>
  <dc:subject/>
  <dc:title>No Slide Title</dc:title>
</cp:coreProperties>
</file>