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5BA-B1D7-467D-B8DB-7800F25F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546-764D-4DDD-8B4E-0EEE3696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C87-9CC4-4744-9F96-2CB342B2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C37-A7F4-4656-8752-5CF93F85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BC5-3A4A-4E37-AB0F-4153C23A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373-D43D-4C81-B057-078A999C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89A-24ED-47B8-8CA3-A9A20F01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676-DAAC-46D3-8E93-68FDF8C5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495-8493-414A-9C43-8D717187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007-BD75-4FCD-B15C-5F0C90F5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8B1-F043-4B5D-A069-633E6D0F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406-54B5-45B2-8886-C55B8C8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FFAF-89FE-4EEE-833B-DF776211D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63880" y="152280"/>
            <a:ext cx="51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Carbure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arb" descr=""/>
          <p:cNvPicPr/>
          <p:nvPr/>
        </p:nvPicPr>
        <p:blipFill>
          <a:blip r:embed="rId1"/>
          <a:srcRect l="0" t="0" r="15406" b="16010"/>
          <a:stretch/>
        </p:blipFill>
        <p:spPr>
          <a:xfrm>
            <a:off x="990720" y="1066680"/>
            <a:ext cx="74102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97080" y="76320"/>
            <a:ext cx="48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arburetor 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ce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476760" cy="542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78160" y="373392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MPY 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5400" y="10666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40680" y="25750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82120" y="52419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8640" y="4143960"/>
            <a:ext cx="542160" cy="7038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337080" y="2734200"/>
            <a:ext cx="888840" cy="176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5280" y="1460520"/>
            <a:ext cx="6480" cy="888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796680" y="5438880"/>
            <a:ext cx="1607040" cy="187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ingy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13480" cy="538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3808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each part of the carburetor in the correct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6002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895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8862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715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54864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8769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27432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2209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743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29920" y="380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7621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7:38:52Z</dcterms:created>
  <dc:creator>RC Air Cadets</dc:creator>
  <dc:description/>
  <dc:language>en-US</dc:language>
  <cp:lastModifiedBy>dnd</cp:lastModifiedBy>
  <cp:lastPrinted>1999-03-01T18:26:34Z</cp:lastPrinted>
  <dcterms:modified xsi:type="dcterms:W3CDTF">1999-03-30T13:11:26Z</dcterms:modified>
  <cp:revision>4</cp:revision>
  <dc:subject/>
  <dc:title>No Slide Title</dc:title>
</cp:coreProperties>
</file>