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B68-71A3-4869-8D38-54D7FEC6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DE8-A195-4C06-B0EB-9403EF85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828-227E-42FA-8FE2-A9874034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753-08F4-4A90-9488-C53F0CEA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949-B3E5-4FE3-A751-2FDB5D3A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0E9-3679-463F-AC8B-BFCEDFDB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BEAC-A0BB-435B-B7DD-8F860784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B22A-6985-4F9D-A685-FE49388C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DA4-C297-46DF-BE72-6702ADF2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90C-FFDB-4C28-A2FA-6AA5B6B3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13BD-AEB5-464E-A06B-37261017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99C-2923-4D87-916B-CD20454F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3626-B630-4946-8A65-9758AF93D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114800" y="990720"/>
          <a:ext cx="7392960" cy="84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990720"/>
                    <a:ext cx="739296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029200" y="1905120"/>
          <a:ext cx="6859440" cy="360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905120"/>
                    <a:ext cx="68594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838080" y="2362320"/>
          <a:ext cx="5715000" cy="51814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362320"/>
                    <a:ext cx="5715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371600" y="2438280"/>
          <a:ext cx="4448160" cy="5715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2438280"/>
                    <a:ext cx="4448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3T18:40:29Z</dcterms:modified>
  <cp:revision>21</cp:revision>
  <dc:subject/>
  <dc:title>No Slide Title</dc:title>
</cp:coreProperties>
</file>