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41B-6AB9-4EB2-9D11-23185932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C3B-BDF5-47C0-9952-2A118F47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C5D-CFB3-4087-ACDF-6FE0618E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C02-CD10-4F36-9D21-B789F197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FBB-7F5C-4CCE-A98F-3C5448D6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2C4-2640-4004-9372-448D626E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A1D-D1F1-4059-9A49-A549F295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060-94AF-4D19-90C5-891677AE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956-925D-4B8E-937E-ECC85D7E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E75-B371-4937-BA31-77DFE25F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B1C-5180-42D8-B1EC-A9036CD4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850-9FB7-432D-8D69-1D648434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C40E-CD10-436B-A1E4-0338CD4FF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-HOUR SYSTEM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:45 a.m. - 0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:00 noon - 1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:45 p.m. - 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:00 midnight - 2400 or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2279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ADIOTELEPHONE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KNOWLEDGEMENT OR 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6095880" y="2514600"/>
            <a:ext cx="2210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ADIO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402200" y="1752480"/>
            <a:ext cx="11002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hout into the microph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distance of 12 cm between the lips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hone when transmi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ane or obscene language is strictly prohib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slang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486400" y="4343400"/>
          <a:ext cx="259092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4343400"/>
                    <a:ext cx="259092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3:10:36Z</dcterms:created>
  <dc:creator>DND</dc:creator>
  <dc:description/>
  <dc:language>en-US</dc:language>
  <cp:lastModifiedBy>dnd</cp:lastModifiedBy>
  <cp:lastPrinted>1999-01-19T19:48:30Z</cp:lastPrinted>
  <dcterms:modified xsi:type="dcterms:W3CDTF">1999-03-30T18:33:54Z</dcterms:modified>
  <cp:revision>6</cp:revision>
  <dc:subject/>
  <dc:title>TIME AND DATE</dc:title>
</cp:coreProperties>
</file>