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C25-B0E6-4D26-B373-9794D60A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B08-6AFC-4691-996F-D8A12848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8CE-4943-4A3A-BB5F-81BEA77D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A84-01C8-4BFA-B423-C1788F13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652-FA92-4FAB-BDCD-F69F5FF0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CC9-145C-423E-B45F-00B7A489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B35-9CA7-48F3-85FC-9666A565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BF7-BC8D-4B7D-890A-B6CF70A4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C88-E11D-4919-B38B-046F1C18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521-B555-4565-AEE5-B8082C0A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821-02D0-45FA-8B4D-460C52FD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F8F-EFCE-41A2-BAA6-BD816F2A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38BC-CEF1-4A53-8BC1-189C4EAEA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C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 station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ONTO TOWER THIS IS CESSNA ONE EIGHT FIVE –FOXTROT ALPHA DELTA TANGO O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ATIONS THIS IS TORONTO 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station 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SSNA FOXTROT NOVEMBER INDIA INDIA, PIPER FOXTROT X-RAY QUEBEC QUEBEC, PIPER GOLF LIMA LIMA DELTA THIS IS TORONTO T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781760" y="3886200"/>
          <a:ext cx="136224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1760" y="3886200"/>
                    <a:ext cx="136224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INGLE STATION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762480" y="1295280"/>
            <a:ext cx="1074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sign of the station called (not more than thre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,once if radio conditions are go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s “THIS I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sign of your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on which you 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mi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itation to reply (“OVER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5695920" y="213372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NERAL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SHOULD BE MADE TO ALL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AME PROCEDURE AS A SINGLE STATION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943600" y="3962520"/>
          <a:ext cx="271476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962520"/>
                    <a:ext cx="271476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E STATION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TRANSMITTED IN CONVIENANT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ED BY “THIS 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REPLY 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572080" y="3429000"/>
          <a:ext cx="357192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3429000"/>
                    <a:ext cx="357192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PL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WII GIVE ONE OF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REPL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495680" y="2743200"/>
          <a:ext cx="281016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28101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9:07:02Z</dcterms:created>
  <dc:creator>DND</dc:creator>
  <dc:description/>
  <dc:language>en-US</dc:language>
  <cp:lastModifiedBy>dnd</cp:lastModifiedBy>
  <cp:lastPrinted>1999-02-19T18:58:18Z</cp:lastPrinted>
  <dcterms:modified xsi:type="dcterms:W3CDTF">1999-03-30T18:35:05Z</dcterms:modified>
  <cp:revision>13</cp:revision>
  <dc:subject/>
  <dc:title>SINGLE STATION CALL</dc:title>
</cp:coreProperties>
</file>