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64F-3637-48EA-BB95-A16246A7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667-F9C1-4201-8B4C-75E127D5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106-AE90-4C83-B99A-63555438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733-2A40-469C-86C1-DE82E0EC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C1B-2B40-4EED-8BB4-37595B6E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321-953D-4B97-9B9D-A513AE8D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4E1-A97B-4228-A566-EA3CB016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46D-1EC4-4631-979E-8D1370E4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2D9-731A-4C26-A5DE-70755179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79B-3DC6-4215-BDB9-953BD63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A9F-B09B-4923-8FC4-4E33435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887-E0C8-4635-924B-A47E70DC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0735-861C-4F9D-9421-C0CF15F85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1120" y="152280"/>
            <a:ext cx="46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uperchar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51280" y="310824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ch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1640" y="2346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ur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2720" y="182880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Manif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upercharger2" descr=""/>
          <p:cNvPicPr/>
          <p:nvPr/>
        </p:nvPicPr>
        <p:blipFill>
          <a:blip r:embed="rId1"/>
          <a:srcRect l="18938" t="2888" r="21331" b="5579"/>
          <a:stretch/>
        </p:blipFill>
        <p:spPr>
          <a:xfrm>
            <a:off x="2514600" y="12193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1295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523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420880" y="3328920"/>
            <a:ext cx="1120680" cy="57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912640" y="2550240"/>
            <a:ext cx="669240" cy="3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486040" y="205740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1120" y="152280"/>
            <a:ext cx="46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urbochar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urbo%20charger2" descr=""/>
          <p:cNvPicPr/>
          <p:nvPr/>
        </p:nvPicPr>
        <p:blipFill>
          <a:blip r:embed="rId1"/>
          <a:srcRect l="3539" t="52264" r="23169" b="16104"/>
          <a:stretch/>
        </p:blipFill>
        <p:spPr>
          <a:xfrm>
            <a:off x="457200" y="1371600"/>
            <a:ext cx="6934320" cy="473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05040" y="350532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ch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30520" y="16765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53280" y="265104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0" y="531828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ion Manif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0040" y="5089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ur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81040" y="5089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 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5920" y="1945800"/>
            <a:ext cx="666360" cy="22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629040" y="28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629040" y="37339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562720" y="40384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581880" y="4603320"/>
            <a:ext cx="627480" cy="47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90720" y="2666520"/>
            <a:ext cx="144756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990720" y="4876920"/>
            <a:ext cx="14475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7:38:52Z</dcterms:created>
  <dc:creator>RC Air Cadets</dc:creator>
  <dc:description/>
  <dc:language>en-US</dc:language>
  <cp:lastModifiedBy>dnd</cp:lastModifiedBy>
  <cp:lastPrinted>1999-03-02T19:07:42Z</cp:lastPrinted>
  <dcterms:modified xsi:type="dcterms:W3CDTF">1999-03-30T13:09:09Z</dcterms:modified>
  <cp:revision>19</cp:revision>
  <dc:subject/>
  <dc:title>No Slide Title</dc:title>
</cp:coreProperties>
</file>