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E40-20D1-4BC7-9067-61536C09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011-BDBC-4F05-9757-789B89B5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25F-8D7C-4541-AB06-9A5A1A7D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49C-42C5-4396-ADF0-0F1880EF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8771-0F79-41F6-8529-858E6890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F0B-A8BE-44B9-9065-FE83D580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C91-B1DD-445E-B86D-B8BE378D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7CE-85FB-418E-937E-A9348783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74D-037B-4F4B-8E54-BAEAD789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534B-25C2-46F4-9947-8899AE7E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5D0-5743-4ADE-A3C4-BA9C941C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7BA-0045-4D0A-B636-C189D20E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826E-2F38-4DD8-B455-33AF291C9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avigation is the process of navigating by any one of the many methods of planning or determining an aircraft’s position and cours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mply put, it is being able to determine where you are, where you you want to be, and how to get ther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ypes of Nav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5638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lot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 Recko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dio Navi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lestial Navi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ertial Navi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8129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5:12:40Z</dcterms:created>
  <dc:creator>RC Air Cadets</dc:creator>
  <dc:description/>
  <dc:language>en-US</dc:language>
  <cp:lastModifiedBy>dnd</cp:lastModifiedBy>
  <cp:lastPrinted>1999-03-02T19:17:20Z</cp:lastPrinted>
  <dcterms:modified xsi:type="dcterms:W3CDTF">1999-03-30T14:14:37Z</dcterms:modified>
  <cp:revision>8</cp:revision>
  <dc:subject/>
  <dc:title>Fuel Systems</dc:title>
</cp:coreProperties>
</file>