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9056-A509-4002-9374-86E45BB7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77E-F330-4766-8557-BC4628D3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7F5-A6F5-486F-B183-A7A00B1E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27A-4EA6-4BFB-9F0B-A6019D7C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2CE-8AE3-446D-8F88-DB7B720F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F41-D43D-469C-8641-2E31453C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D74-B06F-48DC-BE19-B1C36D39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DCD-C887-4D51-987B-7645759A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9E9-C158-41BD-9FE1-1B9BCC40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55E-3C91-48A1-A3EB-AD0FF077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F89-7C43-4F3E-9613-F206AA99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323-F546-4019-9C12-1206C985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4DD5-9F27-46E8-9EB2-1F8ED72C2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044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057400"/>
            <a:ext cx="6248520" cy="62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appeal to more than one of the five sens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help the trainees understand   principles and law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bring realism in the                       classroo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can aid the trainees by giving them a pattern, or by helping to form associ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86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ADVANTAGES OF USING AN INSTRUCTIONAL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38680" y="7086600"/>
            <a:ext cx="9874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044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057400"/>
            <a:ext cx="6553440" cy="56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chool’s Art or Graphic Sec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ther Instructo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tisements in Newspapers and Magazines, on Television or in Store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erence Books and Manuals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Imag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53352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URCES OF IDEA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5867280"/>
            <a:ext cx="10555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044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057400"/>
            <a:ext cx="6248520" cy="60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CTUAL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IMUL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OCK-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HUMAN BE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ICTORIAL 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ELECTRONIC 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6858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INSTRUCTIONAL AI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044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609480"/>
            <a:ext cx="62485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 conjunction with answering the “what is to be taught” question, the chalkboard should display the following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structors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pic and Main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e of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erence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6324480"/>
            <a:ext cx="289584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044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019920" cy="8001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376880" y="7162560"/>
            <a:ext cx="13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Lt. I.M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674360"/>
            <a:ext cx="1417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PO 409.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Level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795760"/>
            <a:ext cx="4419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he Six Principles of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MTP’s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Partic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Confi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Emph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71720" y="716256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1300-13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1698120"/>
            <a:ext cx="31212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Ref: A-CR-CCP-913/PT-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Technique of Instruction</a:t>
            </a: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0T00:22:15Z</cp:lastPrinted>
  <dcterms:modified xsi:type="dcterms:W3CDTF">1999-03-10T00:24:00Z</dcterms:modified>
  <cp:revision>30</cp:revision>
  <dc:subject/>
  <dc:title>No Slide Title</dc:title>
</cp:coreProperties>
</file>