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9E6-35DC-4236-924C-BEB83397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421-3677-4EF3-8D6B-33263E0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D10-500D-4979-9C46-CC089A3E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F96-3EEE-4E5A-A128-1CC1774A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667-6780-4A00-87D4-0E86A647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508-D622-4561-822E-1868CA2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88F-2ABE-4827-AC38-287ACFD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53F-8D06-4FCF-B4CF-26AC5FC6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374-8F36-48F3-BFAD-AF40D76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019-75AF-41CA-9427-4793FDC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A9E-7EF8-4A29-BF97-B40E3BD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D45-D52C-448A-A496-AC8DC0D5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273-A053-48FB-A903-840173994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02Z</dcterms:modified>
  <cp:revision>4</cp:revision>
  <dc:subject/>
  <dc:title>DISTRESS EXAMPLE </dc:title>
</cp:coreProperties>
</file>