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04AE-EE96-4355-8423-A9B4CFFA4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09DD-0224-4246-9647-E44F740B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A309-D5AA-40C6-85C9-266F9F0C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A46D-9A14-47CD-9908-6B82C8961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B458-C116-4605-94BF-EA4B2BA6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ACF0-22ED-4804-B606-F8184977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0B2E-88D8-4AE4-826B-172468FE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EC9C-E403-4EDA-B981-F154B0ED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920D-3001-4B58-8770-918C1E54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8921-3224-4857-AB47-F46097BC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97FA-A848-4AF0-9931-AEDB1FEE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C663-92B7-499B-A71D-A896984E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7A78-1610-4A24-A599-8DF98E11E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1880" y="8763120"/>
            <a:ext cx="1369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5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19920" y="87631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5943600"/>
            <a:ext cx="3353040" cy="109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FETY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4572000"/>
            <a:ext cx="2895840" cy="1117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CIAL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3276720"/>
            <a:ext cx="2514600" cy="109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F-ESTE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1676520"/>
            <a:ext cx="2057400" cy="1371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F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7315200"/>
            <a:ext cx="394308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SIC PHYSIO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62120" y="380880"/>
            <a:ext cx="53053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THE PRIORITY OF NEED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9T14:28:35Z</dcterms:created>
  <dc:creator>dnd</dc:creator>
  <dc:description/>
  <dc:language>en-US</dc:language>
  <cp:lastModifiedBy>dnd</cp:lastModifiedBy>
  <cp:lastPrinted>1999-01-19T19:08:23Z</cp:lastPrinted>
  <dcterms:modified xsi:type="dcterms:W3CDTF">1999-01-21T14:17:07Z</dcterms:modified>
  <cp:revision>6</cp:revision>
  <dc:subject/>
  <dc:title>No Slide Title</dc:title>
</cp:coreProperties>
</file>