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253-2B6C-49F0-8242-EA51B94E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F97-9425-42EF-BD98-2A2E6B6E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164-C695-4107-B9BF-D97B56AC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884-961A-416A-A8CF-B8EF7E26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7EC-014F-4733-98B2-B4C03CE1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F79-EABA-45A1-841D-1C22CDEF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A7D-F052-4D81-9EF0-483A9B47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555-3492-4BB6-AE47-73FB8BA9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A86-5957-499F-99D7-0A588994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7F4-EAC4-4C5F-95AC-34A57AD7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1C2-D6AF-4330-96C0-F410960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CA0-9DB8-4615-9EE0-63D6A8AF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A6FC-1A33-40B6-90D9-D363E792E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6545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13T15:20:17Z</dcterms:modified>
  <cp:revision>6</cp:revision>
  <dc:subject/>
  <dc:title>No Slide Title</dc:title>
</cp:coreProperties>
</file>