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E6B-EEE8-47D9-AD40-10166B1C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298-35A1-4132-A1E1-C85F536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C43-344F-4FA5-A422-ABA2DFF8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F93-2840-4B89-B877-06B56D6C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700-782B-483A-8C1F-8B4C1B1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CAE-ADC7-494A-B9A0-B725BEFE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55B-279C-42A8-89BC-3E389386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2EB-2F5F-4E36-9CE8-54577A89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D76-3D6D-4B6C-ADEB-2187DF3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497-698C-4065-BAC3-D572ECD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0A4-C95F-4359-9DF0-6C6CA2E0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956-0F61-4B51-9196-1894B4D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44D4-62E9-4D5E-9833-AD35D4480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L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UT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 the command with the cautionary “CALLING OUT THE 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-&gt; Right 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OUT THE TIME, RIGHT TUR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quad wi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first movement: “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: “TWO, THRE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movement: “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934320" y="3276720"/>
          <a:ext cx="159048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276720"/>
                    <a:ext cx="15904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CHANICAL AIDS TO DR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ON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E ST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17:30:50Z</dcterms:created>
  <dc:creator>DND</dc:creator>
  <dc:description/>
  <dc:language>en-US</dc:language>
  <cp:lastModifiedBy>DND</cp:lastModifiedBy>
  <cp:lastPrinted>1999-02-09T17:25:56Z</cp:lastPrinted>
  <dcterms:modified xsi:type="dcterms:W3CDTF">1999-03-25T18:01:32Z</dcterms:modified>
  <cp:revision>4</cp:revision>
  <dc:subject/>
  <dc:title>CALLING OUT THE TIME</dc:title>
</cp:coreProperties>
</file>