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B53-3B0C-4AC0-A0DA-9B28A3C4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7C4-D227-446E-9318-AB010E86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245-EB6F-445A-B6D2-2F7D57D8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48B-1F62-4CF1-BD48-EDD55C20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CC3-5264-407E-AD34-EE310162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E46-1660-4F90-8C65-BA4AF64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749-258D-46F2-96E2-CF6BEBD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A35-83B1-4D53-94D2-5B4141C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429-AA48-45D8-8B5B-11F7C7B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1CA-8499-49F9-8CC1-997DD75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8C8-162B-4827-9AFB-0226C09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AE4-AF07-4BEE-AC7D-2812C73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B725-0CAA-4CA0-BB1E-E3E2EA9C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ng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is determined by a grid system of intersecting circles on the earth’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north and south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ridian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east and west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lines from which coordinates are calc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qu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eat circle on the surface of the earth lying equidistant from the po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me Meridi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is the meridian passing through Greenwich, Engla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360 meridians of longitude which all converge a the true north and south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from 0-180 degrees east and west of the Prime Merid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e Meridian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80th meridian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Date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in degrees, minutes and seconds.   60’=1º &amp;  60’’=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80 parallels of la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measured from 0 to 90 degrees north or south of the equ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or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also expressed in degrees, minutes and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of latitude are parallel and are thus referred to as parallels.  Parallels of latitude do not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ition by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ition of anywhere on earth can be expressed as the intersection of a parallel of latitude and a meridian of longitu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is is done, the latitude is written first, followed by the longitude coordin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 Winnipeg is 49º 5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97º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19:38Z</dcterms:modified>
  <cp:revision>15</cp:revision>
  <dc:subject/>
  <dc:title>Navigating Position</dc:title>
</cp:coreProperties>
</file>