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C04-C31C-463E-922B-1D233B1F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E82-595F-4886-A4DF-C2F8DE5A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B0B-EC9E-42C3-8CCA-9A4CC6D4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1E4-E933-4FBB-A45A-0318D988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A0B-2C88-4589-8342-52F4F1D9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60F-5162-4B10-B875-316F972E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25A-DD6A-479D-A785-29E68FA7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626-C524-409C-8395-F7E1AE8A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82A-7AD1-4949-9391-24972CB6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687-D86D-4D5D-B9D1-6F606DEB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B09-2FCD-4925-91BC-D2C6F329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F57-9C69-4E8B-96F9-27AEF1E6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5651-F855-45F5-99AF-44316E3F3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e-flight Pr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563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on of a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 of wea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ation of map/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ation of flight lo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of NOT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ing of a flight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te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8129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plan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7162920" cy="5145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6200000">
            <a:off x="-1926000" y="2891880"/>
            <a:ext cx="49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light Plan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837640" y="0"/>
            <a:ext cx="1440" cy="678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326080" y="609840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8628120" y="22680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light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spect the flight pl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spect the airspace syste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 aware of checkpoi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ke route corrections    if necessa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26120" y="4114800"/>
            <a:ext cx="18129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5:12:40Z</dcterms:created>
  <dc:creator>RC Air Cadets</dc:creator>
  <dc:description/>
  <dc:language>en-US</dc:language>
  <cp:lastModifiedBy>dnd</cp:lastModifiedBy>
  <cp:lastPrinted>1999-03-02T19:32:52Z</cp:lastPrinted>
  <dcterms:modified xsi:type="dcterms:W3CDTF">1999-03-30T14:15:30Z</dcterms:modified>
  <cp:revision>13</cp:revision>
  <dc:subject/>
  <dc:title>Fuel Systems</dc:title>
</cp:coreProperties>
</file>