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7F49-9C64-439F-8324-7D7A591E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DE6C-E3F2-408A-A547-9FE6FF66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BF3E-676C-4B66-8A5C-7C0C5D44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B0C6-0F8E-4E08-BE00-CC8F7C42C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0D83-5D40-4693-998A-66AEC6A7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36BB-5C7D-488D-B2CC-74BFEF03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D8F3-638F-495C-90B2-5F80E156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2729-48FA-47CD-BEC0-7F8990CB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C0D6-E0AA-44F4-B667-C59A3FEE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C8E7-1518-4B1B-A50E-7B479856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CE93-2EDD-46ED-8C5F-E9E47EB0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3980-D986-4EDC-A667-5E8F969B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7DA2-5768-433F-9B00-B4F4794B0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The Ear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phere" descr=""/>
          <p:cNvPicPr/>
          <p:nvPr/>
        </p:nvPicPr>
        <p:blipFill>
          <a:blip r:embed="rId1"/>
          <a:srcRect l="7592" t="0" r="11411" b="4386"/>
          <a:stretch/>
        </p:blipFill>
        <p:spPr>
          <a:xfrm>
            <a:off x="2057400" y="1447920"/>
            <a:ext cx="5486400" cy="4976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flipH="1" flipV="1">
            <a:off x="3804120" y="1678320"/>
            <a:ext cx="87840" cy="22428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5469120" y="5416920"/>
            <a:ext cx="110880" cy="21420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09040" y="167652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556680" y="5578560"/>
            <a:ext cx="24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s in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erly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55720" y="137160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 P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5720" y="548640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th P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429000" y="5257800"/>
            <a:ext cx="1981080" cy="4572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81480" y="1693800"/>
            <a:ext cx="552240" cy="34596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5638320" y="1981080"/>
            <a:ext cx="1143000" cy="358164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885840" y="1752120"/>
            <a:ext cx="2895480" cy="2286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Magnetic Po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mag2" descr=""/>
          <p:cNvPicPr/>
          <p:nvPr/>
        </p:nvPicPr>
        <p:blipFill>
          <a:blip r:embed="rId1"/>
          <a:srcRect l="11629" t="0" r="16427" b="0"/>
          <a:stretch/>
        </p:blipFill>
        <p:spPr>
          <a:xfrm>
            <a:off x="1523880" y="1425600"/>
            <a:ext cx="617220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Vari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Vari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angle between the true meridian and the magnetic meridian.  Therefore, in the Northern Hemisphere, variation is the angle between true north and magnetic north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ines drawn on a chart joining places having the same variation are calle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sogonic lin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ines drawn on a chart joining places having no variation are calle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gonic lin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4T23:08:58Z</dcterms:created>
  <dc:creator>RCIS(A)</dc:creator>
  <dc:description/>
  <dc:language>en-US</dc:language>
  <cp:lastModifiedBy>dnd</cp:lastModifiedBy>
  <cp:lastPrinted>1999-03-26T20:28:20Z</cp:lastPrinted>
  <dcterms:modified xsi:type="dcterms:W3CDTF">1999-03-30T14:16:49Z</dcterms:modified>
  <cp:revision>36</cp:revision>
  <dc:subject/>
  <dc:title>Navigating Position</dc:title>
</cp:coreProperties>
</file>