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4BA-4386-4077-A78B-2172AEEC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482-6192-4FD1-ADB3-8EF1FC1E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020-478A-4BE5-AA24-BC2BC8B4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85D-C9BA-4AD2-B5FA-1404DDE9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BEA-9CB6-4D63-B5BB-4A17D105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F35-E89E-4063-A4C3-AF82CB76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C54-14A2-4643-958E-296A58CF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DF9-8BB6-4086-9EFD-A18251B5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62A-C4DC-4926-9AFD-C10E9A88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235-FF05-4A69-8849-8A81095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63C-8127-4CD3-BC0D-23B0D6C2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EA0-6CC4-43B1-8026-C09DC65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37B8-2209-44C7-B6CE-8F6292E88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ng Flank - Advancing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771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symbols5" descr=""/>
          <p:cNvPicPr/>
          <p:nvPr/>
        </p:nvPicPr>
        <p:blipFill>
          <a:blip r:embed="rId1"/>
          <a:srcRect l="10393" t="0" r="72858" b="12051"/>
          <a:stretch/>
        </p:blipFill>
        <p:spPr>
          <a:xfrm>
            <a:off x="4038480" y="5029200"/>
            <a:ext cx="50184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symbols4" descr=""/>
          <p:cNvPicPr/>
          <p:nvPr/>
        </p:nvPicPr>
        <p:blipFill>
          <a:blip r:embed="rId2"/>
          <a:srcRect l="19145" t="7718" r="64287" b="12051"/>
          <a:stretch/>
        </p:blipFill>
        <p:spPr>
          <a:xfrm>
            <a:off x="3962520" y="1371600"/>
            <a:ext cx="500040" cy="914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2666880"/>
            <a:ext cx="0" cy="22100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ng Flank - Retiring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4771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962520" y="5105520"/>
          <a:ext cx="6379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105520"/>
                    <a:ext cx="637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886200" y="1295280"/>
          <a:ext cx="6523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295280"/>
                    <a:ext cx="65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H="1" flipV="1">
            <a:off x="762120" y="2666520"/>
            <a:ext cx="1440" cy="22100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838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ng Flank when Moving to the Right in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01028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symbols5" descr=""/>
          <p:cNvPicPr/>
          <p:nvPr/>
        </p:nvPicPr>
        <p:blipFill>
          <a:blip r:embed="rId1"/>
          <a:srcRect l="13571" t="11776" r="0" b="67750"/>
          <a:stretch/>
        </p:blipFill>
        <p:spPr>
          <a:xfrm flipH="1">
            <a:off x="3962520" y="525780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416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3886200" y="1676520"/>
            <a:ext cx="914400" cy="506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 flipH="1">
            <a:off x="5638320" y="5791320"/>
            <a:ext cx="221004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838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ng Flank when Moving to the Left in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01028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505320" y="5257800"/>
          <a:ext cx="10666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5257800"/>
                    <a:ext cx="1066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3429000" y="1447920"/>
          <a:ext cx="99072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447920"/>
                    <a:ext cx="990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 flipV="1">
            <a:off x="5867280" y="5638320"/>
            <a:ext cx="221004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524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41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6688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05320" y="2971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053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19720" y="2971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197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4120" y="2971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41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220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752480" y="2133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75212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752120" y="2133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8288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9807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1333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90476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90476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668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666880" y="2133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66652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666520" y="2133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7432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8951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77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81916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81916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053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504960" y="2133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0496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5053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5812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7339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8858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36576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6572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197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419360" y="2133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41936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4197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956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6483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8002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5720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5716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41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333760" y="2133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33376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3341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4100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5627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714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4864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4860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172200" y="2133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7184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617220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2485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640044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5530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3244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32412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5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43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954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71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81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57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6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197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48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00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17220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48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244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00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77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553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294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28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341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10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864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562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638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91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5:23:34Z</dcterms:created>
  <dc:creator>DND</dc:creator>
  <dc:description/>
  <dc:language>en-US</dc:language>
  <cp:lastModifiedBy>DND</cp:lastModifiedBy>
  <cp:lastPrinted>1999-03-25T14:15:50Z</cp:lastPrinted>
  <dcterms:modified xsi:type="dcterms:W3CDTF">1999-03-25T17:59:38Z</dcterms:modified>
  <cp:revision>21</cp:revision>
  <dc:subject/>
  <dc:title>No Slide Title</dc:title>
</cp:coreProperties>
</file>