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598-DEC8-4FCA-A372-9425D1C4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C68-AF17-426A-B9D3-2C175D5B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CA7-14B4-4EDD-8B7E-3927C108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8BB-38F3-48D4-8634-0F74661B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40B-8E07-47B9-AAA9-C7AC11C7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AA8-91C9-4045-A5B8-E9062091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0C6-FAE4-4A43-875A-5BAD81D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19E-01A1-43C9-8447-2F293710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0E1-50B8-4E76-8027-FAB9656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49B-F47D-4F9A-B335-5F76EA6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E6A-77FE-4816-A014-D2DE09D5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89-B6AE-4C2C-88D2-36ED3E7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041-54C0-4CD2-B464-CCC05B03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620120" y="2514600"/>
            <a:ext cx="122868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RECTIONS AND RE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RRECTING THE WORD “CORRECTION”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SKING FOR SOMETHING TO BE REPEATED THE WORDS “SAY AGAIN”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ET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SNA GOLF ALPHA TANGO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Y FOR TAKE OFF ON RUNWAY ZERO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RIGHT TURN OUT-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4281480"/>
            <a:ext cx="36576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15:04Z</dcterms:created>
  <dc:creator>DND</dc:creator>
  <dc:description/>
  <dc:language>en-US</dc:language>
  <cp:lastModifiedBy>dnd</cp:lastModifiedBy>
  <dcterms:modified xsi:type="dcterms:W3CDTF">1999-03-30T18:31:59Z</dcterms:modified>
  <cp:revision>8</cp:revision>
  <dc:subject/>
  <dc:title>REPLYING</dc:title>
</cp:coreProperties>
</file>