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588-CD72-4317-844D-B4B2AFB1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B44-A5B0-4FA1-9254-D0CE408C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B0B-BFE2-45A5-8089-9FACFEF5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71A-03E7-40EC-8F84-2EC06885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6C9-DAF3-430E-8470-5EF1BE17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F66-A9D1-4847-AEF5-A4F18C30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F97-6A5A-4D6A-B621-204F330B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8AD-DCBF-41D8-AF9A-37AD6FA2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111-598C-4C74-836F-6509947E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4DD-C04C-4251-A53E-4B8CBFA4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94C-5BD5-4B10-8989-4D7811C1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471-8B93-4728-825C-CA4BF5B3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13E0-6261-4922-B4E6-DBDC875DB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lonce feen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 P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rega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0" y="21337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 on (frequenc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poken word for Urgenc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coding, check text wi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ginator and send correct ver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international expression for a distre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cellation. The aeronautical expression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DISTRESS TRAFFIC ENDED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 that message as not s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poken word for distre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77120"/>
            <a:ext cx="1339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6553080"/>
            <a:ext cx="1828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2 - Mini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2193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ch the procedural word or phrase with its definition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5:45:02Z</dcterms:created>
  <dc:creator>DND</dc:creator>
  <dc:description/>
  <dc:language>en-US</dc:language>
  <cp:lastModifiedBy>dnd</cp:lastModifiedBy>
  <dcterms:modified xsi:type="dcterms:W3CDTF">1999-03-30T15:39:25Z</dcterms:modified>
  <cp:revision>3</cp:revision>
  <dc:subject/>
  <dc:title>PROCEDURAL WORDS AND        PHRASES Match the procedural word or phrase with its definition. Name:_________</dc:title>
</cp:coreProperties>
</file>