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C3A-45A0-4C05-BD58-E3ED6222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A9D-F89B-4B4C-8727-B7419B6A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1BF-2293-4D80-A2BE-379B6568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BB3-B8C4-4880-A106-25FBF681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EA4-7B96-4518-AEFB-1323CF42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895-F277-4997-BCA1-C28FE710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3F9-4DF0-4E36-8074-C93BD1E2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793-BFDC-490F-A91D-391E6999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FDC-78B0-42E6-92E6-930A6047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438-EB81-4C73-A8C4-B94CF393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2AD-92D7-46D1-A561-3ECB9990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1A4-EE8E-4937-A304-1500F83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2F6B-844A-4BAD-816F-BB9E4224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3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Answer Key  - Order Giving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505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3809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4419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24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286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2895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895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505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590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3809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286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5334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1676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638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334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809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590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2286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2895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505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4419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724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5029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5334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286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676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1066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895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3T12:02:14Z</dcterms:modified>
  <cp:revision>28</cp:revision>
  <dc:subject/>
  <dc:title>No Slide Title</dc:title>
</cp:coreProperties>
</file>