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079-4C98-4986-8DCD-77EC981C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6A5-D74C-4C49-9FC9-C9D832C1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F9E-797B-4C1F-8A83-C2216618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C86-53A9-4FEE-9E2F-0181AE4E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1A1-2754-4537-9227-63522D3F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068-044F-4976-BA57-DF996446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84C-9183-4F95-B2F9-1D9332F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43A-377D-44BF-A335-9496F8AB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807-E54B-4080-9927-6D94A71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B83-6BAA-44C3-9C7D-BE5E3B4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B96-E4E3-4EFF-AEFA-A12CC35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6B0-7611-4798-8938-32B1F32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59B5-CF73-4973-BDD2-EF8C43A9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 Answer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56:30Z</dcterms:created>
  <dc:creator>dnd</dc:creator>
  <dc:description/>
  <dc:language>en-US</dc:language>
  <cp:lastModifiedBy>dnd</cp:lastModifiedBy>
  <dcterms:modified xsi:type="dcterms:W3CDTF">1999-02-24T19:29:48Z</dcterms:modified>
  <cp:revision>2</cp:revision>
  <dc:subject/>
  <dc:title>No Slide Title</dc:title>
</cp:coreProperties>
</file>