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EC19-C787-46B0-9774-71AAE78B2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8064-886F-47F3-ACBE-3EEAFA73C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C058-A44C-43B5-B4A2-C011A396F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18BC-15C7-484C-BF61-2EFC69D4A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6CFA-441D-47E5-AAF0-20960023A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261E-8523-4E67-84A4-769AE0A40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F4DE-A930-4DC2-A1AD-C5B934E0D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8C34-7E7C-4F26-AF33-D912941F3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D826-DF24-4B79-AB87-7EABE46FE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F2DD-D89C-4B41-94C5-68C87123B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D074-3894-4832-987B-2D6E478DD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952D-B2AC-452C-A2A1-CD0A42EA2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1BC18-1597-43CE-940B-49ED760FA3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1219320"/>
            <a:ext cx="8763120" cy="47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– Alph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– Indi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 – Queb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Y – Yank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 – Brav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 – Julie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 – Rome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Z - Zul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– Charli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 – Kil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 – Sier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 – Delt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 – Lim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 – Tan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 – Ech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 – Mik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 – 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 – Foxtro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 – Novemb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 – Vi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 – Gol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– Osc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 – Whis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 – Hote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 – Pap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– X-ra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PHONETIC ALPHAB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320" y="647712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-1440" y="6477120"/>
            <a:ext cx="1343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8.01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477120" y="6477120"/>
            <a:ext cx="2514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ndout #1/OHP #1 - Review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radio" descr=""/>
          <p:cNvPicPr/>
          <p:nvPr/>
        </p:nvPicPr>
        <p:blipFill>
          <a:blip r:embed="rId1"/>
          <a:srcRect l="0" t="0" r="62520" b="63307"/>
          <a:stretch/>
        </p:blipFill>
        <p:spPr>
          <a:xfrm>
            <a:off x="6553080" y="3048120"/>
            <a:ext cx="2283120" cy="167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NUMB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1219320"/>
            <a:ext cx="2819520" cy="499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 - ZEE-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- W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 - TO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 - 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 - FOW-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276720" y="1219320"/>
            <a:ext cx="35049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 - FIF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 - SI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 - SEV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 - A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 - NIN-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comsqn" descr=""/>
          <p:cNvPicPr/>
          <p:nvPr/>
        </p:nvPicPr>
        <p:blipFill>
          <a:blip r:embed="rId1"/>
          <a:srcRect l="0" t="0" r="76968" b="53138"/>
          <a:stretch/>
        </p:blipFill>
        <p:spPr>
          <a:xfrm>
            <a:off x="5238720" y="1676520"/>
            <a:ext cx="3905280" cy="34146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-1440" y="6477120"/>
            <a:ext cx="1343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8.01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6320" y="647712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477120" y="6477120"/>
            <a:ext cx="2514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ndout #1/OHP #2 - Review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14T15:32:14Z</dcterms:created>
  <dc:creator>DND</dc:creator>
  <dc:description/>
  <dc:language>en-US</dc:language>
  <cp:lastModifiedBy>dnd</cp:lastModifiedBy>
  <cp:lastPrinted>1999-01-14T15:52:08Z</cp:lastPrinted>
  <dcterms:modified xsi:type="dcterms:W3CDTF">1999-03-30T15:43:57Z</dcterms:modified>
  <cp:revision>11</cp:revision>
  <dc:subject/>
  <dc:title>PHONETIC ALPHABET</dc:title>
</cp:coreProperties>
</file>