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D69-A122-4D7E-9A17-88DA5869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B33-9EA9-46CC-933D-3EA83A61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AB4-3C5A-4653-9BE8-F6DA0A6C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81C-ED14-4210-A04B-50A10F3D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5EF-DBCF-4EDC-BAB9-E84C090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0D5-E714-40D8-9BAE-CBDF4CE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9FF-FABC-447E-9D81-7006C834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60A-9922-4B64-89FD-03DBCE1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D23-D224-446F-85BA-BA2AFF91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FE2-E248-4AE2-BD6E-6E719CD0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8DC-60D4-4ED5-A411-6B355EC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580-3977-4B1B-8B62-C0EC9048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6BFF-00D0-4F43-BC73-416078702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434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712960" cy="331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228600"/>
            <a:ext cx="815364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E THREE STY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52480" y="2286000"/>
          <a:ext cx="221004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221004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85840" y="236232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nsure obedie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stablishes procedures to be followed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makes the decis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2133720"/>
          <a:ext cx="135756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33720"/>
                    <a:ext cx="13575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AUTOCRAT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0"/>
          <a:ext cx="31305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31305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809880" y="2209680"/>
            <a:ext cx="518184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roup particip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ncourage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ment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s and suggestions obtai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group discuss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EMOCRAT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FREE-REI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438280"/>
          <a:ext cx="190512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19051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590920" y="2133720"/>
          <a:ext cx="76176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133720"/>
                    <a:ext cx="761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657600" y="1981080"/>
            <a:ext cx="5486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only in certain situa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is a sourc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xerts only a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ontrol over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the initiative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to get thing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765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OCRATIC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hostile and dependant pers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co-operative and team-spirited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the individualist and the l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8600"/>
            <a:ext cx="8534520" cy="1752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O TO USE THREE STYLES OF LEADERSHIP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22T17:20:33Z</cp:lastPrinted>
  <dcterms:modified xsi:type="dcterms:W3CDTF">1999-03-25T13:58:27Z</dcterms:modified>
  <cp:revision>15</cp:revision>
  <dc:subject/>
  <dc:title>No Slide Title</dc:title>
</cp:coreProperties>
</file>