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53-668B-4566-89F1-70EBC31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686-33CA-4A6F-9042-DB91F74F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D74-328F-4B18-92AC-BA5FDDF9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205-CA31-46C1-BD66-0EC7EC38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D4E-D9EE-483D-95E7-A07045A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65D-3413-4641-AE8A-39A232B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4BB-E18F-4438-AD33-285AA2F3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19C-0FE6-4CDD-A426-3A79B95D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22B-3C9B-4D3C-B574-4E224DD6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FAB-5C7E-406E-98A7-6D667A0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1DA-34CA-4906-B704-95C49A9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6F3-8380-478C-914F-878233B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6252-170C-4C08-B497-DC7BAC57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6572160"/>
            <a:ext cx="1016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33148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organize your less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remain faithful to the objecti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an occasional reminder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protection against stage frigh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lap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160"/>
            <a:ext cx="76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 LESS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51:01Z</cp:lastPrinted>
  <dcterms:modified xsi:type="dcterms:W3CDTF">1999-03-10T00:51:03Z</dcterms:modified>
  <cp:revision>34</cp:revision>
  <dc:subject/>
  <dc:title>No Slide Title</dc:title>
</cp:coreProperties>
</file>