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C885-74EC-4BB5-8E6B-7DDF64B4B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F39D-D118-4719-9BF3-11CCB7DE4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D23A-83B5-4C9A-86EF-5436A87A2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0DAC-50A1-4C41-9B6F-E80A64A4A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2C20-A327-4710-9E1D-AF36AE0FE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B17F-B75A-4405-9FA9-45E342319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6184-B76A-4B33-B6BD-9601F161C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A7B4-287D-4B28-85C6-AE5C41C35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2241-B94C-4DDB-9F17-C79747BE4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5B14-C428-4444-ACF8-0CEE25B0C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A6BB-0C50-4E32-B99B-B7CBA098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CC62-B77B-44FE-B0F4-9D01D1EE1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C96FB-081E-4956-8DBB-45869050E9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irfoil4" descr=""/>
          <p:cNvPicPr/>
          <p:nvPr/>
        </p:nvPicPr>
        <p:blipFill>
          <a:blip r:embed="rId1"/>
          <a:stretch/>
        </p:blipFill>
        <p:spPr>
          <a:xfrm>
            <a:off x="290520" y="2274840"/>
            <a:ext cx="8853480" cy="30592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657600" y="5105520"/>
            <a:ext cx="304920" cy="609480"/>
          </a:xfrm>
          <a:prstGeom prst="upArrow">
            <a:avLst>
              <a:gd name="adj1" fmla="val 50000"/>
              <a:gd name="adj2" fmla="val 499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757400">
            <a:off x="3656880" y="1981080"/>
            <a:ext cx="304920" cy="6098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590920" y="5715000"/>
            <a:ext cx="270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 PRES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90920" y="1523880"/>
            <a:ext cx="270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W PRES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58840" y="152280"/>
            <a:ext cx="505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Lift Produc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6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6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349360" y="152280"/>
            <a:ext cx="456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The Propell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rop" descr=""/>
          <p:cNvPicPr/>
          <p:nvPr/>
        </p:nvPicPr>
        <p:blipFill>
          <a:blip r:embed="rId1"/>
          <a:srcRect l="0" t="0" r="2656" b="0"/>
          <a:stretch/>
        </p:blipFill>
        <p:spPr>
          <a:xfrm>
            <a:off x="152280" y="2268360"/>
            <a:ext cx="8839440" cy="2536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286000" y="266688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02520" y="2286000"/>
            <a:ext cx="10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318120" y="228600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635800" y="228600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804440" y="2346480"/>
            <a:ext cx="5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733920" y="2666880"/>
            <a:ext cx="60948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5638320" y="2666880"/>
            <a:ext cx="381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187120" y="2696040"/>
            <a:ext cx="542160" cy="703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6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20760" y="76320"/>
            <a:ext cx="501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ropeller Pitc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tch" descr=""/>
          <p:cNvPicPr/>
          <p:nvPr/>
        </p:nvPicPr>
        <p:blipFill>
          <a:blip r:embed="rId1"/>
          <a:srcRect l="4337" t="7213" r="0" b="7213"/>
          <a:stretch/>
        </p:blipFill>
        <p:spPr>
          <a:xfrm>
            <a:off x="2357280" y="1117440"/>
            <a:ext cx="5091120" cy="53596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603680" y="3417840"/>
            <a:ext cx="276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NGITUDINAL AX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705200" y="166536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E OF RO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77600" y="1117440"/>
            <a:ext cx="202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DE ANG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ITC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itc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the forward distance traveled by the propeller in one revolution.  It is defined by the blade angl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n the propeller blade is set at a large angle it is called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ourse pitc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n the propeller blade is set at a small angle it is called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ne pitc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6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TYPES OF PROPELL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95280" y="1599840"/>
            <a:ext cx="65534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xed-pit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justable-pit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ollable-Pitch Propell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tant Speed Propell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6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13:18:58Z</dcterms:created>
  <dc:creator>RC Air Cadets</dc:creator>
  <dc:description/>
  <dc:language>en-US</dc:language>
  <cp:lastModifiedBy>dnd</cp:lastModifiedBy>
  <cp:lastPrinted>1999-03-26T19:50:36Z</cp:lastPrinted>
  <dcterms:modified xsi:type="dcterms:W3CDTF">1999-03-30T13:05:48Z</dcterms:modified>
  <cp:revision>8</cp:revision>
  <dc:subject/>
  <dc:title>No Slide Title</dc:title>
</cp:coreProperties>
</file>