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CB9-20E2-44D9-B6F7-31D489E5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68F-90F4-4227-A4C6-F8B192E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C9D-A32A-4CBD-96C1-E0608DE2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AAC-52FC-411D-A7AA-452799C4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F67-0233-43FD-8C10-835A54F0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2F1-1E58-4568-AD3B-728A656B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027-AC6D-47E0-8E15-2BF9E5E0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13E-ABE5-4E16-817D-7E4BA356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6E9-F40A-4ED9-BB12-138D76B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703-EDA3-4075-9AA0-464B5EC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556-D41C-4C91-9758-90AC5EB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6F5-4A5D-4B4A-AD6C-ABAE9B5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35E-5FA5-47F5-B989-E082424AB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arts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838080"/>
            <a:ext cx="6467400" cy="570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e and Maintenance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your compass with resp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extremes of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not to drop or bang your compass - use the safety 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5360" y="235728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2336760"/>
            <a:ext cx="421020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arts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mpass1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0104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21960" y="6613560"/>
            <a:ext cx="102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9T14:02:26Z</dcterms:created>
  <dc:creator>Valued Customer</dc:creator>
  <dc:description/>
  <dc:language>en-US</dc:language>
  <cp:lastModifiedBy>DND</cp:lastModifiedBy>
  <cp:lastPrinted>1999-01-12T15:47:50Z</cp:lastPrinted>
  <dcterms:modified xsi:type="dcterms:W3CDTF">1999-01-12T17:04:26Z</dcterms:modified>
  <cp:revision>18</cp:revision>
  <dc:subject/>
  <dc:title>The Parts of the Compass</dc:title>
</cp:coreProperties>
</file>