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65B-5B9B-4E29-8BC6-68DC15E8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27C-575A-4C8C-8DCA-C79D00BB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54F-61F4-42C7-8A5D-B88CF468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404-CACD-4B64-BAFF-5192C129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F26-9A07-42FF-9049-EC23EE16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D5C-FDFA-4D80-98BA-711DAB5A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7E2-8B42-4AD8-B553-D582A2C5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9E3-89F1-44A5-88F2-31833E50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19B-7576-4E0A-A9A3-6315C6D7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532-B4C8-4C67-B906-7EBCBDBC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530-A312-4B6E-BB52-06B2BA68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B9C-F3CB-46EF-969C-929A1135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9030-1550-4E9C-A80C-A15E521FD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Points of the Compas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s of the compass divide up a circl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circle has 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6400 m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s read clock-wise from North 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rdinal Poin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/4 ci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th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/2 ci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7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3/4 ci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43480" y="1371600"/>
            <a:ext cx="4243320" cy="428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Points of the Compas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rdinal points are further divided into 1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tters representing North, South, East and West are comb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SE for South East: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th and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E for South South Ea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South and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st the car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first then the inter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37960" y="4952880"/>
          <a:ext cx="37152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4952880"/>
                    <a:ext cx="371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267080" y="1219320"/>
            <a:ext cx="471024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at is Magnetic Declin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293840"/>
            <a:ext cx="3810240" cy="50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ue North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North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rge magnetic field in the Canadain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e and Magnetic North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n the same pla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The difference between them is an error that can be corr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correction is called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eclin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60720" y="1827360"/>
            <a:ext cx="480060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600" y="1600200"/>
            <a:ext cx="121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ue 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2438280"/>
            <a:ext cx="1066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gnetic 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373392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. John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1600200"/>
            <a:ext cx="1600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angle created by the lines is an error, or the Magnetic Declination for St. John’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Points of the Compass -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343400" y="966960"/>
          <a:ext cx="68580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966960"/>
                    <a:ext cx="685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014640" y="990720"/>
          <a:ext cx="6397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4640" y="990720"/>
                    <a:ext cx="639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870200" y="2209680"/>
          <a:ext cx="6444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0200" y="2209680"/>
                    <a:ext cx="64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781680" y="5029200"/>
          <a:ext cx="1067040" cy="43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5029200"/>
                    <a:ext cx="10670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1680" y="1219320"/>
          <a:ext cx="569880" cy="90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1219320"/>
                    <a:ext cx="5698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752480" y="4343400"/>
          <a:ext cx="68580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4343400"/>
                    <a:ext cx="6858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305240" y="5791320"/>
          <a:ext cx="711360" cy="68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05240" y="5791320"/>
                    <a:ext cx="711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075440" y="3276720"/>
          <a:ext cx="620640" cy="74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75440" y="3276720"/>
                    <a:ext cx="6206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2666880" y="1623960"/>
            <a:ext cx="4114800" cy="4052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9T14:02:26Z</dcterms:created>
  <dc:creator>Valued Customer</dc:creator>
  <dc:description/>
  <dc:language>en-US</dc:language>
  <cp:lastModifiedBy>DND</cp:lastModifiedBy>
  <cp:lastPrinted>1999-01-12T17:49:30Z</cp:lastPrinted>
  <dcterms:modified xsi:type="dcterms:W3CDTF">1999-01-12T17:55:08Z</dcterms:modified>
  <cp:revision>17</cp:revision>
  <dc:subject/>
  <dc:title>The Parts of the Compass</dc:title>
</cp:coreProperties>
</file>