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004-CE62-4E75-8D0C-C23134F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E31-192F-404A-9A5D-EA58D12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186-6F8D-4252-8156-E85DC4B1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B13-937E-4AF6-B4E4-F150D804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0F3-6700-4AB6-80C0-6E1E923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48E-BF99-4E5F-8634-0C87AA6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804-257B-4D3C-97F2-442EA10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B5A-DC7F-4989-80DE-03071C0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66E-613B-443B-869E-0917448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B75-1C5F-49AF-BC11-2546F9E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B23-1660-401C-918C-599CCF5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879-CBFE-466D-A452-0445BC9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AEB-DCA3-4659-80CC-F0614A019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LL LESSON H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90988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471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E.E.R.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17680" cy="395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e the movement taught and the reason for teach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level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next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8130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9:07:22Z</dcterms:created>
  <dc:creator>DND</dc:creator>
  <dc:description/>
  <dc:language>en-US</dc:language>
  <cp:lastModifiedBy>DND</cp:lastModifiedBy>
  <cp:lastPrinted>1999-02-09T14:34:26Z</cp:lastPrinted>
  <dcterms:modified xsi:type="dcterms:W3CDTF">1999-03-25T18:01:04Z</dcterms:modified>
  <cp:revision>8</cp:revision>
  <dc:subject/>
  <dc:title>DRILL LESSON HEADINGS</dc:title>
</cp:coreProperties>
</file>