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8DD-2A70-476E-B8FA-9FDA7BB4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E69-E1B1-4EBF-8632-977E60C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A92-1F50-467D-97BF-8D8FE225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B9C-6FC3-4E62-9541-236D1F3A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AFA-B674-4A45-A76F-EB2AF6B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EA4-CFF1-4F16-8CE1-0A646312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DEE-8C91-454C-8C9C-98950C52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E7E-E924-4D11-96D2-F3C73005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FAB-0B3E-4A8E-BA92-3327A0F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633-DEFD-4E0E-8FF7-9CC2CA7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BE9-DB3C-4D7C-A019-1E370BB8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622-2588-4AD9-8531-3729B0C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45F-858D-411A-9938-28935DFD8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14400" y="2209680"/>
          <a:ext cx="4722840" cy="5257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209680"/>
                    <a:ext cx="4722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9:37Z</dcterms:modified>
  <cp:revision>12</cp:revision>
  <dc:subject/>
  <dc:title>No Slide Title</dc:title>
</cp:coreProperties>
</file>