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2432-DFEB-41F3-8225-3AD38A8DA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DC5A-6D19-4B86-81DE-9A30CB5D7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9C87-EE2B-4C7C-8459-79B6F949A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3B17-17DA-4B71-9157-2F2A5AB8A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75AE-7586-43C2-92FB-F5496DD69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69AB-DB27-42A3-935E-D1CED1F32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1FF3-EA18-40F7-9AF8-F84C3FBCD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A4AF-B9D0-40C7-9F11-80F59A531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414B-DC45-449B-B1AF-A531AFA81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9768-AC0C-4C91-B081-404F27589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B45A-80D3-4DEB-8081-CB1AD47F9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31D5-DEB6-4D99-83CA-8E85ED388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20AE5-1582-4755-8151-75AB222947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URGENCY EXAMPLE 1</a:t>
            </a: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IRCRAFT CALL WARNING OTHER AIRCRA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N-PAN-PAN-CLEVELAND TOWER-THIS IS DE HAVILLAND FOXTROT GOLF FOXTROT ECHO-ADVISE STINSON FOUR NINE ONE NOVEMBER THAT HIS UNDERCARAGE IS DAMAGED-OV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153280" y="6545160"/>
            <a:ext cx="838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ndout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0T18:27:14Z</dcterms:created>
  <dc:creator>DND</dc:creator>
  <dc:description/>
  <dc:language>en-US</dc:language>
  <cp:lastModifiedBy>dnd</cp:lastModifiedBy>
  <dcterms:modified xsi:type="dcterms:W3CDTF">1999-03-30T18:21:41Z</dcterms:modified>
  <cp:revision>2</cp:revision>
  <dc:subject/>
  <dc:title>URGENCY EXAMPLE 1 AIRCRAFT CALL WARNING OTHER AIRCRAFT</dc:title>
</cp:coreProperties>
</file>