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025-AE77-439D-BD87-45D02F20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22A-ED04-451E-AB50-C12F5CD4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CC4-52F8-4A22-90D5-23562B3A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8D2-AE32-4E08-9B7F-B0851FEC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FDA-EE9A-4EED-84E1-17D5DC30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5FD-268D-4D36-9C16-D51E06D4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3EB-3BA0-498B-9CDD-44870375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D6F-EF30-481D-90C9-AA2A754D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1C6-C024-48ED-8DE0-1276421B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0FC-04C5-4794-B3EF-A0653CF7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E5F-FA92-49DA-890F-E27777F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4A9-F34B-433C-AFD7-734161D0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D200-3B95-459A-81CB-6B82F6F64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EXAMPLE 3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CRAFT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-PAN-PAN-THIS IS PIPER GOLF DELTA BRAVO KILO-EXPERIENCING PARTIAL ENGINE FAILURE-WILL LAND-ASSISTANCE NOT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838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27:14Z</dcterms:created>
  <dc:creator>DND</dc:creator>
  <dc:description/>
  <dc:language>en-US</dc:language>
  <cp:lastModifiedBy>dnd</cp:lastModifiedBy>
  <dcterms:modified xsi:type="dcterms:W3CDTF">1999-03-30T18:20:06Z</dcterms:modified>
  <cp:revision>2</cp:revision>
  <dc:subject/>
  <dc:title>URGENCY EXAMPLE 1 AIRCRAFT CALL WARNING OTHER AIRCRAFT</dc:title>
</cp:coreProperties>
</file>