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87A65-50B3-47B9-8D60-1A815A675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800F-049E-4091-B0AF-82B1306B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1D00-4E92-4F18-9FB9-D816029CD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1304F-A3B3-4421-86EF-EED80DDE4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A81F0-237F-4C8A-9AD4-B17BAC18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B3555-2F4F-4740-8476-B637C3D7B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53CD4-3EC3-4896-9CC7-2970DF94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1F69-75A6-4A9C-A58F-645DB3E8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C7A1-A843-4AFA-B086-8363F430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2BAF-6881-4277-ACFF-9A5AE6FE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878DC-B953-45A1-8C41-6CC28E30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D947-16B4-4174-BB36-D0A9CA58D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AE75-7955-40C1-9728-9C94FAD96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he Carburetor</a:t>
            </a:r>
            <a:endParaRPr b="0" lang="en-US" sz="5400" spc="-1" strike="noStrike">
              <a:solidFill>
                <a:srgbClr val="000000"/>
              </a:solidFill>
              <a:latin typeface="Times New Roman"/>
            </a:endParaRPr>
          </a:p>
        </p:txBody>
      </p:sp>
      <p:sp>
        <p:nvSpPr>
          <p:cNvPr id="4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nction of the carburetor is to measure the correct quantity of gasoline, vapourize this fuel, mix it with air in the proper proportion and deliver the mixture to the cylinder.</a:t>
            </a:r>
            <a:endParaRPr b="0" lang="en-US" sz="36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45"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ixture</a:t>
            </a:r>
            <a:endParaRPr b="0" lang="en-US" sz="5400" spc="-1" strike="noStrike">
              <a:solidFill>
                <a:srgbClr val="000000"/>
              </a:solidFill>
              <a:latin typeface="Times New Roman"/>
            </a:endParaRPr>
          </a:p>
        </p:txBody>
      </p:sp>
      <p:sp>
        <p:nvSpPr>
          <p:cNvPr id="47"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bustion process in the cylinder relies on a proper mixture of fuel and air to achieve maximum efficiency.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rich mixture</a:t>
            </a:r>
            <a:r>
              <a:rPr b="0" lang="en-US" sz="3000" spc="-1" strike="noStrike">
                <a:solidFill>
                  <a:srgbClr val="000000"/>
                </a:solidFill>
                <a:latin typeface="Arial"/>
              </a:rPr>
              <a:t> refers to a high ratio of fuel per volume of air.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lean mixture</a:t>
            </a:r>
            <a:r>
              <a:rPr b="0" lang="en-US" sz="3000" spc="-1" strike="noStrike">
                <a:solidFill>
                  <a:srgbClr val="000000"/>
                </a:solidFill>
                <a:latin typeface="Arial"/>
              </a:rPr>
              <a:t> refers to a low ratio of fuel per volume of air.</a:t>
            </a:r>
            <a:endParaRPr b="0" lang="en-US" sz="30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50"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1T15:12:40Z</dcterms:created>
  <dc:creator>RC Air Cadets</dc:creator>
  <dc:description/>
  <dc:language>en-US</dc:language>
  <cp:lastModifiedBy>dnd</cp:lastModifiedBy>
  <cp:lastPrinted>1999-03-01T15:37:14Z</cp:lastPrinted>
  <dcterms:modified xsi:type="dcterms:W3CDTF">1999-03-30T13:10:14Z</dcterms:modified>
  <cp:revision>6</cp:revision>
  <dc:subject/>
  <dc:title>Fuel Systems</dc:title>
</cp:coreProperties>
</file>