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48F-FA03-45B3-8659-9D484FBD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AA6-94BE-4878-B466-ED7E2A23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586-BC10-4BEA-B91F-CFA687BE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552-9321-4273-B4C0-7E1CB7EB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256-1F2D-4A2A-B39C-1C59B688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738-3D06-474D-87AE-3C599270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548-AD70-448B-9BB7-1A7F5D41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07E-BC7C-4F44-94EF-D39AA1E8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3D3-5A2B-43F2-A872-CBCF5FE9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149-5BDD-4702-A5F1-FDA47656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E26-0F46-47DA-BE57-F9C2D04F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226-0236-43D2-BFA9-5A1437B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9C1-6096-452E-A265-D17A61CEE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TP is a document that contains, in detail, all the instructional objectives on which you must base your train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kept, normally, in the Training Office and there is one for each level of train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 in the CTP must be followed to the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TP follows national standards that are identical for every squadron in Canad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3049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COURSE TRAINING PLAN (CTP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5238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COURS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COURSE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ASSESSMENT OF CAD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PERFORMANC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5562720"/>
            <a:ext cx="187344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09480" y="304920"/>
            <a:ext cx="8001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CRIPTION OF TRAINING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4479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ERFORMANCE OBJECTIVE DESCRIBE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FORMAN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QUIRED OF EACH CADET IN ORDER TO PASS A PARTICULAR COURSE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4572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RFORMANCE OBJECTIVE (PO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9528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COURSE IS DIVIDED INTO SEVERAL LESSONS. THESE LESSONS CONTAIN THE MATERIAL THE CADETS MUST KNOW TO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M TO PASS THE COURS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 408, FOR EXAMPLE, IS DIVIDED INTO 5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EO IS IDENTIFIED BY A NUMBER THAT ALWAYS FOLLOWS THE CORRESPONDING PO NUMBER.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/EO 408.O1 -  IDENTIFY THE PRINCIP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OF LEADER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ABLING OBJECTIVE (EO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21:19:45Z</cp:lastPrinted>
  <dcterms:modified xsi:type="dcterms:W3CDTF">1999-03-11T21:20:18Z</dcterms:modified>
  <cp:revision>36</cp:revision>
  <dc:subject/>
  <dc:title>No Slide Title</dc:title>
</cp:coreProperties>
</file>