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23E-2700-4AE9-8EA5-B43FF77E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9AD-6B93-481D-957A-1548A09E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D34-4A24-4CEA-8F90-F04A2DA6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903-7711-4F46-8DAE-B028D13F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253-18CD-44F1-9E8C-E2B8FA8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F9B-ABC8-48AC-9D9A-7B4FB43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E62-342E-4572-BF8C-2FD7DC3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79D-5E55-4A01-B6FE-8261A24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4B7-C11E-4752-A2B9-57591C4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BD9-BCE4-4926-885F-F997CE3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DAB-B078-4CD2-9892-A35FF82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EEE-4365-4614-B3E8-BAB2077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21E-9491-44FD-8554-6F31DDCD7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12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31:57Z</dcterms:modified>
  <cp:revision>20</cp:revision>
  <dc:subject/>
  <dc:title>No Slide Title</dc:title>
</cp:coreProperties>
</file>