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ED7-AD6D-4318-9A5C-74778B8C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243-C3BA-42AF-B0D8-382136C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1FC-929A-459B-8671-FD72FC71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AF6-8700-4D94-8869-63262F68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FA1-F7B5-4933-8F1D-5711BDF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AAD-5C92-4C4E-8D3D-2944423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CBA-E808-4355-94D4-062A2419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826-9EB5-498D-9192-40E627BC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889-4EE9-4702-887B-D3F65D38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943-46D7-48DF-AC55-CEDE173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D51-4B65-4AD9-B68B-B9FBEEA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C34-495D-44C2-9C2C-E5004EF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E2CF-1084-43E7-9D4C-FC0599F43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position of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dicate the distance along the X axi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dicate the distance along the Y axis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combination of X-Y is the location of A.  (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3352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181480" y="17524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333760" y="1752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3760" y="5334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33412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9528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50292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2432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3716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562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9528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81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2  3  4  5  6  7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209680"/>
            <a:ext cx="3049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8 7 6 5 4 3 2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62940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20574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0572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1600200"/>
            <a:ext cx="83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5228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stings and Nor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724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124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0574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672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8288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019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 R T H  I  N 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828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38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971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053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05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864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      73       74       75       76    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28954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from North to South. They are numbered from 00 to 99 and read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 from East to West. They are numbered from 00 to 99 and read from top to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er of Working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3000"/>
            <a:ext cx="327636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a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way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id Reference.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r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cond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. 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In the house and up the stai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01652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7720" y="990720"/>
            <a:ext cx="57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gt Smith find tan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81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895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862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867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53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172200"/>
            <a:ext cx="640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               27              28               29             30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09880"/>
            <a:ext cx="5106960" cy="1906560"/>
          </a:xfrm>
          <a:custGeom>
            <a:avLst/>
            <a:gdLst/>
            <a:ahLst/>
            <a:rect l="l" t="t" r="r" b="b"/>
            <a:pathLst>
              <a:path w="3217" h="1201">
                <a:moveTo>
                  <a:pt x="0" y="1200"/>
                </a:moveTo>
                <a:lnTo>
                  <a:pt x="192" y="1008"/>
                </a:lnTo>
                <a:lnTo>
                  <a:pt x="480" y="912"/>
                </a:lnTo>
                <a:lnTo>
                  <a:pt x="816" y="912"/>
                </a:lnTo>
                <a:lnTo>
                  <a:pt x="1104" y="912"/>
                </a:lnTo>
                <a:lnTo>
                  <a:pt x="1248" y="816"/>
                </a:lnTo>
                <a:lnTo>
                  <a:pt x="1488" y="576"/>
                </a:lnTo>
                <a:lnTo>
                  <a:pt x="1968" y="480"/>
                </a:lnTo>
                <a:lnTo>
                  <a:pt x="1992" y="480"/>
                </a:lnTo>
                <a:lnTo>
                  <a:pt x="2448" y="192"/>
                </a:lnTo>
                <a:lnTo>
                  <a:pt x="32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90920"/>
            <a:ext cx="1982520" cy="2287440"/>
          </a:xfrm>
          <a:custGeom>
            <a:avLst/>
            <a:gdLst/>
            <a:ahLst/>
            <a:rect l="l" t="t" r="r" b="b"/>
            <a:pathLst>
              <a:path w="1249" h="1441">
                <a:moveTo>
                  <a:pt x="1104" y="1440"/>
                </a:moveTo>
                <a:lnTo>
                  <a:pt x="1248" y="1056"/>
                </a:lnTo>
                <a:lnTo>
                  <a:pt x="1248" y="1026"/>
                </a:lnTo>
                <a:lnTo>
                  <a:pt x="1248" y="720"/>
                </a:lnTo>
                <a:lnTo>
                  <a:pt x="1104" y="528"/>
                </a:lnTo>
                <a:lnTo>
                  <a:pt x="816" y="480"/>
                </a:lnTo>
                <a:lnTo>
                  <a:pt x="240" y="38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617220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62440" y="3909960"/>
            <a:ext cx="39024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95360" y="2058840"/>
            <a:ext cx="1119240" cy="7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jetfight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jetfight" descr=""/>
          <p:cNvPicPr/>
          <p:nvPr/>
        </p:nvPicPr>
        <p:blipFill>
          <a:blip r:embed="rId5"/>
          <a:stretch/>
        </p:blipFill>
        <p:spPr>
          <a:xfrm>
            <a:off x="3809880" y="213372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6-figure gri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ay of pinpointing a fe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curate to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 is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e feature in a grid squar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e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iving a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5880" y="1903320"/>
            <a:ext cx="2827440" cy="267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05120" y="1295280"/>
            <a:ext cx="498168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1219320"/>
            <a:ext cx="2743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id reference divides a grid square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qua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Squ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5 bri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know which one               to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0400" y="3581280"/>
          <a:ext cx="67464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81280"/>
                    <a:ext cx="6746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aking A 6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3528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447920"/>
            <a:ext cx="259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In the house, and up the stai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971800"/>
            <a:ext cx="2286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#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eas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nor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igure GR for Bridge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1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f a R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838760" cy="379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143000"/>
            <a:ext cx="2895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accurately measure    a six-figure grid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orner of your paper on the landmark, and read off the 10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: 767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7:28:40Z</dcterms:created>
  <dc:creator>Valued Customer</dc:creator>
  <dc:description/>
  <dc:language>en-US</dc:language>
  <cp:lastModifiedBy>DND</cp:lastModifiedBy>
  <cp:lastPrinted>1999-01-12T14:43:16Z</cp:lastPrinted>
  <dcterms:modified xsi:type="dcterms:W3CDTF">1999-01-13T12:02:52Z</dcterms:modified>
  <cp:revision>14</cp:revision>
  <dc:subject/>
  <dc:title>No Slide Title</dc:title>
</cp:coreProperties>
</file>