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0D4-94CE-475F-ADC8-79E5AC59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72A-8123-4CA0-81BE-1BD7683B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10CE-B2B6-4D16-B0C1-5773A693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00BC-C657-4914-BD4C-0707A673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BBE-5DE0-416A-A6F2-03474A1B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1343-F42F-46AF-BD76-9C97FAAB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861E-BCCE-48BE-B4CD-1FF7C603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DE7-9A2D-48EC-A80E-C5DCEF08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0D71-B0D3-437A-99FF-DC5B6D98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199-ED6E-4530-BBC4-DEADAE70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BAA-AA34-47A5-B383-3C4C45EB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EEF-FD4F-4F94-A9DA-12244245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63F0-BAAB-469C-B22B-A0FBDFB84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YPES OF SEAR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981080"/>
            <a:ext cx="3962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CK CRA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LLEL SW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EPING LINE A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OUR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oatmap" descr=""/>
          <p:cNvPicPr/>
          <p:nvPr/>
        </p:nvPicPr>
        <p:blipFill>
          <a:blip r:embed="rId1"/>
          <a:srcRect l="0" t="0" r="37339" b="35006"/>
          <a:stretch/>
        </p:blipFill>
        <p:spPr>
          <a:xfrm>
            <a:off x="5334120" y="2743200"/>
            <a:ext cx="380988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ARALLEL SWE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arallel" descr=""/>
          <p:cNvPicPr/>
          <p:nvPr/>
        </p:nvPicPr>
        <p:blipFill>
          <a:blip r:embed="rId1"/>
          <a:srcRect l="35295" t="5434" r="4410" b="19563"/>
          <a:stretch/>
        </p:blipFill>
        <p:spPr>
          <a:xfrm>
            <a:off x="1371600" y="990720"/>
            <a:ext cx="6248520" cy="5257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29718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ting point or bas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5943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er on a compass bearing or predetermined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REEPING LINE AH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reeping%20line%20II" descr=""/>
          <p:cNvPicPr/>
          <p:nvPr/>
        </p:nvPicPr>
        <p:blipFill>
          <a:blip r:embed="rId1"/>
          <a:srcRect l="2702" t="8873" r="4731" b="9678"/>
          <a:stretch/>
        </p:blipFill>
        <p:spPr>
          <a:xfrm>
            <a:off x="1371600" y="990720"/>
            <a:ext cx="601992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7840" y="205740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54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38098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54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44956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1066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2819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UTY 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514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400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1828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00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1143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TOUR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Contour" descr=""/>
          <p:cNvPicPr/>
          <p:nvPr/>
        </p:nvPicPr>
        <p:blipFill>
          <a:blip r:embed="rId1"/>
          <a:srcRect l="1282" t="6249" r="3848" b="0"/>
          <a:stretch/>
        </p:blipFill>
        <p:spPr>
          <a:xfrm>
            <a:off x="533520" y="1676520"/>
            <a:ext cx="8229600" cy="403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133720" y="5486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EARCH LINE 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13372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 ABR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PPING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breast" descr=""/>
          <p:cNvPicPr/>
          <p:nvPr/>
        </p:nvPicPr>
        <p:blipFill>
          <a:blip r:embed="rId1"/>
          <a:srcRect l="0" t="13999" r="52009" b="64670"/>
          <a:stretch/>
        </p:blipFill>
        <p:spPr>
          <a:xfrm>
            <a:off x="4191120" y="1828800"/>
            <a:ext cx="3647880" cy="1219320"/>
          </a:xfrm>
          <a:prstGeom prst="rect">
            <a:avLst/>
          </a:prstGeom>
          <a:ln w="0">
            <a:noFill/>
          </a:ln>
        </p:spPr>
      </p:pic>
      <p:pic>
        <p:nvPicPr>
          <p:cNvPr id="86" name="v%20formation" descr=""/>
          <p:cNvPicPr/>
          <p:nvPr/>
        </p:nvPicPr>
        <p:blipFill>
          <a:blip r:embed="rId2"/>
          <a:srcRect l="8897" t="20670" r="46996" b="51339"/>
          <a:stretch/>
        </p:blipFill>
        <p:spPr>
          <a:xfrm>
            <a:off x="4572000" y="2971800"/>
            <a:ext cx="3352680" cy="1600200"/>
          </a:xfrm>
          <a:prstGeom prst="rect">
            <a:avLst/>
          </a:prstGeom>
          <a:ln w="0">
            <a:noFill/>
          </a:ln>
        </p:spPr>
      </p:pic>
      <p:pic>
        <p:nvPicPr>
          <p:cNvPr id="87" name="sloping" descr=""/>
          <p:cNvPicPr/>
          <p:nvPr/>
        </p:nvPicPr>
        <p:blipFill>
          <a:blip r:embed="rId3"/>
          <a:srcRect l="25943" t="19335" r="47996" b="52668"/>
          <a:stretch/>
        </p:blipFill>
        <p:spPr>
          <a:xfrm>
            <a:off x="5410080" y="4648320"/>
            <a:ext cx="1981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UND 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828800"/>
            <a:ext cx="8534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WHISTLE BLAST - ALL PARTY MEMBERS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WHISTLE BLASTS - ALL PARTY MEMBERS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WHISTLE BLASTS - PARTY MEMBERS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352680" cy="2792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3T15:06:36Z</dcterms:created>
  <dc:creator>DND</dc:creator>
  <dc:description/>
  <dc:language>en-US</dc:language>
  <cp:lastModifiedBy>DND</cp:lastModifiedBy>
  <cp:lastPrinted>1999-01-14T12:33:46Z</cp:lastPrinted>
  <dcterms:modified xsi:type="dcterms:W3CDTF">1999-03-12T18:27:50Z</dcterms:modified>
  <cp:revision>8</cp:revision>
  <dc:subject/>
  <dc:title>TYPES OF SEARCHES</dc:title>
</cp:coreProperties>
</file>