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923-CACE-4F21-A7DC-007C0994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205-3106-499B-8434-8A76F175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C88-5BAF-4619-8884-42B7AFDE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9BB-72E0-48CD-BFCB-3EC4FA4A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F43-B8B4-46C5-B39D-5F715E70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108-0775-4CD6-A719-9B2FB0C5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7CB-27B4-4C3A-BD98-8DEE3BD0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C59-0FF0-4249-B4B8-BE97B29B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1B5-BEE6-4CAB-AB28-5E5F6E42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39F-C134-4BAD-9B8E-B60D204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5A3-D0B8-4A60-90FA-3E8D7C07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1E6-1890-42BA-B0BB-D1583254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FB58-42ED-4C4C-A5A4-019DBC8F4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ESS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DAY-MAYDAY-MAYDAY FOXTROT OSCAR NOVEMBER ROMEO-FOXTROT OSCAR NOVEMBER ROMEO-FOXTROT OSCAR NOVEMBER ROMEO-FIVE ZERO MILES SOUTH OF GRAND FALLS AT ONE SEVEN TWO FIVE EASTERN-FOUR THOUSAND-CESSNA 185-ICING-WILL ATTEMPT CRASH LANDING ON ICE- FOXTROT OSCAR NOVEMBER ROMEO-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ON 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FOXTROT OSCAR NOVEMBER ROMEO-FOXTROT OSCAR NOVEMBER ROMEO-THIS IS GANDER RADIO-GANDER RADIO-GANDER RADIO-ROGER MAYDAY GANDER RADIO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58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CRAFT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DAY ALL STATIONS-ALL STATIONS-ALL STATIONS-THIS IS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FOXTROT OSCAR NOVEMBER ROMEO-FOXTROT OSCAR NOVEMBER ROMEO-AT ONE SEVEN FOUR ZERO EASTERN-FOXTROT OSCAR NOVEMBER ROMEO DISTRESS TRAFFIC ENDED-ICE CLEARED-RETURNING GRAND FALLS-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1640" y="6545160"/>
            <a:ext cx="58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04:26Z</dcterms:created>
  <dc:creator>DND</dc:creator>
  <dc:description/>
  <dc:language>en-US</dc:language>
  <cp:lastModifiedBy>dnd</cp:lastModifiedBy>
  <cp:lastPrinted>1999-01-20T18:19:40Z</cp:lastPrinted>
  <dcterms:modified xsi:type="dcterms:W3CDTF">1999-03-30T17:21:50Z</dcterms:modified>
  <cp:revision>3</cp:revision>
  <dc:subject/>
  <dc:title>DISTRESS EXAMPLE </dc:title>
</cp:coreProperties>
</file>