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562-7266-452C-A51E-440E05A9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6EC-485E-4C0E-8730-5452B5C5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925-6A43-4DFF-A06F-F694B599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723-C7C9-43CE-9FA9-188EB4C8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33D-003F-4191-A4DD-224C6C9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C94-2412-4822-BF92-DF30B154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2A4-777A-4CEF-833A-5D801A5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D84-C471-4CDB-BA01-E1BECBC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A36-22CF-468C-AC69-54F21A35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D51-B633-4861-8E48-C4B308C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AD6-FADE-4726-86DD-0E0C2AB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C6D-B074-49D4-A023-8A3629A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AB7-F473-4099-BC41-0D0618804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7400"/>
            <a:ext cx="6248520" cy="35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al support is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s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f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hasize;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variety and inter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are trying to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5715000"/>
            <a:ext cx="2819520" cy="287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AT IS VERBAL SUPPO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05120"/>
            <a:ext cx="662940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a bridge built by the instructor that bridges the gap between the known and the 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s are logical explanations that satisfy the question “WHY??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amp;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tly an instructor must repeat what he/she said for emphasis. One way  to do this to restate it in a different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YPES OF VERBAL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905120"/>
            <a:ext cx="6477120" cy="60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xample is an illustration use to clarify and simplify an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a systematic compilation of information (usually in numerical form) about some occurrence or thing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stimony is using personal experience or a quotation from a recognized authority to add credibility to what you are teachin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YPES OF VERBAL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2:59:19Z</cp:lastPrinted>
  <dcterms:modified xsi:type="dcterms:W3CDTF">1999-03-09T22:59:36Z</dcterms:modified>
  <cp:revision>22</cp:revision>
  <dc:subject/>
  <dc:title>No Slide Title</dc:title>
</cp:coreProperties>
</file>