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6EB-D3DD-401F-A03F-447C6206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D92-09B9-4936-9D52-9EB13F0E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04C-0198-4121-A8B1-2B820FE1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7B4-E15B-47A1-8469-AA4CD40D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CD3-ECDD-445C-8F39-23867F2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C64-5E8A-409C-92E2-27BF624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5D1-23C3-4840-A89B-E9A7A0AB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F22-7FA9-468D-AFFF-C4FF134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05A-D6F3-4CBB-9B88-EF808B3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35D-4780-4C1F-AA47-285AC85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FED-3290-4C02-8629-7FFF252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CC4-D5AD-4622-BE8D-E92CF56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35BE-8CF0-482F-B367-06C51FF80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4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Answer ke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3:14:19Z</cp:lastPrinted>
  <dcterms:modified xsi:type="dcterms:W3CDTF">1999-03-09T23:14:56Z</dcterms:modified>
  <cp:revision>34</cp:revision>
  <dc:subject/>
  <dc:title>No Slide Title</dc:title>
</cp:coreProperties>
</file>