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7AF-A17F-416B-92E8-BE002BC9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DA2-7EAE-40EB-9CE7-E6B5C0B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C53-7F6F-4B18-86D4-A0B9FCC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C90-DC8D-4811-BAC8-238B3136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67B-68D5-4C9B-BFC9-5D23A068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C54-599A-4B56-AA43-2BECFB6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318-7952-4416-B822-8CD1B3BC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F4E-DA28-42E1-8A22-4A2D9B7A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919-E2F3-499F-AFDD-0686A12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BBD-78B9-49E2-B400-0604DE9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DBE-39DB-4D3D-ADA2-52F396E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C04-E247-412D-8BD3-C585F16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2D2-4358-41FC-91C1-3109718C8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SS 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easure bearings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(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mils (64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ings are 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ckwi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ero li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decl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our area must b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your compa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a bea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77320" y="2514600"/>
          <a:ext cx="609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514600"/>
                    <a:ext cx="60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40560" y="1854360"/>
            <a:ext cx="1168200" cy="10918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1371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362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990720"/>
            <a:ext cx="106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7432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086240" y="28954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248520" y="137124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324480" y="1371240"/>
            <a:ext cx="763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75248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9718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57600" y="4419720"/>
            <a:ext cx="4272120" cy="147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Open the cover of the compass to about 50-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Place the safety cord around your neck. Extend your arm and hold the compass flat at eye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ace the object. Use the sighting line in your compass to ensure that you keep all the parts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633680"/>
            <a:ext cx="1852560" cy="408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Turn the compass dial until the red end of the magnetic needle is inside the orienting a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look at the compass dial - look at its reflection in the mi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Open the cover and look at the number next to the luminous index poin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This number is y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  You are ready to start hiking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856120" y="1981080"/>
          <a:ext cx="2741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6120" y="1981080"/>
                    <a:ext cx="2741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A GIVEN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Turn the compass dial until the bearing appears opposite the luminous index po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Place the safety cord around your neck and raise the compass to ey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Turn your body until the red end of the magnetic needle is lined up with the orienting a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ook through the sight and select an object in your 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Close the compass and hike to the object.  When you reach it, choose a new landmark and repeat the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95880" y="1341360"/>
            <a:ext cx="3489480" cy="4754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ACK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earings ar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ite re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ompass be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take a backbea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Read the number opposite the luminou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urn the dial so that this number now appears at the luminous index po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is new bearing will take you back to where you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10080" y="1219320"/>
          <a:ext cx="2895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895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477120" y="297180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905120"/>
            <a:ext cx="167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deric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523880"/>
            <a:ext cx="11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if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14:31:16Z</dcterms:created>
  <dc:creator>Valued Customer</dc:creator>
  <dc:description/>
  <dc:language>en-US</dc:language>
  <cp:lastModifiedBy>DND</cp:lastModifiedBy>
  <cp:lastPrinted>1999-01-12T19:54:28Z</cp:lastPrinted>
  <dcterms:modified xsi:type="dcterms:W3CDTF">1999-03-12T18:26:32Z</dcterms:modified>
  <cp:revision>13</cp:revision>
  <dc:subject/>
  <dc:title>No Slide Title</dc:title>
</cp:coreProperties>
</file>