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F06-8207-4C9A-96F0-4B0C0EB7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947-27CF-4D3B-A678-BF6C930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440-CB20-4065-8F08-5FCE3672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AB5-BF95-4852-A19B-6A83697E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420-7844-4B01-B12F-2C70A85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5AA-3FD8-47B4-9972-99E6A686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445-9F41-4EE5-811B-023E056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69B-9BE5-4CCC-9978-E64E1EF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B90-27DC-4886-A878-3BDB945B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31E-6942-404F-91BA-28E8B58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CB0-48D1-4613-857F-8925C02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A5C-DDA0-498E-BF48-D3056F7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82B1-145D-4802-A1F0-EEAA19E6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ords “THIS  I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requency on which you are transm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your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the station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vitation to reply (“OVER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413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 the number in the blank provided to indicate the order in which a single station call should be mad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7:11:36Z</dcterms:created>
  <dc:creator>DND</dc:creator>
  <dc:description/>
  <dc:language>en-US</dc:language>
  <cp:lastModifiedBy>dnd</cp:lastModifiedBy>
  <dcterms:modified xsi:type="dcterms:W3CDTF">1999-03-30T17:08:38Z</dcterms:modified>
  <cp:revision>2</cp:revision>
  <dc:subject/>
  <dc:title>   SINGLE STATION CALL Place the number in the blank provided to indicate the order in which a single station call should be made  Name:_____________________.</dc:title>
</cp:coreProperties>
</file>