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0949-E153-4402-AFBB-5A6939C1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ABDE-0B0A-4A68-872B-4437D714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3826-4436-4F87-ADD0-7CB62118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454-303F-4CBC-A466-F83A6B2E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98F1-815E-4A9B-8C58-26EEE90E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F7F5-87BB-45E1-98AD-795DFFC7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A5A6-DE18-4844-B342-323C6BB5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6255-6828-45B3-AFD8-D0397A5F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0BE2-7D7C-41E6-9F8E-03D258AA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A13-36C6-4642-BF7C-746238F0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5CED-8943-4658-8E5B-C078EB0F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D7C9-9223-4641-ACEF-085718DE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442D-DC47-4CD6-99B0-C0A1C0A95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5640" y="657216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380880"/>
            <a:ext cx="74041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INCENTIVES TO PERFORMANC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1491840"/>
            <a:ext cx="515808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PRO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KNOWLEDGE OF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NTHUSI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2133720" cy="2192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62920" y="4267080"/>
            <a:ext cx="173340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553080" y="1981080"/>
            <a:ext cx="2032200" cy="1954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4492800"/>
            <a:ext cx="1752480" cy="16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5640" y="657216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457200"/>
            <a:ext cx="74041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INCENTIVES TO PERFORMANC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564200"/>
            <a:ext cx="8534520" cy="53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ORGANIZATIONAL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DEL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VOIDING OVER-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GOOD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2295360" cy="1747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315200" y="4648320"/>
            <a:ext cx="1620720" cy="1724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28600" y="1600200"/>
            <a:ext cx="14907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4:28:35Z</dcterms:created>
  <dc:creator>dnd</dc:creator>
  <dc:description/>
  <dc:language>en-US</dc:language>
  <cp:lastModifiedBy>dnd</cp:lastModifiedBy>
  <cp:lastPrinted>1999-02-23T15:15:47Z</cp:lastPrinted>
  <dcterms:modified xsi:type="dcterms:W3CDTF">1999-02-23T15:16:49Z</dcterms:modified>
  <cp:revision>14</cp:revision>
  <dc:subject/>
  <dc:title>No Slide Title</dc:title>
</cp:coreProperties>
</file>