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0095-B303-4056-8BB9-AFD1396B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2D9F-6FEE-4E94-8622-D661B43F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FB9E-71DF-4597-A51E-28C64629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2C34-E3C1-4AE1-8B72-0B5D7905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E99F-3C16-47D0-A82C-43B391F7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8F52-DCDA-433E-9716-9B4D35B2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EE8C-0F28-4135-BC4C-F7D1B77C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6FA7-A63C-4C5A-8371-16207C02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9CAC-5C26-40A8-804A-AD06F78C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86FE-541A-4E34-AB9C-2EE18907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1741-30B9-4307-8515-9A45883A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DFA1-EE14-4B09-959C-87F2511D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2820-3EBA-4EE4-AF49-04ABEE43D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Six-Figure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5257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6-figure grid re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way of pinpointing a feat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grid squ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ccurate to with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eal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6-figure GR is used w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there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or 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same feature in a grid square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we need to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giving a lo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5880" y="1903320"/>
            <a:ext cx="2827440" cy="267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Six-Figure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705120" y="1295280"/>
            <a:ext cx="4981680" cy="4496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1219320"/>
            <a:ext cx="2743200" cy="41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6-figure grid reference divides a grid square in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ll squar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 Squ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6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s 5 brid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ll you know which one               to go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00400" y="3581280"/>
          <a:ext cx="674640" cy="145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3581280"/>
                    <a:ext cx="67464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aking A 6-Figure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62520" y="1600200"/>
            <a:ext cx="4535280" cy="4143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1447920"/>
            <a:ext cx="2590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“In the house, and up the stai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971800"/>
            <a:ext cx="2286000" cy="30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 #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 east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s north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-Figure GR for Bridge #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613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3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Use of a Ro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733920" y="1600200"/>
            <a:ext cx="4838760" cy="3795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143000"/>
            <a:ext cx="28954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m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 to accurately measure    a six-figure grid re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the corner of your paper on the landmark, and read off the 10th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: 7673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20:14:10Z</dcterms:created>
  <dc:creator>DND</dc:creator>
  <dc:description/>
  <dc:language>en-US</dc:language>
  <cp:lastModifiedBy>DND</cp:lastModifiedBy>
  <dcterms:modified xsi:type="dcterms:W3CDTF">1999-01-19T20:15:06Z</dcterms:modified>
  <cp:revision>1</cp:revision>
  <dc:subject/>
  <dc:title>The Six-Figure Grid Reference</dc:title>
</cp:coreProperties>
</file>