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F346-66A9-4909-9A1E-5599CEC2E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2219-B138-462E-901C-CB9ACEAC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D10E-4750-4BC5-B90C-52EA3BB77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DF23-7D36-4353-B13B-E18E4C02A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0470-7D3F-4965-BAB8-B8876E06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9FB3-1398-42EE-8F3C-46EA3666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2590-8A8B-47FD-BDE3-8D8ED714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9BCC-6D9A-4B6D-AA1F-EA7EB557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C8AF-C1E5-430A-8AF1-18C52594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9BFD-3766-4944-8CE7-82898EA4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974B-8E77-46BC-BA04-CE83C714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966F-F759-4AC5-A342-2E0406F9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50A6-5339-4DFD-AFBE-D54F3A26F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CENARI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685800" y="2057400"/>
            <a:ext cx="9829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ssna 185 FIUT requests touch and go landing from Toronto t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onto tower says 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ssna 185 FIUT radios back asking for confirmation of Toronto towers respon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onto tower calls back confirming the respon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13760" y="6553080"/>
            <a:ext cx="182880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1 - Mini-Qui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CENARI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609480" y="1752480"/>
            <a:ext cx="9296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o Toronto tower telling them to activate your flight plan at 3:30 p.m. your plane is Cessna 185 FLG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onto tower does not receive well and asks you to retransm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retransmit the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onto tower activates the flight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3760" y="6553080"/>
            <a:ext cx="182880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1 - Mini-Qui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CENARIO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762120" y="1600200"/>
            <a:ext cx="9448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ssna 185 FMOA asks Toronto tower for clearance to land on runway 2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onto tower asks you to hold three minutes while they che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onto tower gives you clearance but says runway 12 then corrects and says runway 2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accept t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13760" y="6553080"/>
            <a:ext cx="182880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1 - Mini-Qui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0T17:45:54Z</dcterms:created>
  <dc:creator>DND</dc:creator>
  <dc:description/>
  <dc:language>en-US</dc:language>
  <cp:lastModifiedBy>dnd</cp:lastModifiedBy>
  <cp:lastPrinted>1999-02-19T19:36:01Z</cp:lastPrinted>
  <dcterms:modified xsi:type="dcterms:W3CDTF">1999-03-30T17:17:48Z</dcterms:modified>
  <cp:revision>4</cp:revision>
  <dc:subject/>
  <dc:title>SCENARIO 1</dc:title>
</cp:coreProperties>
</file>