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F5C-3FF4-47A5-BF2F-3164320C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DCF-B2D1-49D7-8FF2-F018FB68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385-0620-4998-A6AA-41E744CE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862-EE2C-4818-9354-CC8DE69C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655-BF69-4E12-9C83-5AE0D170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890-F5DC-4B1D-9EBB-731817B0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BCC-A093-48B7-97D7-93FA7201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47A-D256-497F-85FD-78BE1F50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354-C56E-475B-9F81-C1EADE42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EE5-47A6-4B80-85BB-DD51EA75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DD8-F7BC-4CA0-B64E-9E368BB0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447-362D-4B8B-9B27-AF1CFF49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EF2B-138F-44C2-AAF1-7D3C8BC68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819520" cy="3353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elect and limit the subjec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Determine the purposes of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Analyze the audience and the occas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Gather dat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utline the materi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rganize and develop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lan visual ai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ractice al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8 STEPS IN PREPARING A SPEE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TERMINING YOUR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l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cted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ersua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-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eaker" descr=""/>
          <p:cNvPicPr/>
          <p:nvPr/>
        </p:nvPicPr>
        <p:blipFill>
          <a:blip r:embed="rId1"/>
          <a:srcRect l="0" t="0" r="38855" b="0"/>
          <a:stretch/>
        </p:blipFill>
        <p:spPr>
          <a:xfrm>
            <a:off x="5105520" y="1905120"/>
            <a:ext cx="371772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ORGANIZATION OF A SPEE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l reference or gr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the place or occa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ught provoking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matized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us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re expressions of pl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special interests of the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33:48Z</dcterms:created>
  <dc:creator>DND</dc:creator>
  <dc:description/>
  <dc:language>en-US</dc:language>
  <cp:lastModifiedBy>DND</cp:lastModifiedBy>
  <cp:lastPrinted>1999-01-07T12:33:12Z</cp:lastPrinted>
  <dcterms:modified xsi:type="dcterms:W3CDTF">1999-02-19T17:56:14Z</dcterms:modified>
  <cp:revision>6</cp:revision>
  <dc:subject/>
  <dc:title> -Select and limit the subject  -Determine the purposes of the speech  -Analyze the audience and the occasion  -Gather data  -Outline the material  -Organize and develop the speech  -Plan visual aids  -Practice aloud</dc:title>
</cp:coreProperties>
</file>