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4CE-0790-4BCE-B0D2-843F06C4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3C7-E50D-4080-BBA1-1EC94577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4E3-5039-4204-ADF1-F3AAE9ED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3A4-3254-47F3-92E9-A5B5362E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9D5-CAEF-421B-9EFE-7BB2289C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F74-AE65-4671-A64C-01AA254A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440-FC42-4445-9D23-2277D288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3F8-4394-4D46-8B2C-054975E5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3A46-999F-4129-99B0-810AD8F5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1A6-D5FE-4BBE-AC10-6D08B84D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6E7-B08A-4627-9DF9-0B5117E0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732-315C-499A-A3C5-5F3025EA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10B1-2650-4F33-A276-534E59E12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04920"/>
            <a:ext cx="609480" cy="80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UNDERST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28600"/>
            <a:ext cx="4724280" cy="84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SSONS MUST START AT THE LEVEL OF TRAINEE UNDERSTANDING AND PROCEED AT THE RATE OF TRAINEE COMPREHEN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IVIDE MATERIAL INTO LOGICAL STAGES, TEACHING A LITTLE AT A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ASY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NOWN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IMPL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T THE BEGINNING OF A LESSON ASK QUESTIONS TO GAUGE THE KNOWLEDGE OF THE TRAN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257800" y="7086600"/>
          <a:ext cx="914400" cy="14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7086600"/>
                    <a:ext cx="91440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4267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4800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5410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457200"/>
            <a:ext cx="6248160" cy="79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HE PRINCIPLES OF INSTRUCTION CAN BE REMEMBERED BY USING THE ACRONY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.S.P.IC.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 -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 -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 -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 -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C - CONFI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E - EMPH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-SPIC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UP YOUR CLASS BY USING THEM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04920"/>
            <a:ext cx="609480" cy="80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UNDERST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228600"/>
            <a:ext cx="480060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EEP A FLOW OF QUESTIONS FROM THE INSTRUCTOR AND VICE-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EACH TO THE MAJ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ATCH OUT FOR FROWNING EYEBROWS OR EMPTY ST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2448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60984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SU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28600"/>
            <a:ext cx="472428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SSONS MUST PROVIDE FOR THE TRAINNEE A SENSE OF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IVIDE THE LESSON INTO LOGICAL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EEP THE CADETS INFORMED OF THEIR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GIVE PRAISE TO CADETS WHO ARE DOING WELL AND CORRECT CADETS WHO ARE FAI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124080" y="6248520"/>
          <a:ext cx="2316240" cy="21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6248520"/>
                    <a:ext cx="2316240" cy="21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28600"/>
            <a:ext cx="685800" cy="67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PARTICIP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228600"/>
            <a:ext cx="4724280" cy="56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HE LESSON MUST PROVIDE MENTAL AND/OR PHYSICAL PARTICIP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QUESTIONS TO MAKE THE TRAINEE 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NCOURAGE AS MANY CADETS AS POSSIBLE TO PARTICIP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NCOURSGE SHY CADETS TO PARTICIPATE TO HELP THEM IMPROVE THEIR SELF-CONFI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14600" y="6781680"/>
          <a:ext cx="3649680" cy="15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781680"/>
                    <a:ext cx="3649680" cy="15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1600200"/>
            <a:ext cx="457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228600"/>
            <a:ext cx="4800600" cy="84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SSONS MUST CREATE AND MAINTAIN TRAINEE INTE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TIMULATE INTEREST BY LEAVINGTHE CLASSROOM SE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YOUR IMAGINATION TO TRY AND STIMULATE THE CADETS’ CURI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LAN SPEED AND/OR ABILITY COMPETITIONS OR GAMES THAT WILL HELP TO  MAINTAIN INTE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MORE THAN ONE INSTR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8120" y="7467480"/>
          <a:ext cx="9903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7467480"/>
                    <a:ext cx="990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191120" y="7467480"/>
          <a:ext cx="99036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7467480"/>
                    <a:ext cx="99036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828800"/>
            <a:ext cx="76212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1600200"/>
            <a:ext cx="457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28600"/>
            <a:ext cx="4800600" cy="37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EEP INSTRUCTION AT THE LEVEL OF THE TRAIN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VARIOUS TRAINING 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 ENTHUSIASTIC - IT IS CONTAGIO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828800"/>
            <a:ext cx="76212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36576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1600200"/>
            <a:ext cx="457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28600"/>
            <a:ext cx="4800600" cy="76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SSONS MUST PROVIDE FOR CONFIRMATION OF 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K THE CADETS QUESTIONS OR HAVE THEM PERFORM A PRACTICAL EXERC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ONFIRM THE LESSON BY S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VIEW AT THE START OF EACH LES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NAYLIZE THE CADETS’ QUESTIONS TO SEE WHICH POINTS NEED TO BE REVIE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609480"/>
            <a:ext cx="76212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ONFI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24280" y="7010280"/>
          <a:ext cx="14479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7010280"/>
                    <a:ext cx="14479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1600200"/>
            <a:ext cx="457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228600"/>
            <a:ext cx="48006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SSONS MUST EMPHASIZE AND SUPPORT MAIN TEACHING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LEARLY DEFINE WHY YOU ARE TEACHING THE LES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AKE SURE YOU ALLOCATE ENOUGH TIME TO THE TEACHING POIN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EVOTE SUFFICIENT TIME TO PRACTICAL EXERC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TEACHING AIDS THAT APPEAL TO THE FIVE SE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 RE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676520"/>
            <a:ext cx="76212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EMPH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6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410080" y="7010280"/>
          <a:ext cx="106704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7010280"/>
                    <a:ext cx="10670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1600200"/>
            <a:ext cx="457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28600"/>
            <a:ext cx="4800600" cy="60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NOTES,WRITTEN HANDOUTS, OR ISSUE ASSIG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ONDUCT REVIEW OR PROGRESS TESTS DURING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EACH MATERIAL STEP-BY-STEP AND REVIEW EACH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676520"/>
            <a:ext cx="76212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EMPH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8763120"/>
            <a:ext cx="838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6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19520" y="4800600"/>
            <a:ext cx="3217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2T13:23:59Z</cp:lastPrinted>
  <dcterms:modified xsi:type="dcterms:W3CDTF">1999-03-12T13:24:13Z</dcterms:modified>
  <cp:revision>16</cp:revision>
  <dc:subject/>
  <dc:title>No Slide Title</dc:title>
</cp:coreProperties>
</file>