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9AB3-BAF7-41EE-A209-1BE29831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158-EF60-4937-A6D4-D52951C3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7FC-ADB0-4725-B17A-69198C5C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EBB-624F-4D52-BF42-C0E29C06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EBB-5C6A-48C8-95C7-AAB3C428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467-F4B5-4203-BB1D-06B9E246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B77B-6A70-4807-BE20-86FC73C4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6625-24AE-4F8E-AA3C-18685576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A713-B379-45C5-BB68-458BD961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F75-B3E7-4DD7-9184-00159DD4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921-F941-4363-9EF3-D96C0006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8BB-9270-445F-AFE6-B017170E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F42E-C63C-454F-A41E-0AA3F5E21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0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539748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15:16:04Z</dcterms:created>
  <dc:creator>DND</dc:creator>
  <dc:description/>
  <dc:language>en-US</dc:language>
  <cp:lastModifiedBy>Jamie Richards</cp:lastModifiedBy>
  <cp:lastPrinted>1999-01-12T15:16:38Z</cp:lastPrinted>
  <dcterms:modified xsi:type="dcterms:W3CDTF">1999-04-25T23:11:04Z</dcterms:modified>
  <cp:revision>1</cp:revision>
  <dc:subject/>
  <dc:title>No Slide Title</dc:title>
</cp:coreProperties>
</file>