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7018B-671C-4C48-B367-00BD3C9BA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D42C8-E6D4-4C93-9E4F-AF535C4B8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14D97-F044-441F-A269-DD1CB360C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A496B-029F-4E3C-81C7-56239A99E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A5010-3FA6-402E-A9DE-90AFF808C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CDC42-C647-4C7E-AFC4-8D9B2795C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C4FE9-8368-4346-AF71-11A449D62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1E73F-9314-4ECA-BFED-E29833206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8EFF0-54F5-4057-ABCF-A027326FC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25824-49BC-4643-82BB-223AAE9A9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EF6EE-B513-4988-844B-D2DAB6690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7DFA5-5F82-4678-A9FD-7AC72C551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BC811-E14D-4B21-9C9B-BDA0AF610A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MARGINAL INFORM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09480" y="990720"/>
            <a:ext cx="807732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order to use a map properly, you must understand the information found on 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33520" y="2133720"/>
            <a:ext cx="5257800" cy="41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.  Name of the Map She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.  Number of the Map She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.  Date of the Map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.  Magnetic Declin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5.  Explanation of a Grid Refer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6.  Reference Plate of Conventional 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7.  Index to Adjacent Map Shee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8.  Map Sc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9.  Scale B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6107040" y="2355840"/>
          <a:ext cx="2549520" cy="365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07040" y="2355840"/>
                    <a:ext cx="2549520" cy="365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6553080" y="2057400"/>
            <a:ext cx="6098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8680" y="6545160"/>
            <a:ext cx="1273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hree 419.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441640" y="654516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CONVENTIONAL SIGNS 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1066680"/>
            <a:ext cx="6248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ost common conventional signs a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62120" y="1905120"/>
            <a:ext cx="3200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 RO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295280" y="2666880"/>
            <a:ext cx="1828800" cy="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295280" y="2819520"/>
            <a:ext cx="19814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ved - 2 la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9880" y="2666880"/>
            <a:ext cx="1905120" cy="0"/>
          </a:xfrm>
          <a:prstGeom prst="line">
            <a:avLst/>
          </a:prstGeom>
          <a:ln w="50760">
            <a:solidFill>
              <a:srgbClr val="ff33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733920" y="2743200"/>
            <a:ext cx="20574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ved - less than 2 la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553080" y="2666880"/>
            <a:ext cx="1905120" cy="0"/>
          </a:xfrm>
          <a:prstGeom prst="line">
            <a:avLst/>
          </a:prstGeom>
          <a:ln w="507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553080" y="2819520"/>
            <a:ext cx="21337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rt surf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62120" y="3809880"/>
            <a:ext cx="2743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 BRID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523880" y="4572000"/>
            <a:ext cx="228600" cy="2286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52480" y="4800600"/>
            <a:ext cx="5335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2285640" y="4572000"/>
            <a:ext cx="228600" cy="2286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752480" y="5105520"/>
            <a:ext cx="5335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1523520" y="5105520"/>
            <a:ext cx="228600" cy="1522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286000" y="5105520"/>
            <a:ext cx="228600" cy="1522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219320" y="5486400"/>
            <a:ext cx="19047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ic symb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114800" y="4572000"/>
            <a:ext cx="228600" cy="2286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343400" y="4800600"/>
            <a:ext cx="5335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343400" y="5105520"/>
            <a:ext cx="5335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4114440" y="5105520"/>
            <a:ext cx="228600" cy="1522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876920" y="5105520"/>
            <a:ext cx="228600" cy="1522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4876920" y="4571640"/>
            <a:ext cx="228600" cy="2286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419720" y="4419720"/>
            <a:ext cx="3808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809880" y="5410080"/>
            <a:ext cx="20574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ooden brid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553080" y="4572000"/>
            <a:ext cx="228600" cy="2286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781680" y="4800600"/>
            <a:ext cx="5335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7315200" y="4571640"/>
            <a:ext cx="228600" cy="2286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781680" y="5105520"/>
            <a:ext cx="5335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6552720" y="5105520"/>
            <a:ext cx="228600" cy="1522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315200" y="5105520"/>
            <a:ext cx="228600" cy="1522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58000" y="4419720"/>
            <a:ext cx="3808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324480" y="5334120"/>
            <a:ext cx="236232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sonry  (concrete) brid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8680" y="6545160"/>
            <a:ext cx="1273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hree 419.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8441640" y="654516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CONVENTIONAL SIGNS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85800" y="1066680"/>
            <a:ext cx="4419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  TRANSMISSION L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295280" y="1752480"/>
            <a:ext cx="2743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 T T T T 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371600" y="2286000"/>
            <a:ext cx="2438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lephone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191120" y="1371600"/>
            <a:ext cx="175248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495680" y="1981080"/>
            <a:ext cx="838440" cy="0"/>
          </a:xfrm>
          <a:prstGeom prst="line">
            <a:avLst/>
          </a:prstGeom>
          <a:ln w="507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1371600"/>
            <a:ext cx="11430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1981080"/>
            <a:ext cx="762120" cy="0"/>
          </a:xfrm>
          <a:prstGeom prst="line">
            <a:avLst/>
          </a:prstGeom>
          <a:ln w="507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95880" y="137160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91120" y="2209680"/>
            <a:ext cx="3504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lectrical power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09480" y="2895480"/>
            <a:ext cx="4114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.  TUNN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295280" y="3505320"/>
            <a:ext cx="228600" cy="1522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523880" y="3657600"/>
            <a:ext cx="0" cy="1522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1294920" y="3809880"/>
            <a:ext cx="228600" cy="1526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23880" y="3657600"/>
            <a:ext cx="6858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523880" y="3809880"/>
            <a:ext cx="6858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2209680" y="3504960"/>
            <a:ext cx="228600" cy="1522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9680" y="3657600"/>
            <a:ext cx="0" cy="1522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209680" y="3809880"/>
            <a:ext cx="228600" cy="1526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990360" y="3733920"/>
            <a:ext cx="5331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295280" y="3657600"/>
            <a:ext cx="0" cy="152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143000" y="3657600"/>
            <a:ext cx="0" cy="152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209680" y="3733920"/>
            <a:ext cx="533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362320" y="3657600"/>
            <a:ext cx="0" cy="152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590920" y="3657600"/>
            <a:ext cx="0" cy="152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990720" y="4114800"/>
            <a:ext cx="20574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ilroad tunn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724280" y="3505320"/>
            <a:ext cx="152640" cy="1522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876920" y="3657600"/>
            <a:ext cx="76176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5562360" y="3505320"/>
            <a:ext cx="152280" cy="1522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876920" y="3657600"/>
            <a:ext cx="0" cy="2286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4724280" y="3886200"/>
            <a:ext cx="152640" cy="1522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76920" y="3886200"/>
            <a:ext cx="6858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3657600"/>
            <a:ext cx="0" cy="2286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562720" y="3886200"/>
            <a:ext cx="152280" cy="1522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4267080" y="3733920"/>
            <a:ext cx="6098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4267080" y="3809880"/>
            <a:ext cx="6098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562720" y="3733920"/>
            <a:ext cx="6094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562720" y="3809880"/>
            <a:ext cx="6094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191120" y="4114800"/>
            <a:ext cx="2971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ad or highway tunn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09480" y="4800600"/>
            <a:ext cx="3810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.  RIV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990720" y="5537160"/>
            <a:ext cx="2287440" cy="522360"/>
          </a:xfrm>
          <a:custGeom>
            <a:avLst/>
            <a:gdLst/>
            <a:ahLst/>
            <a:rect l="l" t="t" r="r" b="b"/>
            <a:pathLst>
              <a:path w="1441" h="329">
                <a:moveTo>
                  <a:pt x="0" y="64"/>
                </a:moveTo>
                <a:lnTo>
                  <a:pt x="24" y="32"/>
                </a:lnTo>
                <a:lnTo>
                  <a:pt x="48" y="24"/>
                </a:lnTo>
                <a:lnTo>
                  <a:pt x="72" y="8"/>
                </a:lnTo>
                <a:lnTo>
                  <a:pt x="96" y="0"/>
                </a:lnTo>
                <a:lnTo>
                  <a:pt x="120" y="0"/>
                </a:lnTo>
                <a:lnTo>
                  <a:pt x="144" y="0"/>
                </a:lnTo>
                <a:lnTo>
                  <a:pt x="168" y="0"/>
                </a:lnTo>
                <a:lnTo>
                  <a:pt x="192" y="0"/>
                </a:lnTo>
                <a:lnTo>
                  <a:pt x="216" y="0"/>
                </a:lnTo>
                <a:lnTo>
                  <a:pt x="240" y="0"/>
                </a:lnTo>
                <a:lnTo>
                  <a:pt x="264" y="0"/>
                </a:lnTo>
                <a:lnTo>
                  <a:pt x="288" y="0"/>
                </a:lnTo>
                <a:lnTo>
                  <a:pt x="312" y="0"/>
                </a:lnTo>
                <a:lnTo>
                  <a:pt x="336" y="16"/>
                </a:lnTo>
                <a:lnTo>
                  <a:pt x="360" y="24"/>
                </a:lnTo>
                <a:lnTo>
                  <a:pt x="384" y="40"/>
                </a:lnTo>
                <a:lnTo>
                  <a:pt x="408" y="48"/>
                </a:lnTo>
                <a:lnTo>
                  <a:pt x="432" y="56"/>
                </a:lnTo>
                <a:lnTo>
                  <a:pt x="448" y="80"/>
                </a:lnTo>
                <a:lnTo>
                  <a:pt x="472" y="88"/>
                </a:lnTo>
                <a:lnTo>
                  <a:pt x="488" y="112"/>
                </a:lnTo>
                <a:lnTo>
                  <a:pt x="512" y="120"/>
                </a:lnTo>
                <a:lnTo>
                  <a:pt x="536" y="128"/>
                </a:lnTo>
                <a:lnTo>
                  <a:pt x="560" y="144"/>
                </a:lnTo>
                <a:lnTo>
                  <a:pt x="592" y="152"/>
                </a:lnTo>
                <a:lnTo>
                  <a:pt x="672" y="160"/>
                </a:lnTo>
                <a:lnTo>
                  <a:pt x="720" y="168"/>
                </a:lnTo>
                <a:lnTo>
                  <a:pt x="768" y="176"/>
                </a:lnTo>
                <a:lnTo>
                  <a:pt x="816" y="184"/>
                </a:lnTo>
                <a:lnTo>
                  <a:pt x="840" y="184"/>
                </a:lnTo>
                <a:lnTo>
                  <a:pt x="864" y="184"/>
                </a:lnTo>
                <a:lnTo>
                  <a:pt x="888" y="184"/>
                </a:lnTo>
                <a:lnTo>
                  <a:pt x="912" y="184"/>
                </a:lnTo>
                <a:lnTo>
                  <a:pt x="936" y="184"/>
                </a:lnTo>
                <a:lnTo>
                  <a:pt x="960" y="184"/>
                </a:lnTo>
                <a:lnTo>
                  <a:pt x="992" y="184"/>
                </a:lnTo>
                <a:lnTo>
                  <a:pt x="1016" y="184"/>
                </a:lnTo>
                <a:lnTo>
                  <a:pt x="1040" y="184"/>
                </a:lnTo>
                <a:lnTo>
                  <a:pt x="1064" y="184"/>
                </a:lnTo>
                <a:lnTo>
                  <a:pt x="1096" y="184"/>
                </a:lnTo>
                <a:lnTo>
                  <a:pt x="1120" y="176"/>
                </a:lnTo>
                <a:lnTo>
                  <a:pt x="1144" y="168"/>
                </a:lnTo>
                <a:lnTo>
                  <a:pt x="1168" y="168"/>
                </a:lnTo>
                <a:lnTo>
                  <a:pt x="1192" y="160"/>
                </a:lnTo>
                <a:lnTo>
                  <a:pt x="1216" y="144"/>
                </a:lnTo>
                <a:lnTo>
                  <a:pt x="1240" y="136"/>
                </a:lnTo>
                <a:lnTo>
                  <a:pt x="1264" y="136"/>
                </a:lnTo>
                <a:lnTo>
                  <a:pt x="1288" y="128"/>
                </a:lnTo>
                <a:lnTo>
                  <a:pt x="1312" y="112"/>
                </a:lnTo>
                <a:lnTo>
                  <a:pt x="1336" y="104"/>
                </a:lnTo>
                <a:lnTo>
                  <a:pt x="1360" y="88"/>
                </a:lnTo>
                <a:lnTo>
                  <a:pt x="1384" y="80"/>
                </a:lnTo>
                <a:lnTo>
                  <a:pt x="1408" y="72"/>
                </a:lnTo>
                <a:lnTo>
                  <a:pt x="1432" y="48"/>
                </a:lnTo>
                <a:lnTo>
                  <a:pt x="1440" y="208"/>
                </a:lnTo>
                <a:lnTo>
                  <a:pt x="1296" y="256"/>
                </a:lnTo>
                <a:lnTo>
                  <a:pt x="1272" y="272"/>
                </a:lnTo>
                <a:lnTo>
                  <a:pt x="1248" y="288"/>
                </a:lnTo>
                <a:lnTo>
                  <a:pt x="1224" y="296"/>
                </a:lnTo>
                <a:lnTo>
                  <a:pt x="1200" y="304"/>
                </a:lnTo>
                <a:lnTo>
                  <a:pt x="1176" y="304"/>
                </a:lnTo>
                <a:lnTo>
                  <a:pt x="1152" y="304"/>
                </a:lnTo>
                <a:lnTo>
                  <a:pt x="1128" y="320"/>
                </a:lnTo>
                <a:lnTo>
                  <a:pt x="1104" y="320"/>
                </a:lnTo>
                <a:lnTo>
                  <a:pt x="1072" y="328"/>
                </a:lnTo>
                <a:lnTo>
                  <a:pt x="1048" y="328"/>
                </a:lnTo>
                <a:lnTo>
                  <a:pt x="1024" y="328"/>
                </a:lnTo>
                <a:lnTo>
                  <a:pt x="1000" y="328"/>
                </a:lnTo>
                <a:lnTo>
                  <a:pt x="976" y="328"/>
                </a:lnTo>
                <a:lnTo>
                  <a:pt x="952" y="328"/>
                </a:lnTo>
                <a:lnTo>
                  <a:pt x="928" y="328"/>
                </a:lnTo>
                <a:lnTo>
                  <a:pt x="904" y="328"/>
                </a:lnTo>
                <a:lnTo>
                  <a:pt x="880" y="328"/>
                </a:lnTo>
                <a:lnTo>
                  <a:pt x="856" y="328"/>
                </a:lnTo>
                <a:lnTo>
                  <a:pt x="832" y="328"/>
                </a:lnTo>
                <a:lnTo>
                  <a:pt x="808" y="328"/>
                </a:lnTo>
                <a:lnTo>
                  <a:pt x="784" y="320"/>
                </a:lnTo>
                <a:lnTo>
                  <a:pt x="760" y="312"/>
                </a:lnTo>
                <a:lnTo>
                  <a:pt x="736" y="304"/>
                </a:lnTo>
                <a:lnTo>
                  <a:pt x="712" y="296"/>
                </a:lnTo>
                <a:lnTo>
                  <a:pt x="688" y="296"/>
                </a:lnTo>
                <a:lnTo>
                  <a:pt x="664" y="288"/>
                </a:lnTo>
                <a:lnTo>
                  <a:pt x="640" y="272"/>
                </a:lnTo>
                <a:lnTo>
                  <a:pt x="616" y="272"/>
                </a:lnTo>
                <a:lnTo>
                  <a:pt x="592" y="272"/>
                </a:lnTo>
                <a:lnTo>
                  <a:pt x="528" y="264"/>
                </a:lnTo>
                <a:lnTo>
                  <a:pt x="480" y="264"/>
                </a:lnTo>
                <a:lnTo>
                  <a:pt x="456" y="248"/>
                </a:lnTo>
                <a:lnTo>
                  <a:pt x="432" y="224"/>
                </a:lnTo>
                <a:lnTo>
                  <a:pt x="408" y="216"/>
                </a:lnTo>
                <a:lnTo>
                  <a:pt x="384" y="208"/>
                </a:lnTo>
                <a:lnTo>
                  <a:pt x="368" y="184"/>
                </a:lnTo>
                <a:lnTo>
                  <a:pt x="344" y="176"/>
                </a:lnTo>
                <a:lnTo>
                  <a:pt x="320" y="168"/>
                </a:lnTo>
                <a:lnTo>
                  <a:pt x="296" y="152"/>
                </a:lnTo>
                <a:lnTo>
                  <a:pt x="272" y="144"/>
                </a:lnTo>
                <a:lnTo>
                  <a:pt x="248" y="144"/>
                </a:lnTo>
                <a:lnTo>
                  <a:pt x="224" y="128"/>
                </a:lnTo>
                <a:lnTo>
                  <a:pt x="200" y="120"/>
                </a:lnTo>
                <a:lnTo>
                  <a:pt x="176" y="120"/>
                </a:lnTo>
                <a:lnTo>
                  <a:pt x="152" y="120"/>
                </a:lnTo>
                <a:lnTo>
                  <a:pt x="128" y="120"/>
                </a:lnTo>
                <a:lnTo>
                  <a:pt x="104" y="120"/>
                </a:lnTo>
                <a:lnTo>
                  <a:pt x="80" y="120"/>
                </a:lnTo>
                <a:lnTo>
                  <a:pt x="56" y="128"/>
                </a:lnTo>
                <a:lnTo>
                  <a:pt x="32" y="144"/>
                </a:lnTo>
                <a:lnTo>
                  <a:pt x="8" y="160"/>
                </a:lnTo>
                <a:lnTo>
                  <a:pt x="0" y="160"/>
                </a:lnTo>
                <a:lnTo>
                  <a:pt x="0" y="136"/>
                </a:lnTo>
                <a:lnTo>
                  <a:pt x="0" y="112"/>
                </a:lnTo>
                <a:lnTo>
                  <a:pt x="0" y="64"/>
                </a:lnTo>
                <a:lnTo>
                  <a:pt x="0" y="64"/>
                </a:lnTo>
              </a:path>
            </a:pathLst>
          </a:custGeom>
          <a:solidFill>
            <a:srgbClr val="3333cc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430800" y="5259240"/>
            <a:ext cx="152352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77" y="0"/>
                </a:moveTo>
                <a:arcTo wR="10800" hR="10800" stAng="-5407162" swAng="5407162"/>
                <a:lnTo>
                  <a:pt x="10800" y="10800"/>
                </a:lnTo>
                <a:close/>
              </a:path>
              <a:path fill="none" w="21600" h="21600">
                <a:moveTo>
                  <a:pt x="10777" y="0"/>
                </a:moveTo>
                <a:arcTo wR="10800" hR="10800" stAng="-5407162" swAng="5407162"/>
              </a:path>
            </a:pathLst>
          </a:custGeom>
          <a:noFill/>
          <a:ln cap="rnd"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rot="10680000">
            <a:off x="4863960" y="4999320"/>
            <a:ext cx="2755440" cy="1066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88" y="0"/>
                </a:moveTo>
                <a:arcTo wR="10800" hR="10800" stAng="-5403961" swAng="5403961"/>
                <a:lnTo>
                  <a:pt x="10800" y="10800"/>
                </a:lnTo>
                <a:close/>
              </a:path>
              <a:path fill="none" w="21600" h="21600">
                <a:moveTo>
                  <a:pt x="10788" y="0"/>
                </a:moveTo>
                <a:arcTo wR="10800" hR="10800" stAng="-5403961" swAng="5403961"/>
              </a:path>
            </a:pathLst>
          </a:custGeom>
          <a:noFill/>
          <a:ln cap="rnd"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0" y="5943600"/>
            <a:ext cx="380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590920" y="5867280"/>
            <a:ext cx="75960" cy="76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2590560" y="5943600"/>
            <a:ext cx="75960" cy="76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819520" y="6095880"/>
            <a:ext cx="19047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rge 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943600" y="5181480"/>
            <a:ext cx="220968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mall river or str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8680" y="6545160"/>
            <a:ext cx="1273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hree 419.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8441640" y="654516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CONVENTIONAL SIGNS (3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33520" y="1066680"/>
            <a:ext cx="3504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.  RAILRO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95280" y="1828800"/>
            <a:ext cx="266724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0200" y="1676520"/>
            <a:ext cx="0" cy="304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1676520"/>
            <a:ext cx="0" cy="304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590920" y="1676520"/>
            <a:ext cx="0" cy="304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429000" y="1676520"/>
            <a:ext cx="0" cy="304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971800" y="1676520"/>
            <a:ext cx="0" cy="304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523880" y="2133720"/>
            <a:ext cx="2286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gle tr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105520" y="1752480"/>
            <a:ext cx="25146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486400" y="1600200"/>
            <a:ext cx="0" cy="3049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867280" y="1600200"/>
            <a:ext cx="0" cy="3049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781680" y="1600200"/>
            <a:ext cx="0" cy="3049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162920" y="1600200"/>
            <a:ext cx="0" cy="3049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78680" y="1454040"/>
            <a:ext cx="291960" cy="5968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86400" y="2209680"/>
            <a:ext cx="21337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ilroad st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33520" y="2819520"/>
            <a:ext cx="30477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7.  BUILD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073160" y="3511440"/>
            <a:ext cx="368280" cy="29232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740040" y="3587760"/>
            <a:ext cx="368280" cy="29196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886200" y="3200400"/>
            <a:ext cx="0" cy="4572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733920" y="3352680"/>
            <a:ext cx="30456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330960" y="3511440"/>
            <a:ext cx="368280" cy="29232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477120" y="3200400"/>
            <a:ext cx="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477120" y="3200400"/>
            <a:ext cx="304560" cy="1522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6552720" y="3352680"/>
            <a:ext cx="228600" cy="763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6476760" y="3429000"/>
            <a:ext cx="7596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477120" y="3200400"/>
            <a:ext cx="249120" cy="230040"/>
          </a:xfrm>
          <a:custGeom>
            <a:avLst/>
            <a:gdLst/>
            <a:ahLst/>
            <a:rect l="l" t="t" r="r" b="b"/>
            <a:pathLst>
              <a:path w="157" h="145">
                <a:moveTo>
                  <a:pt x="0" y="0"/>
                </a:moveTo>
                <a:lnTo>
                  <a:pt x="48" y="36"/>
                </a:lnTo>
                <a:lnTo>
                  <a:pt x="84" y="36"/>
                </a:lnTo>
                <a:lnTo>
                  <a:pt x="120" y="60"/>
                </a:lnTo>
                <a:lnTo>
                  <a:pt x="156" y="84"/>
                </a:lnTo>
                <a:lnTo>
                  <a:pt x="144" y="96"/>
                </a:lnTo>
                <a:lnTo>
                  <a:pt x="120" y="132"/>
                </a:lnTo>
                <a:lnTo>
                  <a:pt x="84" y="132"/>
                </a:lnTo>
                <a:lnTo>
                  <a:pt x="48" y="132"/>
                </a:lnTo>
                <a:lnTo>
                  <a:pt x="0" y="144"/>
                </a:lnTo>
                <a:lnTo>
                  <a:pt x="12" y="108"/>
                </a:lnTo>
                <a:lnTo>
                  <a:pt x="12" y="72"/>
                </a:lnTo>
                <a:lnTo>
                  <a:pt x="0" y="0"/>
                </a:lnTo>
                <a:lnTo>
                  <a:pt x="36" y="48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676520" y="3505320"/>
            <a:ext cx="1218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u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419720" y="3505320"/>
            <a:ext cx="1295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ur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010280" y="3429000"/>
            <a:ext cx="1600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ho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09480" y="4267080"/>
            <a:ext cx="3353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.  HEIGH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143000" y="4495680"/>
            <a:ext cx="175248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5029200"/>
            <a:ext cx="990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5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066680" y="5562720"/>
            <a:ext cx="274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ot He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202200" y="4421160"/>
            <a:ext cx="2437920" cy="121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86" y="0"/>
                </a:moveTo>
                <a:arcTo wR="10800" hR="10800" stAng="-5404476" swAng="5404476"/>
                <a:lnTo>
                  <a:pt x="10800" y="10800"/>
                </a:lnTo>
                <a:close/>
              </a:path>
              <a:path fill="none" w="21600" h="21600">
                <a:moveTo>
                  <a:pt x="10786" y="0"/>
                </a:moveTo>
                <a:arcTo wR="10800" hR="10800" stAng="-5404476" swAng="5404476"/>
              </a:path>
            </a:pathLst>
          </a:custGeom>
          <a:noFill/>
          <a:ln cap="rnd" w="255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486400" y="5105520"/>
            <a:ext cx="5335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792760" y="4878360"/>
            <a:ext cx="2590200" cy="1218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5371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53710"/>
              </a:path>
            </a:pathLst>
          </a:custGeom>
          <a:noFill/>
          <a:ln cap="rnd" w="255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049920" y="4649760"/>
            <a:ext cx="2285280" cy="121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85" y="0"/>
                </a:moveTo>
                <a:arcTo wR="10800" hR="10800" stAng="-5404774" swAng="5404774"/>
                <a:lnTo>
                  <a:pt x="10800" y="10800"/>
                </a:lnTo>
                <a:close/>
              </a:path>
              <a:path fill="none" w="21600" h="21600">
                <a:moveTo>
                  <a:pt x="10785" y="0"/>
                </a:moveTo>
                <a:arcTo wR="10800" hR="10800" stAng="-5404774" swAng="5404774"/>
              </a:path>
            </a:pathLst>
          </a:custGeom>
          <a:noFill/>
          <a:ln cap="rnd" w="255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105520" y="5257800"/>
            <a:ext cx="5331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rot="10620000">
            <a:off x="5391360" y="4924800"/>
            <a:ext cx="2286000" cy="1371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85" y="0"/>
                </a:moveTo>
                <a:arcTo wR="10800" hR="10800" stAng="-5404774" swAng="5404774"/>
                <a:lnTo>
                  <a:pt x="10800" y="10800"/>
                </a:lnTo>
                <a:close/>
              </a:path>
              <a:path fill="none" w="21600" h="21600">
                <a:moveTo>
                  <a:pt x="10785" y="0"/>
                </a:moveTo>
                <a:arcTo wR="10800" hR="10800" stAng="-5404774" swAng="5404774"/>
              </a:path>
            </a:pathLst>
          </a:custGeom>
          <a:noFill/>
          <a:ln cap="rnd" w="255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172200" y="4876920"/>
            <a:ext cx="17524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our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8680" y="6545160"/>
            <a:ext cx="1273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hree 419.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8441640" y="654516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CONVENTIONAL SIGNS (4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62120" y="1066680"/>
            <a:ext cx="62481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9.  MISCELLANEOUS SYMBO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19320" y="1905120"/>
            <a:ext cx="129528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219320" y="190512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219320" y="2286000"/>
            <a:ext cx="121896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438280" y="190512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447920" y="1981080"/>
            <a:ext cx="9144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E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219320" y="2590920"/>
            <a:ext cx="1828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mete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352680" y="1981080"/>
            <a:ext cx="175284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352680" y="2133720"/>
            <a:ext cx="175284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3657600" y="1828440"/>
            <a:ext cx="152280" cy="2286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657600" y="2057400"/>
            <a:ext cx="152280" cy="2286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4191120" y="1828440"/>
            <a:ext cx="152280" cy="2286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91120" y="2057400"/>
            <a:ext cx="152280" cy="2286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886200" y="2514600"/>
            <a:ext cx="14479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578640" y="1930320"/>
            <a:ext cx="558720" cy="330120"/>
          </a:xfrm>
          <a:prstGeom prst="rect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H="1" flipV="1">
            <a:off x="6400440" y="1828800"/>
            <a:ext cx="152280" cy="763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H="1">
            <a:off x="6400440" y="2286000"/>
            <a:ext cx="152280" cy="763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7162920" y="1828800"/>
            <a:ext cx="152280" cy="763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162920" y="2286000"/>
            <a:ext cx="152280" cy="763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248520" y="2514600"/>
            <a:ext cx="14475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voi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3505320"/>
            <a:ext cx="4953240" cy="20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emorize the most common Conventional Signs - it will save you time when map reading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6019920" y="3505320"/>
            <a:ext cx="2446200" cy="270036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8680" y="6545160"/>
            <a:ext cx="1273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hree 419.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441640" y="654516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1-19T18:45:38Z</dcterms:created>
  <dc:creator>Valued Customer</dc:creator>
  <dc:description/>
  <dc:language>en-US</dc:language>
  <cp:lastModifiedBy>DND</cp:lastModifiedBy>
  <cp:lastPrinted>1999-01-11T17:42:50Z</cp:lastPrinted>
  <dcterms:modified xsi:type="dcterms:W3CDTF">1999-01-11T17:42:52Z</dcterms:modified>
  <cp:revision>8</cp:revision>
  <dc:subject/>
  <dc:title>No Slide Title</dc:title>
</cp:coreProperties>
</file>