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9917-3662-424C-9C95-E8D70AC0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A13-E329-4E61-928C-62E24E5B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BA45-220E-4BCC-AFD9-E87DE807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1038-E2FD-4C72-9986-5BF871E9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EDAD-4132-4A8E-96E2-CBBE8855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4E67-99D7-47FC-AE25-26C3AD41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399C-5BE3-4BB1-AC04-CB7F9232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6C3-78B3-40FD-87FF-1B4116E0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A2A2-BDE5-4FE9-9CC7-B91E2CBE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777E-FDF9-40EE-A6A5-608C846D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9BDF-7517-4182-B66E-F3D6791D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8186-8CDA-4A67-9323-6CDFAD57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96D7-B34E-4D57-8D94-1243EB873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inciples of a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33530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find the position of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Indicate the distance along the X axis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Indicate the distance along the Y axis 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The combination of X-Y is the location of A.  (5,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1752480"/>
            <a:ext cx="0" cy="3810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5181480"/>
            <a:ext cx="3352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181480" y="1752480"/>
            <a:ext cx="1526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5333760" y="175212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333760" y="533412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5334120"/>
            <a:ext cx="1526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800240" y="4952880"/>
            <a:ext cx="22860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181480"/>
            <a:ext cx="22860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24680" y="5029200"/>
            <a:ext cx="22860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924320" y="5181480"/>
            <a:ext cx="22860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1371600"/>
            <a:ext cx="76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5562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495288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29600" y="495288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5181480"/>
            <a:ext cx="2209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2  3  4  5  6  7  8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2209680"/>
            <a:ext cx="30492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 8 7 6 5 4 3 2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62940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274320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705360" y="20574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705720" y="2514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666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1600200"/>
            <a:ext cx="838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00200" y="15228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inciples of a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838080"/>
            <a:ext cx="441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astings and Nor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7240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525780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47242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419112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365760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31240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259092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205740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5867280"/>
            <a:ext cx="1904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1828800"/>
            <a:ext cx="0" cy="68580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601992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2743200"/>
            <a:ext cx="533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O R T H  I  N 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18288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2438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29718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350532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40384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45720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510552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5486400"/>
            <a:ext cx="381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2      73       74       75       76       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828800"/>
            <a:ext cx="2895480" cy="39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sting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from North to South. They are numbered from 00 to 99 and read from left to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th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 from East to West. They are numbered from 00 to 99 and read from top to bot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rder of Working a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143000"/>
            <a:ext cx="3276360" cy="39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a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lways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irst hal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Grid Reference. This line forms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de of the grid squ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ort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econd hal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GR.  This line forms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de of the grid squar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533412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MEMBER: In the house and up the stair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95680" y="1066680"/>
            <a:ext cx="4016520" cy="5288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Four-Figure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7720" y="990720"/>
            <a:ext cx="571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p Sgt Smith find tank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62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981080"/>
            <a:ext cx="761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8954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388620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95288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586728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905120"/>
            <a:ext cx="5335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6172200"/>
            <a:ext cx="640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                27              28               29             30               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3809880"/>
            <a:ext cx="5106960" cy="1906560"/>
          </a:xfrm>
          <a:custGeom>
            <a:avLst/>
            <a:gdLst/>
            <a:ahLst/>
            <a:rect l="l" t="t" r="r" b="b"/>
            <a:pathLst>
              <a:path w="3217" h="1201">
                <a:moveTo>
                  <a:pt x="0" y="1200"/>
                </a:moveTo>
                <a:lnTo>
                  <a:pt x="192" y="1008"/>
                </a:lnTo>
                <a:lnTo>
                  <a:pt x="480" y="912"/>
                </a:lnTo>
                <a:lnTo>
                  <a:pt x="816" y="912"/>
                </a:lnTo>
                <a:lnTo>
                  <a:pt x="1104" y="912"/>
                </a:lnTo>
                <a:lnTo>
                  <a:pt x="1248" y="816"/>
                </a:lnTo>
                <a:lnTo>
                  <a:pt x="1488" y="576"/>
                </a:lnTo>
                <a:lnTo>
                  <a:pt x="1968" y="480"/>
                </a:lnTo>
                <a:lnTo>
                  <a:pt x="1992" y="480"/>
                </a:lnTo>
                <a:lnTo>
                  <a:pt x="2448" y="192"/>
                </a:lnTo>
                <a:lnTo>
                  <a:pt x="3216" y="0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2590920"/>
            <a:ext cx="1982520" cy="2287440"/>
          </a:xfrm>
          <a:custGeom>
            <a:avLst/>
            <a:gdLst/>
            <a:ahLst/>
            <a:rect l="l" t="t" r="r" b="b"/>
            <a:pathLst>
              <a:path w="1249" h="1441">
                <a:moveTo>
                  <a:pt x="1104" y="1440"/>
                </a:moveTo>
                <a:lnTo>
                  <a:pt x="1248" y="1056"/>
                </a:lnTo>
                <a:lnTo>
                  <a:pt x="1248" y="1026"/>
                </a:lnTo>
                <a:lnTo>
                  <a:pt x="1248" y="720"/>
                </a:lnTo>
                <a:lnTo>
                  <a:pt x="1104" y="528"/>
                </a:lnTo>
                <a:lnTo>
                  <a:pt x="816" y="480"/>
                </a:lnTo>
                <a:lnTo>
                  <a:pt x="240" y="38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05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153280" y="6172200"/>
            <a:ext cx="68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962440" y="3909960"/>
            <a:ext cx="390240" cy="981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395360" y="2058840"/>
            <a:ext cx="1119240" cy="727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095880" y="3048120"/>
            <a:ext cx="990720" cy="533160"/>
          </a:xfrm>
          <a:prstGeom prst="rect">
            <a:avLst/>
          </a:prstGeom>
          <a:ln w="0">
            <a:noFill/>
          </a:ln>
        </p:spPr>
      </p:pic>
      <p:pic>
        <p:nvPicPr>
          <p:cNvPr id="128" name="jetfight" descr=""/>
          <p:cNvPicPr/>
          <p:nvPr/>
        </p:nvPicPr>
        <p:blipFill>
          <a:blip r:embed="rId4"/>
          <a:stretch/>
        </p:blipFill>
        <p:spPr>
          <a:xfrm>
            <a:off x="6095880" y="5105520"/>
            <a:ext cx="990720" cy="609480"/>
          </a:xfrm>
          <a:prstGeom prst="rect">
            <a:avLst/>
          </a:prstGeom>
          <a:ln w="0">
            <a:noFill/>
          </a:ln>
        </p:spPr>
      </p:pic>
      <p:pic>
        <p:nvPicPr>
          <p:cNvPr id="129" name="jetfight" descr=""/>
          <p:cNvPicPr/>
          <p:nvPr/>
        </p:nvPicPr>
        <p:blipFill>
          <a:blip r:embed="rId5"/>
          <a:stretch/>
        </p:blipFill>
        <p:spPr>
          <a:xfrm>
            <a:off x="3809880" y="2133720"/>
            <a:ext cx="990720" cy="623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0T17:28:40Z</dcterms:created>
  <dc:creator>Valued Customer</dc:creator>
  <dc:description/>
  <dc:language>en-US</dc:language>
  <cp:lastModifiedBy>DND</cp:lastModifiedBy>
  <cp:lastPrinted>1999-01-12T14:43:16Z</cp:lastPrinted>
  <dcterms:modified xsi:type="dcterms:W3CDTF">1999-01-19T20:15:16Z</dcterms:modified>
  <cp:revision>15</cp:revision>
  <dc:subject/>
  <dc:title>No Slide Title</dc:title>
</cp:coreProperties>
</file>