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29A-E5B3-4329-A0D2-689B74CC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C74-115A-4C1E-9FCC-F1E3CB92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D1D-FD87-4D30-A216-F13002CF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6CD-AF1C-48EB-AC0D-FD364A5D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AEF-BFB6-4F99-8DF2-561D27C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F1F-9FA4-4474-8EDC-E042491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00B-E9EE-409E-A2D2-A2C7632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547-E0B1-4AC0-9C7B-8039F274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CB7-0A8E-4E6B-AFDC-E59D188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28D-76D6-433B-8524-D623733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324-9362-4C74-94F7-B906A9D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778-0E2B-4DBE-AC6C-CCA0064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309-29C1-42B7-8342-71BD62FEE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atmap" descr=""/>
          <p:cNvPicPr/>
          <p:nvPr/>
        </p:nvPicPr>
        <p:blipFill>
          <a:blip r:embed="rId1"/>
          <a:srcRect l="7521" t="8332" r="33578" b="40006"/>
          <a:stretch/>
        </p:blipFill>
        <p:spPr>
          <a:xfrm>
            <a:off x="0" y="22860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395360"/>
            <a:ext cx="358128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OGRAO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 PH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OAD" descr=""/>
          <p:cNvPicPr/>
          <p:nvPr/>
        </p:nvPicPr>
        <p:blipFill>
          <a:blip r:embed="rId2"/>
          <a:srcRect l="0" t="0" r="17287" b="23334"/>
          <a:stretch/>
        </p:blipFill>
        <p:spPr>
          <a:xfrm>
            <a:off x="5715000" y="2362320"/>
            <a:ext cx="3048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mallmap" descr=""/>
          <p:cNvPicPr/>
          <p:nvPr/>
        </p:nvPicPr>
        <p:blipFill>
          <a:blip r:embed="rId1"/>
          <a:srcRect l="49866" t="0" r="0" b="23749"/>
          <a:stretch/>
        </p:blipFill>
        <p:spPr>
          <a:xfrm>
            <a:off x="6858000" y="380880"/>
            <a:ext cx="2286000" cy="464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990720" y="99072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 the maps properly when not in use. Protect the map sheet from wet and grime by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p board covered with hard plast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tic coating – sheets or spray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stic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map gets wet, open it fully and dry it at the first opport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d the map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ver fully open a map where the wind can catc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P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480" y="22096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0120" y="2971800"/>
          <a:ext cx="10666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971800"/>
                    <a:ext cx="1066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FOLD 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" descr=""/>
          <p:cNvPicPr/>
          <p:nvPr/>
        </p:nvPicPr>
        <p:blipFill>
          <a:blip r:embed="rId1"/>
          <a:srcRect l="0" t="0" r="935" b="0"/>
          <a:stretch/>
        </p:blipFill>
        <p:spPr>
          <a:xfrm>
            <a:off x="533520" y="1600200"/>
            <a:ext cx="807696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15:47:54Z</dcterms:created>
  <dc:creator>DND</dc:creator>
  <dc:description/>
  <dc:language>en-US</dc:language>
  <cp:lastModifiedBy>DND</cp:lastModifiedBy>
  <cp:lastPrinted>1999-03-01T18:43:40Z</cp:lastPrinted>
  <dcterms:modified xsi:type="dcterms:W3CDTF">1999-03-01T18:44:44Z</dcterms:modified>
  <cp:revision>5</cp:revision>
  <dc:subject/>
  <dc:title>TYPES OF MAPS</dc:title>
</cp:coreProperties>
</file>