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DE61-F111-4747-8773-9FEA3843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D18-9CF9-4E5F-9A1C-CE3E1F00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AC7-C092-42D1-B6CA-549B2297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E99-AD08-4289-B015-82F043CC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1C3-4EDF-4AEF-A010-EC8D1EB7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27EF-C23D-4B70-97D1-E88B9A9F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4200-CF31-490D-B6CE-4FB24FAA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EF1-7FCD-4A5E-986C-02A12782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C74A-F5FB-4C9E-BD0E-CA988BB7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826-1E5F-44E3-965E-82CE1EA8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871-7979-4749-84AB-8508820F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6A3-3C93-4E18-A23E-72B0BDFC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FC94-610A-477F-84D9-4E13ECF43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5500440" cy="810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2-24T14:00:56Z</dcterms:modified>
  <cp:revision>7</cp:revision>
  <dc:subject/>
  <dc:title>No Slide Title</dc:title>
</cp:coreProperties>
</file>