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8C6-F2A2-4EF5-8944-90425DB0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0D0-9A99-49CA-B23B-3F55E22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B7A-7CA8-4929-984E-0A670FC5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B6B-0EFB-41F7-AF84-C357F762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22D-F35A-4037-8141-C58A4962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444-500A-40AA-917C-847A4D62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090-C769-4C7C-8BE2-CF039484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6F6-C515-421C-80E4-6DC5175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F07-8F94-458A-950C-63A93886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6DB-09D1-41BC-9135-6FA8D748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58F-FE1C-42D3-B2A6-EBBA07A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278-013F-4085-8D57-270219CA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6C1C-A39D-4892-A46D-FCA080B03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used PAN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priority except over di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s wait 3 minutes after he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further they can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4648320"/>
            <a:ext cx="32004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80880" y="1676520"/>
            <a:ext cx="1089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gency signal “PAN PAN” (three ti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the station addressed or the wo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“ALL STATIONS” (three ti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 “THIS IS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ntification of the aircra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ure of the urgency cond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ions of the person in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position, the flight level or the altitud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he heading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ther usefu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266688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99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-PAN-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NTO TOWER THIS IS DE HAVIL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XTROT GOLF FOXTROT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 STINSON FOXTROT HOTEL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MEO THAT HIS UNDERCARRI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IS DAM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C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the sentences so that they are in the proper order of a urgency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other useful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s “THIS I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fication of the aircra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rgency signal “PAN PAN” (Three tim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e of the urgency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the station addressed or the words “ALL THE STATIONS” (Three tim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ntions of the persons in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position, the flight level or the altitude and the h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communication has priority over urgency communication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5:46:34Z</dcterms:created>
  <dc:creator>DND</dc:creator>
  <dc:description/>
  <dc:language>en-US</dc:language>
  <cp:lastModifiedBy>dnd</cp:lastModifiedBy>
  <cp:lastPrinted>1999-01-19T19:43:16Z</cp:lastPrinted>
  <dcterms:modified xsi:type="dcterms:W3CDTF">1999-03-30T18:37:59Z</dcterms:modified>
  <cp:revision>8</cp:revision>
  <dc:subject/>
  <dc:title>URGENCY SIGNAL</dc:title>
</cp:coreProperties>
</file>