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EE22-4BD3-4A2A-B801-3A86460FC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BA1F-29CD-42BC-81C0-0566407B5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B3F3-CE5C-4117-A4B9-A4853B01B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AE8A-D91F-4AAA-8C8C-E11A63F7D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70C9-CC15-4AE6-986E-877155E90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695A-485D-42AF-A3FE-674E4FCF2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260C-CEAB-4669-97C3-6100A60C3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EBD9-7B80-41CE-9183-FB0409C44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E758-F2D9-4556-AECC-79A0EEAD8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5BF9-0926-40FD-BEE5-DC8A76EA8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2D1E-7CEB-40AA-933D-BC485D0C4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0EFD-09EE-498C-A8A2-0CDBB9B24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8B362-98DE-49B2-8FE0-E9FB36732A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441640" y="654516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03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380880"/>
            <a:ext cx="822960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FICIENCY LEVEL THREE TRAI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43080" y="1523880"/>
          <a:ext cx="8800920" cy="548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1523880"/>
                    <a:ext cx="880092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441640" y="654516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03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380880"/>
            <a:ext cx="822960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VEL THREE  SUMMER COUR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63280" y="1447920"/>
            <a:ext cx="5496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LIDER 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IR CADET INSTRUCTORS 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RVIVAL INSTRUCTORS 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HLETIC INSTRUCTORS 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SICIAN LEVEL 4 AND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RVICE 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IR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CHNICAL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PHOTOGRA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AEROENGINE/AIR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ELECTRON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3-09T21:33:32Z</cp:lastPrinted>
  <dcterms:modified xsi:type="dcterms:W3CDTF">1999-03-09T21:34:46Z</dcterms:modified>
  <cp:revision>25</cp:revision>
  <dc:subject/>
  <dc:title>No Slide Title</dc:title>
</cp:coreProperties>
</file>