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1E7-E936-4092-8209-62D6B91D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852-9E2B-4657-AAAC-872A39B5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C05-5569-4A2D-BBE4-53FF6320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4CE-AFB3-4BA1-8DB1-A69C2D34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564-0F3C-4FD8-90EF-B829A53C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3CE-00E5-40DC-98F9-501CC993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15E-1AE1-4997-B6EC-4A7F7C27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031-EB99-48CE-8164-2C719640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A3B-53FE-4C90-8C9A-D840B327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3B6-74A1-4D20-A091-92ABB4AD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A72-082D-48C4-8938-D2916EAA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675-2B68-49B5-8B12-61A0CB32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327F-857E-4692-961B-DB7E1BE0C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990720" y="1905120"/>
          <a:ext cx="4665600" cy="5943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905120"/>
                    <a:ext cx="466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0:37Z</dcterms:modified>
  <cp:revision>4</cp:revision>
  <dc:subject/>
  <dc:title>No Slide Title</dc:title>
</cp:coreProperties>
</file>