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F752-733F-408F-B5ED-35BEEAB6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5523-C665-4C36-B86E-F5B97D31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CF75-6662-4F5E-BC94-32B4175A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C488-A1D1-4A09-9E57-5DF2CE3E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74F-0BA1-4725-9C45-0737F65D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2CCB-9731-4F46-9815-7D404F44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BE68-11BD-4F7C-8A9E-516F3956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C69B-23AD-4B5C-B1B0-1FD7ACE9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909F-8E5E-4352-B832-578AFA47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6C6E-E408-4611-816B-47C80D19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17E4-4722-443B-802C-2DC0D581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5E14-3E1A-44B2-9625-12FA663F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339F-2141-4EBA-93F0-D7CA5EB76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2520" y="4541760"/>
            <a:ext cx="261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400"/>
            <a:ext cx="510552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8.03 Level Th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 A - Crossword Puzzle - Order Giving Proce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533520"/>
            <a:ext cx="1600200" cy="60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CROS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.  This type of order is     specific, concise and       defini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.  To see if the cadets understand the order, it is good to have some form of  ______________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.  After the order has been carried out, ___________ of the results occurs. It is the last step of the order giving proc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.  Always keep in mind the precise reason for the order This is known as the  _______ stage of the order giving proc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. This type of order may or may not compel a person to perform a task (3 word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.  __________ orders should be used for minor details locally or in a local emergenc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OW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.  “John, would you please sweep the floor?” is an example of what type of orde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.  The fifth step in the order giving process is to ________. This is where you spot check while the order is being carried 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. To transmit instructions to another location, you would use a  __________ ord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1752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1752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34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915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960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971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2971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010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5410080"/>
            <a:ext cx="327672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.  The first step in the order-giving process is to ____________ the order to be given. It is the what of the ord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.  “Jane, this floor needs sweeping” is an example of what type of order?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1.  The The order must be stated in concrete terms to ensure understanding. This is known as the _________ in the order giving proc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059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2971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5410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010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010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010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010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7220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816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816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816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752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91520" y="1752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010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6104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1752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39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838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5120" y="2971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0010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010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16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19T14:54:13Z</cp:lastPrinted>
  <dcterms:modified xsi:type="dcterms:W3CDTF">1999-02-23T12:01:50Z</dcterms:modified>
  <cp:revision>26</cp:revision>
  <dc:subject/>
  <dc:title>No Slide Title</dc:title>
</cp:coreProperties>
</file>