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7C3-D068-4689-989C-A1D2022F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E87-2CBF-4463-B9F4-2C950D30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209-A4D9-4EC2-8151-B4F313D7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E85-ADEE-4BF0-8C84-4BA1E14E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442-A8AB-4E5C-8D36-F746AA53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9F4-C137-4F0E-947A-CE9A40A9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2CD-D14C-4393-B46F-1AAB10CC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BF8-D25E-4B3A-9CC6-76D5032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583-86F7-42D9-A29D-701BA51A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3D0-EBA6-43F7-8D9D-8986CA4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D71-E3EA-4D02-9999-BA64E28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382-81C8-4AAF-9A03-487FCC2D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0552-31E0-4D6E-B4FB-E6C890DD2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 2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-PAN-PAN-ALL STATIONS, ALL STATIONS, ALL STATIONS-THIS IS OTTAWA RADIO, OTTAWA RADIO, OTTAWA RADIO-EMERGENCY DESCENT AT OTTAWA AIRPORT-OTTAWA TOWER INSTRUCTS ALL AIRCRAFT THAT ARE BELOW SIX THOUSAND FEET WITHING RANGE OF ONE ZERO MILES OTTAWA VOR LEAVE EAST AND SOUTH SECTORS IMMEDIATELY -THIS IS OTTAWA RADIO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27:14Z</dcterms:created>
  <dc:creator>DND</dc:creator>
  <dc:description/>
  <dc:language>en-US</dc:language>
  <cp:lastModifiedBy>dnd</cp:lastModifiedBy>
  <dcterms:modified xsi:type="dcterms:W3CDTF">1999-03-30T18:21:11Z</dcterms:modified>
  <cp:revision>2</cp:revision>
  <dc:subject/>
  <dc:title>URGENCY EXAMPLE 1 AIRCRAFT CALL WARNING OTHER AIRCRAFT</dc:title>
</cp:coreProperties>
</file>