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59A-C8EB-499F-AD67-C9BA07D8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B8F-2BCE-42FB-B3E1-FD6CB8C0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145-D296-4B9F-8940-1D6007BF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FC7-665A-4FFD-9FA1-BFE22D49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052-79EF-40A1-A6A0-AA1101D7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2A9-AFF8-4F86-8C30-E3045AD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EFA-8415-4582-9E3D-5498549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71A-8B11-408C-9725-2078C872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261-E28E-46FF-A176-6AC14B9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666-B218-4DBF-9DA1-A900139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DED-C019-47CF-B7E6-6B90679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7D6-D443-4DC5-B783-EB84947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2E54-8F0D-44CC-BBBB-5F7E711D0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295280"/>
            <a:ext cx="464832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ROS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.     THE LESSON MUST PROVIDE MENTAL AND/OR PHYSICAL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5.    _____________ MUST BE ALLOTTED FOR CADETS TO PRAC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6.     WHAT MUST AN INSTRUCTOR B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7.     LESSONS MUST PROVIDE THE TRAINEE WITH A SENSE OF 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9.    LESSONS MUST START OUT AT THE LEVEL OF TRAINEE __________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2.   ASKING QUESTIONS OR PERFORMING A PRACTICAL EXERCISE IS AN EXAMPLE OF WHA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4.     YOU SHOULD DO THIS AT THE BEGINNING OF EACH LESS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8360" y="1295280"/>
            <a:ext cx="4265640" cy="49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W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.     THE LETTERS THAT REPRESENT THE SIX PRINCIPLES OF INSTR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.     THIS CAN BE USED TO STIMULATE CURIOS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4.     THIS MUST BE CREATED AND MAINTAINED BY THE INSTRUCTOR.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8.     REPEATING THINGS OVER AND OVER IS AN EXAMPLE OF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0.    CADETS WHO ARE DOING WELL NEED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1.   USE TEACHING __________TO APPEAL TO AS MANY OF THE FIVE SENSES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3.    WHEN TEACHING THEORY, DIVIDE MATERIAL INTO LOGICAL PARTS AND PROCEED IN ___________________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640080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267080" y="5486400"/>
          <a:ext cx="5335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86400"/>
                    <a:ext cx="5335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6320" y="7632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76212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7T20:23:42Z</cp:lastPrinted>
  <dcterms:modified xsi:type="dcterms:W3CDTF">1999-01-27T20:57:08Z</dcterms:modified>
  <cp:revision>22</cp:revision>
  <dc:subject/>
  <dc:title>No Slide Title</dc:title>
</cp:coreProperties>
</file>