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09A-9B27-4519-8A24-74F18E2B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5A2-BF80-420C-A3F7-1C1433F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046-4A83-467F-97AC-FA12C44F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369-411F-41DD-B9C7-AAF5F1E3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C36-2AA4-4F69-9FB7-AE7989C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E6E-1295-4321-B5F2-1AF6BF32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56D-539A-4610-8254-562D5F1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F86-9248-4240-9C10-65B6105D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1C4-34A9-4C6E-A2BD-8993D3CF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EC0-87FB-46A4-BF5F-8E78706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F5D-01CF-457E-A7EF-61A65F46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67A-5D41-4836-AFB3-20B0D17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32AE-CD02-4DF6-B512-8AAEF990C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CIENCY LEVEL TWO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3080" y="1523880"/>
          <a:ext cx="880092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523880"/>
                    <a:ext cx="88009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143000"/>
          <a:ext cx="11753640" cy="693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1175364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8T21:30:18Z</cp:lastPrinted>
  <dcterms:modified xsi:type="dcterms:W3CDTF">1999-01-28T21:35:57Z</dcterms:modified>
  <cp:revision>24</cp:revision>
  <dc:subject/>
  <dc:title>No Slide Title</dc:title>
</cp:coreProperties>
</file>