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4DC-ECBA-4B78-AD3C-1D4BF100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177-226E-4AE6-9C4F-9C163434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E70-FFEE-4754-98E9-787004AB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579-7E9C-4C0F-92EF-E4B7A0A7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0F3-35A9-487E-B5D2-7E875673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1A8-4BB0-442F-A2B2-D70C21DF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0E9-C80D-4068-825E-2205FF38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224-8738-4204-A431-23CD227B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C3A-8AB2-4C79-BBBC-5D66D396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89D-10A3-4796-B3B6-B19A7592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213-5B30-44AE-9F81-B48AC663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F88-7F5D-4A4A-9147-4DC36F77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7C8C-86D4-4EF2-9333-AB6E86E15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ERCI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762120" y="1600200"/>
            <a:ext cx="9906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deep breath before reading each of the following sentences. Then read the entire sentence out loud before taking another br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ow let it work! Mischief, thou art afoot! Take thou what course thou wi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et your speech be with grace, seasoned salt, that ye may know how ye ought to answer every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Mohammedan moon rides at midnight in the mount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s of ancient Ara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08840" y="6613560"/>
            <a:ext cx="213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 2 - Voice Exercises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3:55:40Z</dcterms:created>
  <dc:creator>DND</dc:creator>
  <dc:description/>
  <dc:language>en-US</dc:language>
  <cp:lastModifiedBy>dnd</cp:lastModifiedBy>
  <cp:lastPrinted>1999-01-07T15:26:00Z</cp:lastPrinted>
  <dcterms:modified xsi:type="dcterms:W3CDTF">1999-03-24T12:59:21Z</dcterms:modified>
  <cp:revision>5</cp:revision>
  <dc:subject/>
  <dc:title>FACTORS THAT AFFECT THE HUMAN VOICE </dc:title>
</cp:coreProperties>
</file>