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BC4-8498-4D14-8A6C-3DD09F5E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296-AF35-43B1-B1CE-4196FC7C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EBC-9148-465F-8EF2-F7B9BF6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95A-004E-4769-80ED-470EA3DC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E89-D038-4A24-8BB3-ACE7EA5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162-1BD9-43C5-B358-13A8006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F97-38B8-4DD0-BCBF-7A1F4C69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503-54EA-4E67-9797-F5883DFD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C32-ABCF-4529-A23E-D30FE91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E3D-821C-4A0B-A393-3CC23D8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627-330F-427C-8E61-46C4633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33D-59A9-4E8D-8FE2-617A059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B4A-F8C7-4BF7-A380-DE0642DC5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0320" y="15228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rol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ntrols2" descr=""/>
          <p:cNvPicPr/>
          <p:nvPr/>
        </p:nvPicPr>
        <p:blipFill>
          <a:blip r:embed="rId1"/>
          <a:stretch/>
        </p:blipFill>
        <p:spPr>
          <a:xfrm>
            <a:off x="380880" y="1442880"/>
            <a:ext cx="8123400" cy="465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8200" y="3657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0600" y="37180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7320" y="15080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6040" y="15238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3:05:07Z</dcterms:modified>
  <cp:revision>10</cp:revision>
  <dc:subject/>
  <dc:title>No Slide Title</dc:title>
</cp:coreProperties>
</file>