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07C-C3B4-4B9C-ABB9-AE4CF599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FE1-7BB0-44D2-8EA7-C46B70DE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70E-312C-4DD1-9EB9-6E711B1C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3EB-C949-40B1-BED6-04EABE82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13B-98FA-49E3-A35B-6F33B36A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43E-2732-4BE7-902D-B92B7D17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EBF-850A-4224-B407-3FF57AA2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906-7A95-4B4F-A633-1D0FA4B9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712-9A04-4EDE-AF57-4D1AA116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E41-D4D1-497B-A38A-192242E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F34-49C9-415D-94F4-11CC829C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361-6C5C-4C54-8895-D4BAAC57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B2F9-3344-421B-8788-5D28FB408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LEADERS MUST HAVE CONFIDENCE I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so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713320" cy="4003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05720" y="2362320"/>
            <a:ext cx="1571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2-19T19:22:45Z</dcterms:modified>
  <cp:revision>16</cp:revision>
  <dc:subject/>
  <dc:title>No Slide Title</dc:title>
</cp:coreProperties>
</file>