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7AC-B106-4294-965C-936541BD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6F8-4B26-44A5-BC06-06D52F04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E2E-D999-4CF8-A251-3579C20F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D38-6DE2-4739-85BF-2D45EB7F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F62-71DB-4AC1-9272-ECB0A705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2D0-3607-49FD-B8EA-087D31C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E73-20B9-44D7-B4D6-0B5ACE4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B37-E868-4320-82BB-9D2B492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A3D-4EC8-4504-95BD-AF853FA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5BF-09D2-445B-AB58-BC6F187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248-956B-48AC-9FCF-CE11A2C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749-B3CB-44AE-95F9-43F7E04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659-3FA3-47A2-B727-63BF751C2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cracy -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igarc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Guatema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mocracy -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00" y="6545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36232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iraq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2286000" cy="125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rms of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8" name="Guatemala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08:03Z</dcterms:created>
  <dc:creator>dnd</dc:creator>
  <dc:description/>
  <dc:language>en-US</dc:language>
  <cp:lastModifiedBy>dnd</cp:lastModifiedBy>
  <cp:lastPrinted>1999-03-05T12:12:33Z</cp:lastPrinted>
  <dcterms:modified xsi:type="dcterms:W3CDTF">1999-03-05T12:12:36Z</dcterms:modified>
  <cp:revision>6</cp:revision>
  <dc:subject/>
  <dc:title>Forms of Government</dc:title>
</cp:coreProperties>
</file>