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431B2-A619-4725-A54C-2B0DC49B9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56329-38C0-4438-80B7-40F472EA6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E2312-898C-4B6E-9CA5-59D1896B5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E759E-3B3F-4D3B-A39C-AF83052D8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D14A9-5C1B-4DBB-AFD0-467C10C5C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99FF8-3289-4A35-AE54-526F9645D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BCE7C-8F23-4338-928E-0369D6D75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18851-B818-45DA-8625-57CCF9B72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7FF44-BEDE-4BCE-BAB1-A15F8AD8D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29888-3137-4553-9162-43D18D023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5A24D-B5F8-4D07-AA70-4E00D236F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53C71-91D5-4915-83D5-33268B15E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44A08-F313-4801-8392-695C55A9E0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975320" y="90360"/>
            <a:ext cx="495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The Four Forc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8459640" y="6551640"/>
            <a:ext cx="66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3560" y="6551640"/>
            <a:ext cx="1177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wo 414.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4forces" descr=""/>
          <p:cNvPicPr/>
          <p:nvPr/>
        </p:nvPicPr>
        <p:blipFill>
          <a:blip r:embed="rId1"/>
          <a:srcRect l="0" t="13911" r="0" b="17778"/>
          <a:stretch/>
        </p:blipFill>
        <p:spPr>
          <a:xfrm>
            <a:off x="685800" y="1752480"/>
            <a:ext cx="8023320" cy="40388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451160" y="3565440"/>
            <a:ext cx="121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RU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572720" y="3489480"/>
            <a:ext cx="93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R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915280" y="5562720"/>
            <a:ext cx="119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354480" y="150804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F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32200" y="277920"/>
            <a:ext cx="5042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ll in each of the four for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 the correct spa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459640" y="6551640"/>
            <a:ext cx="66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3560" y="6551640"/>
            <a:ext cx="1177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wo 414.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4forces" descr=""/>
          <p:cNvPicPr/>
          <p:nvPr/>
        </p:nvPicPr>
        <p:blipFill>
          <a:blip r:embed="rId1"/>
          <a:srcRect l="0" t="13911" r="0" b="17778"/>
          <a:stretch/>
        </p:blipFill>
        <p:spPr>
          <a:xfrm>
            <a:off x="685800" y="1752480"/>
            <a:ext cx="8023320" cy="40388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2865600" y="5562720"/>
            <a:ext cx="12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094200" y="1447920"/>
            <a:ext cx="12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42120" y="3505320"/>
            <a:ext cx="12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373400" y="3505320"/>
            <a:ext cx="12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785200" y="380880"/>
            <a:ext cx="311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ame: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12T20:22:02Z</dcterms:created>
  <dc:creator>RC Air Cadets</dc:creator>
  <dc:description/>
  <dc:language>en-US</dc:language>
  <cp:lastModifiedBy>dnd</cp:lastModifiedBy>
  <cp:lastPrinted>1999-01-21T13:57:20Z</cp:lastPrinted>
  <dcterms:modified xsi:type="dcterms:W3CDTF">1999-03-24T13:02:01Z</dcterms:modified>
  <cp:revision>10</cp:revision>
  <dc:subject/>
  <dc:title>No Slide Title</dc:title>
</cp:coreProperties>
</file>