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413F-DF13-4BA6-A009-83F7BF63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D7F5-1CFE-4758-8091-A088D580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6BC3-7BB6-4976-BB18-D41833DC0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2453-C909-46AE-A5B1-0AD37EDF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B3BF-5F90-4C0A-AEDE-F3392EBE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3D68-FF08-4900-926F-1593C4F2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D8C2-B39F-40D5-88F4-156343C5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035B-4A56-481B-B32F-9C22C9CF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729A-E304-457A-AD09-D0AA9EAF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01F3-599A-48A7-B1B2-1F44FD70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021B-ECC4-41BA-A742-66CC9EDD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AC9D-F7C2-4DA4-89B1-4F579EA0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6294-75DE-453C-9FF5-D10C740B0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4400" y="6572160"/>
            <a:ext cx="1265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136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Definition of Lead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anadian Forces definition of leadership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rt of influencing human behavior to accomplish a mission in the manner desired by the leader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438280" cy="2008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15000" y="4191120"/>
            <a:ext cx="1527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4400" y="6572160"/>
            <a:ext cx="1265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Principles of Lead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ad by setting a good examp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now your cadets and look after their welfar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 the qualities of leadership in your cadet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sound and timely decision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in your cadets to work as a tea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5T20:18:40Z</dcterms:created>
  <dc:creator>dnd</dc:creator>
  <dc:description/>
  <dc:language>en-US</dc:language>
  <cp:lastModifiedBy>dnd</cp:lastModifiedBy>
  <cp:lastPrinted>1999-01-06T13:00:59Z</cp:lastPrinted>
  <dcterms:modified xsi:type="dcterms:W3CDTF">1999-01-11T14:08:40Z</dcterms:modified>
  <cp:revision>13</cp:revision>
  <dc:subject/>
  <dc:title>No Slide Title</dc:title>
</cp:coreProperties>
</file>