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FC6-1874-45B1-B278-8B4D5448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A93-E46A-47BB-9365-426E0037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029-1733-4C13-BC92-4D68F672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FB2-20AC-43F8-B601-5F4F84F6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84D-EF99-4282-AC9F-BA789BE2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0BE-3A11-46A6-88F1-AF1CE2D1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F35-7181-4637-AD21-E1A0DFC3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7E1-CABC-4BB3-8043-C940F547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648-EAF5-422B-A0D5-55343886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C3B-91AF-4912-AF63-950D5569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D3B-16A0-46FE-A997-8B707913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F21-AFE3-4E03-A94C-EE9050CB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4882-4E03-44DF-8839-1A5081023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11T15:57:41Z</dcterms:modified>
  <cp:revision>10</cp:revision>
  <dc:subject/>
  <dc:title>No Slide Title</dc:title>
</cp:coreProperties>
</file>