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3C8-5FD0-459D-B6F2-954C1D5B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FF4-7591-4611-A3FA-78F78EB4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299-4314-4086-AD1D-C42FF46B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AEA3-4DD2-4564-BFA5-732150F3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5B08-4661-4555-8634-0EDF347A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910-8159-473C-8F4F-974058CD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BB3-1607-4AFE-9FBE-BC1697C1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FFBC-0E64-4FD3-8696-9CC4D576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FCA-BDCB-4DCE-821B-3E6B3822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711-B4C2-43C8-AE3C-F9C69DD5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E31-FFE6-4D40-9AEC-25AAAA5E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A7A-2301-4A55-ADDD-60C74799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8548-A473-4FF0-9C3B-644DA8D0E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ERCIS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28600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whispering each of the following clearly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thing each word separately. Have some other person listen to you from more than 25 feet away. Say your name, your age, your home squadron. Read a sentence from a book. Perform this drill at least 3 full times. Keep slowing down your pace, making sure you use your jaw, lips and tongue on every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08840" y="6613560"/>
            <a:ext cx="2133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 3 - Voice Exercises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3:55:40Z</dcterms:created>
  <dc:creator>DND</dc:creator>
  <dc:description/>
  <dc:language>en-US</dc:language>
  <cp:lastModifiedBy>dnd</cp:lastModifiedBy>
  <cp:lastPrinted>1999-01-07T15:26:00Z</cp:lastPrinted>
  <dcterms:modified xsi:type="dcterms:W3CDTF">1999-03-24T13:00:09Z</dcterms:modified>
  <cp:revision>5</cp:revision>
  <dc:subject/>
  <dc:title>FACTORS THAT AFFECT THE HUMAN VOICE </dc:title>
</cp:coreProperties>
</file>