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8A2-7B55-4D5E-845D-0CC0BDC5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82A-E9AA-4722-AB4F-B49233CA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D71-941F-41D0-9698-668891E1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94E-3C55-4D17-BE07-C8146E9F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4F6-1FCD-40F2-B9CD-BDA7F47B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03D-5A82-40B3-93AB-4420F1BE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B84-746A-45AA-BCD9-86599EF5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FD8-A959-471E-8652-850059C5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80C-EC53-4DAA-B84B-B7B031F2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955-C70A-4BB2-A7ED-9E5E63CD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7FC-7156-4220-A108-4B9B0FFF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04D-8392-4E90-97AB-9C336043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22D6-25F8-447A-82ED-D677A30D2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2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B - Crossword Puzzle Answer Key  - Qualities of a Lead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895480" y="5334120"/>
          <a:ext cx="6858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334120"/>
                    <a:ext cx="685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666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38862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35812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41911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44956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956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1911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48006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1055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1430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14479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17524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6019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6324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838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6324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533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666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6019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838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2-22T20:21:17Z</dcterms:modified>
  <cp:revision>19</cp:revision>
  <dc:subject/>
  <dc:title>No Slide Title</dc:title>
</cp:coreProperties>
</file>