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46F-4FC8-4373-B826-4D3355AA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B10-2FA8-464C-B812-629A217B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7C3-DA6C-45F3-8B58-5EE7D8C4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5A6-A595-4F5E-85C7-BE927C0A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7D3C-0D50-4BC1-85D8-753A59DA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7A8-ED88-47BA-8FDB-B5B6C75B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0DE-2494-4A04-A955-CF089490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63C-8033-4301-AE5D-15B40F8E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2CA-8C3D-4089-ABB8-405AAD7F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9A9-1790-431A-B2D8-5A5DA587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89C-9BA3-4A6D-963F-9CFCA7E6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FA8-3EC9-4F60-87AE-95833806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BDA0-7AE4-4EA6-BDE1-AD06AC462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67080" y="838080"/>
          <a:ext cx="7012080" cy="8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838080"/>
                    <a:ext cx="7012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90720" y="1828800"/>
          <a:ext cx="5529240" cy="579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828800"/>
                    <a:ext cx="5529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523880" y="1828800"/>
          <a:ext cx="4319640" cy="6781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828800"/>
                    <a:ext cx="431964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00:18:58Z</dcterms:created>
  <dc:creator>dnd</dc:creator>
  <dc:description/>
  <dc:language>en-US</dc:language>
  <cp:lastModifiedBy>Jamie Richards</cp:lastModifiedBy>
  <cp:lastPrinted>1999-01-07T00:25:20Z</cp:lastPrinted>
  <dcterms:modified xsi:type="dcterms:W3CDTF">1999-04-23T18:51:32Z</dcterms:modified>
  <cp:revision>5</cp:revision>
  <dc:subject/>
  <dc:title>No Slide Title</dc:title>
</cp:coreProperties>
</file>