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EC5-3B7C-41C3-9F20-61103518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DE2-ED11-4EB6-A841-7047E54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DEF-067E-46EB-B597-C3EAD60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FF9-940F-4B9B-9499-78B46424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A0F-CF28-4F0B-8D7A-D8DCB00B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CD7-76BB-4289-A2EC-98E8018C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1D6-3047-43EB-8BA2-BD8614C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0C7-C459-41E2-B026-A25C3C17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592-CB92-4C88-B793-268B971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6F0-74A3-4911-B530-36B36F2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538-B4D4-435E-9042-CB9D19C8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633-BB10-48AE-8614-50825D2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43B-E362-4FFD-A985-6C860BBD2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1-07T00:39:44Z</dcterms:modified>
  <cp:revision>23</cp:revision>
  <dc:subject/>
  <dc:title>No Slide Title</dc:title>
</cp:coreProperties>
</file>