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D3C-9311-449D-87D6-65F059E8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C349-203F-4263-B95A-5B140362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EE68-DC1D-4B77-8680-9F8EAA86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F77E-33F4-4807-B2BF-54A1B8B3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4679-73AC-4DCE-A58F-169EA7E9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36F-39B7-4418-8A23-32875FF3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16BB-8441-4264-BE2D-DE8CAB1A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411-6D0E-4846-8043-EF3C3B93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0961-63B3-423C-BDEA-43891E42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0DC4-1D3F-4221-BE98-9327444F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CC6B-A09A-4D90-8DE4-BB50BF45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A20C-92F8-497B-89C3-F83D6AC9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C61E-5367-4A2C-9E3B-11E9E7578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r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force that opposes the forward motion of an aircra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main types of drag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site dr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ced dr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site drag is further broken into two type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 dr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n fr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arasite Dr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site drag is the drag produced by those parts of the aircraft tha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tribute to the production of lift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m dra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fers to the drag created by the form or shape of a body as it resists motion through the air.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kin fri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fers to the tendency of air flowing over a body to cling to its surfac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duced Dr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ced drag is the drag produced by those parts of the aircraft th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a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production of li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he result of the wing’s work and therefore a part of lift and can never be eliminate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rag2" descr=""/>
          <p:cNvPicPr/>
          <p:nvPr/>
        </p:nvPicPr>
        <p:blipFill>
          <a:blip r:embed="rId1"/>
          <a:stretch/>
        </p:blipFill>
        <p:spPr>
          <a:xfrm>
            <a:off x="946080" y="1339920"/>
            <a:ext cx="7740720" cy="4178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06400" y="1965240"/>
            <a:ext cx="216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G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CED 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160" y="4952880"/>
            <a:ext cx="175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 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167652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SELAGE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KIN 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2360" y="152280"/>
            <a:ext cx="35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ypes of Dra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14:54:28Z</dcterms:created>
  <dc:creator>RC Air Cadets</dc:creator>
  <dc:description/>
  <dc:language>en-US</dc:language>
  <cp:lastModifiedBy>dnd</cp:lastModifiedBy>
  <cp:lastPrinted>1999-02-23T15:00:22Z</cp:lastPrinted>
  <dcterms:modified xsi:type="dcterms:W3CDTF">1999-03-24T19:53:32Z</dcterms:modified>
  <cp:revision>3</cp:revision>
  <dc:subject/>
  <dc:title>No Slide Title</dc:title>
</cp:coreProperties>
</file>