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8D20-592A-4FC1-B687-D08F7DA08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B55A-3699-4282-ADA8-002FF7AD6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7A9A-E9D0-47A1-9CF9-8D5BA81B5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4C2B-B2F5-42BE-A639-9952B0707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F46F-DCBA-4863-A483-84EF5BF1B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1D28-86A6-4F43-AEE1-10065DA79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7E6D-9D7E-4308-86C2-D93890E07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1D1D-F2E6-4AFF-B634-FAC9B5D0C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571E-B9FC-4B49-9A13-7E0D49A8D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C687-1265-42F1-A5FE-13B40682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19A9-CFF9-4612-9AD5-EE690142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8930-8E10-4F96-8AFF-10C9D502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8552E-3423-4E5D-86B0-E5738E9E16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rill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5399280" cy="673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8T13:20:56Z</dcterms:created>
  <dc:creator>DND</dc:creator>
  <dc:description/>
  <dc:language>en-US</dc:language>
  <cp:lastModifiedBy>DND</cp:lastModifiedBy>
  <cp:lastPrinted>1999-01-07T20:06:04Z</cp:lastPrinted>
  <dcterms:modified xsi:type="dcterms:W3CDTF">1999-01-07T20:06:08Z</dcterms:modified>
  <cp:revision>2</cp:revision>
  <dc:subject/>
  <dc:title>No Slide Title</dc:title>
</cp:coreProperties>
</file>