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B46-D705-4BCB-AA0B-0D4D5F0A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6F0-1FDF-42E9-B96D-9050A585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854-E6FA-44E5-9F19-C3128F27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277-0F61-4E96-9668-398CBA02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7B0-CF91-4E74-9200-84E81713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0BC-A46A-48DA-934B-8F8BBDDF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1DF-4855-4AC6-BED3-0853A07D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128-A39F-476A-9FA1-32535B94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416-8855-422D-AF57-1BA2E58D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A39-EEA2-46AA-9F4D-233AC0E6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990-EE68-40BD-AF6E-B638D046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7B9-9FE9-4F61-AF4E-573A2E3F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43EC-76A4-4A85-B12A-D77490D40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286000"/>
          <a:ext cx="5400720" cy="469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286000"/>
                    <a:ext cx="54007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52Z</dcterms:modified>
  <cp:revision>6</cp:revision>
  <dc:subject/>
  <dc:title>No Slide Title</dc:title>
</cp:coreProperties>
</file>