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E1F-D2A5-4038-9341-98C3F226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D14-9D2B-4326-8568-F677F04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5BB-6FCA-490F-A574-5D81D299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436-606F-4F93-8862-9CCD3542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CDC-0F24-40E5-B7DB-83BF81E2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C77-A56F-4A64-B414-D5DA9444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07C-D6BC-407A-AB65-0AFC936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8B0-9A79-42BA-9511-C65F33D4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706-CB3A-4AA2-95C4-03291FE2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C6E-3F3F-4018-971A-3DDCB8F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A74-A878-4D58-842B-91A1B479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8C9-972E-4449-8F4A-1D8E36EE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902C-0A71-476F-8943-952C691C8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oulli’s Principle states that the total energy in a system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uid system has energy in the form of speed an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peed increases, pressure decreases and if speed decreases, pressure incr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0720" y="152280"/>
            <a:ext cx="50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ern" descr=""/>
          <p:cNvPicPr/>
          <p:nvPr/>
        </p:nvPicPr>
        <p:blipFill>
          <a:blip r:embed="rId1"/>
          <a:stretch/>
        </p:blipFill>
        <p:spPr>
          <a:xfrm>
            <a:off x="3733920" y="4800600"/>
            <a:ext cx="165420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4952880"/>
            <a:ext cx="1295280" cy="655920"/>
          </a:xfrm>
          <a:prstGeom prst="wedgeRoundRectCallout">
            <a:avLst>
              <a:gd name="adj1" fmla="val -86763"/>
              <a:gd name="adj2" fmla="val 72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otal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 a system rem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ant . .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irfoil5" descr=""/>
          <p:cNvPicPr/>
          <p:nvPr/>
        </p:nvPicPr>
        <p:blipFill>
          <a:blip r:embed="rId1"/>
          <a:stretch/>
        </p:blipFill>
        <p:spPr>
          <a:xfrm>
            <a:off x="662040" y="2700360"/>
            <a:ext cx="7818480" cy="179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8480" y="316080"/>
            <a:ext cx="48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 Airfoil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33320" y="152280"/>
            <a:ext cx="37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aking" descr=""/>
          <p:cNvPicPr/>
          <p:nvPr/>
        </p:nvPicPr>
        <p:blipFill>
          <a:blip r:embed="rId1"/>
          <a:stretch/>
        </p:blipFill>
        <p:spPr>
          <a:xfrm>
            <a:off x="2303640" y="838080"/>
            <a:ext cx="4536720" cy="562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29320" y="152280"/>
            <a:ext cx="28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king Li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7728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18:56Z</dcterms:created>
  <dc:creator>RC Air Cadets</dc:creator>
  <dc:description/>
  <dc:language>en-US</dc:language>
  <cp:lastModifiedBy>dnd</cp:lastModifiedBy>
  <cp:lastPrinted>1999-02-23T20:02:30Z</cp:lastPrinted>
  <dcterms:modified xsi:type="dcterms:W3CDTF">1999-03-24T13:03:27Z</dcterms:modified>
  <cp:revision>8</cp:revision>
  <dc:subject/>
  <dc:title>Bernoulli’s Principle</dc:title>
</cp:coreProperties>
</file>