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AE1C-1F7F-4014-8376-4DFF9FADA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F6D0-0316-4863-9FF8-9F1E9B47D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B29B-15ED-45E4-B0B7-B6D5FAAC6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2726-2B4B-416D-906A-E9F350F4E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6BB8-F449-48C1-811D-119583C0A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88AC-DC77-4398-9AB7-28825834B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BE29-68CE-4CF0-970D-8A6F7ABEC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A46B-D3DB-4B5F-AD1C-CF6C72809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427A-9A8C-4037-A6A4-C1EEDF38F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0091-8DD5-4332-A616-6A4E4316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4463-E10B-4CE3-B535-AAFE6900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B0D1-BAA6-4AA7-B7F5-872C4303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196AA-20E2-4AB2-982E-AE9409A940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03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380880"/>
            <a:ext cx="8229600" cy="642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RMY CADET JUNIOR NCM’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1381320" cy="1019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752480" y="3200400"/>
            <a:ext cx="1400400" cy="1143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733400" y="4724280"/>
            <a:ext cx="1543320" cy="1295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505320" y="1752480"/>
            <a:ext cx="21304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3429000"/>
            <a:ext cx="33685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rpo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89480" y="4906800"/>
            <a:ext cx="42829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ster Corpo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03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MY CADET SENIOR NCM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600200" y="990720"/>
            <a:ext cx="1447920" cy="1209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124080" y="1143000"/>
            <a:ext cx="2868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rge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676520" y="2286000"/>
            <a:ext cx="1143000" cy="1371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124080" y="2666880"/>
            <a:ext cx="486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rrant Offic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5334120"/>
            <a:ext cx="5029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ief Warrant Offic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1600200" y="3657600"/>
            <a:ext cx="1371600" cy="10666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1523880" y="4876920"/>
            <a:ext cx="1447920" cy="16002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124080" y="3733920"/>
            <a:ext cx="5715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ster Warrant Offic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441640" y="6545160"/>
            <a:ext cx="634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03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80880" y="5029200"/>
            <a:ext cx="1381320" cy="10191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80880" y="3657600"/>
            <a:ext cx="1400400" cy="1143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3352680" y="2438280"/>
            <a:ext cx="1543320" cy="1295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457200" y="990720"/>
            <a:ext cx="1447920" cy="1209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3505320" y="990720"/>
            <a:ext cx="1143000" cy="1371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457200" y="2362320"/>
            <a:ext cx="1371600" cy="10666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3352680" y="4038480"/>
            <a:ext cx="1447920" cy="16002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286000" y="5181480"/>
            <a:ext cx="5335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3809880"/>
            <a:ext cx="5335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0" y="2514600"/>
            <a:ext cx="5335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0" y="1219320"/>
            <a:ext cx="5335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81480" y="1371600"/>
            <a:ext cx="5335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81480" y="2666880"/>
            <a:ext cx="5335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81480" y="4495680"/>
            <a:ext cx="5335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5880" y="1295280"/>
            <a:ext cx="304812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Master Warrant Offi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Priv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Serge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 Chief Warrant Offi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 Master Corpo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. Warrant Offi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. Corpor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62520" y="579132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 letter with correct rank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380880"/>
            <a:ext cx="7543800" cy="5814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MY CADET RANK MATCHING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6095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71600" y="6400800"/>
            <a:ext cx="1752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1-04T22:22:14Z</cp:lastPrinted>
  <dcterms:modified xsi:type="dcterms:W3CDTF">1999-02-16T22:33:16Z</dcterms:modified>
  <cp:revision>21</cp:revision>
  <dc:subject/>
  <dc:title>No Slide Title</dc:title>
</cp:coreProperties>
</file>