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BCEE-9D6B-43EF-9446-073234F81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D95A-AD89-4DEB-9D0E-1E199E8CA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A6D9-B9FF-4603-85A8-FEE7547AB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F0B7-131C-45E2-B1E7-F7A67FB57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3175-B3DD-466F-BAC7-CCBC87AC8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1F7C-1E5C-47EC-A2F7-4D6E5E7EC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67FE-B226-4980-94B6-4DC8A7A16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1AC1-2001-459E-A42D-4898A395F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B07B-2B38-4E6B-B7D4-75B0937BC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CA2B-5AC4-4190-B66D-938B21A74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3E67-ADA6-4196-86AA-8E00D8396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7CD5-4B9B-4019-804D-4F524B9BC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759C0-5BA7-481D-8406-7C4DC32491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3040" y="6572160"/>
            <a:ext cx="8737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200" y="6572160"/>
            <a:ext cx="12715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Two 408.01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026560" y="6572160"/>
            <a:ext cx="914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The Principles of Lead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mmunicate your ideas and thought clearly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eep your cadets informed of all event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ake good personal initiative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now your strengths and weaknesses; 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reat your cadets as you would like to be tre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11T14:02:20Z</dcterms:created>
  <dc:creator>dnd</dc:creator>
  <dc:description/>
  <dc:language>en-US</dc:language>
  <cp:lastModifiedBy>dnd</cp:lastModifiedBy>
  <dcterms:modified xsi:type="dcterms:W3CDTF">1999-01-11T14:08:21Z</dcterms:modified>
  <cp:revision>2</cp:revision>
  <dc:subject/>
  <dc:title>The Principles of Leadership</dc:title>
</cp:coreProperties>
</file>