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988-8246-404B-8BAC-0F64D044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452-D742-4044-A212-9880ABB0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9EF-A9EF-4F95-82DF-42DF752B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EDE-7CEC-451E-BEDF-FFACADAF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227-8F05-4496-BECE-6F1A9187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060-7196-45E1-9ED2-828C539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155-BEFE-4539-AD3C-018F140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270-CE3E-4896-924A-D81630D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1A0-73C3-4871-ACFA-EDEDDEB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93C-5B08-46BA-A1A4-5B255D42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4B-4E4E-4529-B30A-246E290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26B-A3BA-4910-B3B7-9C16832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FA0-5E59-4EE4-9DEE-9E45D459F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BBIT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abbit" descr=""/>
          <p:cNvPicPr/>
          <p:nvPr/>
        </p:nvPicPr>
        <p:blipFill>
          <a:blip r:embed="rId1"/>
          <a:srcRect l="0" t="0" r="0" b="24075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QUIRREL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quirrel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15:56Z</dcterms:created>
  <dc:creator>DND</dc:creator>
  <dc:description/>
  <dc:language>en-US</dc:language>
  <cp:lastModifiedBy>DND</cp:lastModifiedBy>
  <dcterms:modified xsi:type="dcterms:W3CDTF">1999-03-01T13:12:24Z</dcterms:modified>
  <cp:revision>2</cp:revision>
  <dc:subject/>
  <dc:title>RABBIT SNARE</dc:title>
</cp:coreProperties>
</file>