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E43-4508-4232-832F-7DDFC336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CBA-A8B4-44A5-91F3-7A1191C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A9E-7B49-4F8C-9147-40E40A3E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481-E15A-4A03-875E-62293D90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F1B-D8B8-447A-92F2-4C17981F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791-7114-4F9A-B45F-B606ADF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CE4-8ED0-4B3A-A7CF-A6126A3A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07B-DCBC-4E78-8D49-5114CA6B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D8C-704D-47A4-8B16-40C953C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D9A-0DB0-4A3C-BB87-925A423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8C4-636A-4C8E-B6BE-C41531B9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C02-D252-4345-A729-2655AFD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FB4-0E41-4C1D-9A66-A5E4205B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71560" y="2336760"/>
            <a:ext cx="1231200" cy="36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5480" y="265104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t" descr=""/>
          <p:cNvPicPr/>
          <p:nvPr/>
        </p:nvPicPr>
        <p:blipFill>
          <a:blip r:embed="rId1"/>
          <a:stretch/>
        </p:blipFill>
        <p:spPr>
          <a:xfrm>
            <a:off x="966960" y="1771560"/>
            <a:ext cx="680544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34000" y="1522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et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8920" y="19051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29960" y="190512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2120" y="190512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8400" y="4861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876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Bu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286000"/>
            <a:ext cx="9903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83960" y="3654360"/>
            <a:ext cx="524880" cy="122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86000"/>
            <a:ext cx="7617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68400" y="4281120"/>
            <a:ext cx="784800" cy="60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520" y="228600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rbo" descr=""/>
          <p:cNvPicPr/>
          <p:nvPr/>
        </p:nvPicPr>
        <p:blipFill>
          <a:blip r:embed="rId1"/>
          <a:stretch/>
        </p:blipFill>
        <p:spPr>
          <a:xfrm>
            <a:off x="593640" y="1969920"/>
            <a:ext cx="7255080" cy="344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42280" y="17316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rboprop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15200" y="167652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4880" y="51055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5680" y="51055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828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440" y="167652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8120" y="1828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5760" y="5029200"/>
            <a:ext cx="16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40400" y="50292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867280" y="44956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23920" y="388584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505320" y="3809520"/>
            <a:ext cx="685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3623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3962160"/>
            <a:ext cx="38124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36232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2000" y="2227320"/>
            <a:ext cx="713880" cy="9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urbo%20prop" descr=""/>
          <p:cNvPicPr/>
          <p:nvPr/>
        </p:nvPicPr>
        <p:blipFill>
          <a:blip r:embed="rId1"/>
          <a:srcRect l="6304" t="8770" r="0" b="6918"/>
          <a:stretch/>
        </p:blipFill>
        <p:spPr>
          <a:xfrm>
            <a:off x="266760" y="1370160"/>
            <a:ext cx="270504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jet" descr=""/>
          <p:cNvPicPr/>
          <p:nvPr/>
        </p:nvPicPr>
        <p:blipFill>
          <a:blip r:embed="rId2"/>
          <a:srcRect l="4032" t="12346" r="0" b="4666"/>
          <a:stretch/>
        </p:blipFill>
        <p:spPr>
          <a:xfrm>
            <a:off x="227160" y="5153040"/>
            <a:ext cx="29430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piston2" descr=""/>
          <p:cNvPicPr/>
          <p:nvPr/>
        </p:nvPicPr>
        <p:blipFill>
          <a:blip r:embed="rId3"/>
          <a:srcRect l="13141" t="6653" r="15232" b="3167"/>
          <a:stretch/>
        </p:blipFill>
        <p:spPr>
          <a:xfrm>
            <a:off x="685800" y="2657520"/>
            <a:ext cx="171936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2560" y="365040"/>
            <a:ext cx="48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 each engine typ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8040" y="44136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31920" y="17524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7760" y="3657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7760" y="5562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2:57Z</dcterms:modified>
  <cp:revision>7</cp:revision>
  <dc:subject/>
  <dc:title>No Slide Title</dc:title>
</cp:coreProperties>
</file>