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180-F51B-471A-BD9E-02970638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C3A-B94D-4648-802A-D93701E7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593-68A5-4ABB-8EAE-C6A78D55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D40-89F8-4F37-A4A9-0CB136D0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F3B-4A15-493D-8A3A-BD7620FD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318-FCE4-48F1-89C2-89A01EBF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05A5-2D08-4313-9985-3802DA97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83C-C621-4C90-9A8D-95525477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6E3-DF94-4BA2-9199-36BBC3A0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248-7CFD-4A51-AC12-895FF664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9E78-55C2-45FB-B71B-357C4076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72C9-31DA-407E-9F7E-3FAF0376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35BB-A93C-410B-BFAF-F5E88B54A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838080"/>
            <a:ext cx="8229600" cy="981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TWO QUALIFIED CAD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ER TRAINING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7920" y="2133720"/>
            <a:ext cx="52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 TO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0800" y="2819520"/>
            <a:ext cx="63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SICAL &amp; RECREATIONAL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9360" y="3429000"/>
            <a:ext cx="34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CREW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5040" y="4114800"/>
            <a:ext cx="11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S TO TAKE TO C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320840"/>
            <a:ext cx="2922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uni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we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Sh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m s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we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e cl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rt soc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back p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vilian t-shi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320840"/>
            <a:ext cx="441972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phone calling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nding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medication (take prescrip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hygiene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supp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/magaz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e polish/kiwi cl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 pair eyeglasses if w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8T22:38:12Z</cp:lastPrinted>
  <dcterms:modified xsi:type="dcterms:W3CDTF">1999-03-08T22:40:09Z</dcterms:modified>
  <cp:revision>26</cp:revision>
  <dc:subject/>
  <dc:title>No Slide Title</dc:title>
</cp:coreProperties>
</file>