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BF8-039C-40C4-8E75-CBB8E710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BD9A-CF68-4A90-9E5B-79C259E7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109-2DAD-4BCE-9D79-918B8BF4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501-687A-43AA-B1B1-34956325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E64-EF39-4B73-B485-E16FC946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67B-5B8F-409B-BE86-D89E5F01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141-7774-4101-963B-4994DCD2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956-E810-48DF-AB90-3544F811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256-EFF9-4466-9CEE-F9554B4D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862-49D5-4BC5-B7EA-918E0A19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B72-17B5-4104-A948-A0502193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092-9C9D-4249-A911-11A7B5A7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A95C-0F9F-46E6-8515-213FEFF10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819520" cy="3353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elect and limit the subjec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Determine the purposes of the spee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Analyze the audience and the occas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Gather dat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Outline the materi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Organize and develop the spee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Plan visual aid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Practice alo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8 STEPS IN PREPARING A SPEE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TERMINING YOUR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l 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cted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enterta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nfor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ersua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ment-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185760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peaker" descr=""/>
          <p:cNvPicPr/>
          <p:nvPr/>
        </p:nvPicPr>
        <p:blipFill>
          <a:blip r:embed="rId1"/>
          <a:srcRect l="0" t="0" r="38855" b="0"/>
          <a:stretch/>
        </p:blipFill>
        <p:spPr>
          <a:xfrm>
            <a:off x="5105520" y="1905120"/>
            <a:ext cx="371772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ORGANIZATION OF A SPEE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YS TO CAPTURE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onal reference or gr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ing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 to the place or occa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ought provoking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YS TO CAPTURE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matized 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using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cere expressions of pl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 to special interests of the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33:48Z</dcterms:created>
  <dc:creator>DND</dc:creator>
  <dc:description/>
  <dc:language>en-US</dc:language>
  <cp:lastModifiedBy>DND</cp:lastModifiedBy>
  <cp:lastPrinted>1999-01-07T12:33:12Z</cp:lastPrinted>
  <dcterms:modified xsi:type="dcterms:W3CDTF">1999-01-07T12:35:24Z</dcterms:modified>
  <cp:revision>5</cp:revision>
  <dc:subject/>
  <dc:title> -Select and limit the subject  -Determine the purposes of the speech  -Analyze the audience and the occasion  -Gather data  -Outline the material  -Organize and develop the speech  -Plan visual aids  -Practice aloud</dc:title>
</cp:coreProperties>
</file>