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8813-817E-4A78-AB66-512A305E1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6860-3D0D-4871-8111-5B5E4DB6D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A13B-1137-4F88-9EA0-A13C53F67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91F3-4EB3-49BF-94BE-E1762E821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D189-D120-43EB-AA0E-7B2D1BF40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046F-BAFC-4BC8-8C61-AB8C158E3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08D9-6D84-45A4-A111-20EEA9635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7504-5CCE-4301-8745-29CAC2E1A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001E-60B3-4E7E-9D1E-BB8A983CA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1D74-5CA6-4B64-9320-97C63FF18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83EE-395C-4815-8D16-5357E8C81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C884-8E99-48BB-9C69-B8A943BA8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DF20A-C8C4-4356-A13C-25C20A6573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FACTORS THAT AFFECT THE HUMAN VOIC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IT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OLU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FL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speaker" descr=""/>
          <p:cNvPicPr/>
          <p:nvPr/>
        </p:nvPicPr>
        <p:blipFill>
          <a:blip r:embed="rId1"/>
          <a:srcRect l="0" t="0" r="35094" b="0"/>
          <a:stretch/>
        </p:blipFill>
        <p:spPr>
          <a:xfrm>
            <a:off x="4648320" y="1752480"/>
            <a:ext cx="3946320" cy="4572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940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0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WHAT THE CHARACTERISTICS OF THE HUMAN VOICE HELP YOU TO 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 EXPRESS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TROL BREAT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TROL VOICE SP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40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0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553080" y="2286000"/>
            <a:ext cx="190512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OTHER H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 COLORFU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 ENTHUSIAS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 YOURSEL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CORD YOUR VO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40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0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95680" y="2438280"/>
            <a:ext cx="42674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7T13:55:40Z</dcterms:created>
  <dc:creator>DND</dc:creator>
  <dc:description/>
  <dc:language>en-US</dc:language>
  <cp:lastModifiedBy>dnd</cp:lastModifiedBy>
  <cp:lastPrinted>1999-01-07T15:26:00Z</cp:lastPrinted>
  <dcterms:modified xsi:type="dcterms:W3CDTF">1999-03-23T20:07:44Z</dcterms:modified>
  <cp:revision>4</cp:revision>
  <dc:subject/>
  <dc:title>FACTORS THAT AFFECT THE HUMAN VOICE </dc:title>
</cp:coreProperties>
</file>