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4EA-4FF8-4A70-BF94-38692878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5AC-225C-4734-8DAB-41076EAA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282-9B2B-4F2E-BCFD-957048C3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09BB-01E9-4520-836B-EB0283B4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835-C263-439E-AB56-A18F71DE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605-A289-4424-8011-E2C5C618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E9F-EF29-478D-8DB8-20D41F5E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0605-AD28-4DA8-B24B-C995E413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193-AEB7-4DD4-8D5A-391BD8B4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18C-5EF7-43EA-8E9B-6169EB49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C8F-EFE8-474F-933B-97C6AEA1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5BE-092D-4E29-96EC-D4AA9B4C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9380-7C95-4B4C-B131-6AB47D82A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68400"/>
            <a:ext cx="41148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2 Level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B - Crossword Puzzle - Qualities of a Lead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543800" y="304920"/>
          <a:ext cx="66348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04920"/>
                    <a:ext cx="6634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962520" y="5181480"/>
          <a:ext cx="68580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5181480"/>
                    <a:ext cx="6858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600200" y="1600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1905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2209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2514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819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3429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429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3124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819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514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209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905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600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4038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343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514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2209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819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905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1600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3124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4038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05920" y="373392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342900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4038480"/>
            <a:ext cx="30456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05920" y="3429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434340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990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685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3124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05920" y="4952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34340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40384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64832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038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49528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257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5562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99072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68580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12952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685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160020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905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2209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5257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4952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5562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4343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5867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6172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5920" y="2209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05920" y="1600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05920" y="2819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05920" y="2514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3124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05920" y="2209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1905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05920" y="3429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05920" y="3733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059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04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380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685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685800"/>
            <a:ext cx="152388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CROS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  Firmness of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urpo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.  Ability to disreg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ar, and act with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ve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.  When a leader i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ally accountab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 their action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3 wd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2514600"/>
            <a:ext cx="192060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OW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 Take time to sho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  how thing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 d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 To decide on 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sue quickly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ffectiv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 A strong interest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miration or gr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gern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. The state of  be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ue and faithful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voted to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. Being reliab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. Fair and just in charact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 behavior, free of dece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 untruthfuln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. Feeling of self-reliance or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rtaint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1-29T14:15:23Z</cp:lastPrinted>
  <dcterms:modified xsi:type="dcterms:W3CDTF">1999-02-19T14:51:49Z</dcterms:modified>
  <cp:revision>15</cp:revision>
  <dc:subject/>
  <dc:title>No Slide Title</dc:title>
</cp:coreProperties>
</file>