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DB2-D4AB-4C85-96E3-AB878C20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499-2D09-42B5-9C1D-EE8B6B19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B4C-83B7-484F-B517-38471334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465-CB88-4D55-87F1-F5E9379E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3E6-AD4F-494F-BF8A-AD2946CA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601-FFCA-4BD0-815D-E3896AF1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28A-D078-49B5-AFF1-4EE3524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A39-94C8-495E-AE6F-CBBA180B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CD0-7D47-4588-9799-138FD37C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47C-24F3-4848-8026-21FCD805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16B-E2C4-47E9-800B-18AC5582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976-23A8-4970-945F-7DED4DE6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22BD-C9C0-447C-B8D8-15FBD8811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DET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105520" y="5638680"/>
            <a:ext cx="1334880" cy="3008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6858000"/>
            <a:ext cx="677880" cy="13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8120" y="7543800"/>
            <a:ext cx="914400" cy="88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371600" y="2971800"/>
            <a:ext cx="122724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57200" y="4724280"/>
            <a:ext cx="1008000" cy="77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962520" y="2666880"/>
            <a:ext cx="87948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251000" cy="1057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286000" y="4495680"/>
            <a:ext cx="2209680" cy="2111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143000" y="609480"/>
            <a:ext cx="434340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ycl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640" y="876312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838080"/>
            <a:ext cx="571500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Three R's</a:t>
            </a:r>
            <a:endParaRPr b="1" i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640" y="876312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3581280" cy="3554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14600" y="2514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-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791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76520" y="7404120"/>
            <a:ext cx="106668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812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34340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638680" y="7402680"/>
            <a:ext cx="106704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2-22T14:18:13Z</dcterms:modified>
  <cp:revision>9</cp:revision>
  <dc:subject/>
  <dc:title>No Slide Title</dc:title>
</cp:coreProperties>
</file>