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68C-A099-4974-9449-E7D3C461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008-763E-4D2B-8EB7-6912829B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D46-B008-4751-A939-4C91690F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342-2A17-4CC5-9500-0D17174B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7FC-BD67-4AA9-9C17-1DC5EB9D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6D8-4518-4B70-BBB8-C08F9286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5D8-71A0-4A6D-BB3A-AAE3C31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364-3E77-4E18-AA53-DA2FBC0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130-8667-4FEF-9EEF-B24B7E2A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71A-E77E-4D7C-8CBB-748FAA3E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7B5-A437-451E-A5D4-658E007A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6EA-AE3B-491A-8FDD-199A10F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9117-AFDF-485B-B68C-D936D5566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nsibl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86728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4:00:36Z</dcterms:created>
  <dc:creator>dnd</dc:creator>
  <dc:description/>
  <dc:language>en-US</dc:language>
  <cp:lastModifiedBy>dnd</cp:lastModifiedBy>
  <cp:lastPrinted>1998-12-18T14:02:55Z</cp:lastPrinted>
  <dcterms:modified xsi:type="dcterms:W3CDTF">1998-12-18T14:05:25Z</dcterms:modified>
  <cp:revision>2</cp:revision>
  <dc:subject/>
  <dc:title>No Slide Title</dc:title>
</cp:coreProperties>
</file>