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D30-4C9A-4F0A-A8E1-B5A42851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3FF-765D-43B1-8F38-555B35D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006-CDDF-4E58-9FF9-5F05996F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983-3687-414D-B668-8917C3D6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5AC-E078-4DEE-95D0-DF426518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7C7-5A6C-48B4-896F-344AA75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1AC-303F-4D59-AB45-86F8A9A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7B2-96C3-4730-8C23-85544EE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9BA-2DA1-4A89-B3DF-FFF5F504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29C-3F8D-46FA-811B-2ABF5E5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445-9771-40A9-80ED-4673016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8A2-4260-4F63-8D2E-3535431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05D5-216C-4D29-A870-74224EB3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8T13:16:59Z</dcterms:modified>
  <cp:revision>5</cp:revision>
  <dc:subject/>
  <dc:title>No Slide Title</dc:title>
</cp:coreProperties>
</file>