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DAAE-EE4C-49F8-9C2D-4D298FD4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7C8A-B1DE-44BA-95A6-30CC3C1A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928A-0FC9-49A0-AC69-184CB4DB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3EEE-A852-4474-92EC-B3F759E7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8747-5FBA-46BA-AF7A-5832F5FC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6454-4F65-4124-B02F-08CB1D6B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CAD7-8EE1-4C8F-BF8C-F8A84BC6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48D-F6FF-4CC5-9F22-90CFFFDC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0C4C-1A1B-4CB9-A05A-DA599311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CC92-5078-442F-A5E1-0064CDCE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77B4-FFAA-4238-8F85-00BEF253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5F85-1E66-4CF6-9ABC-03457DE1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2E6A-861B-4C53-A6DC-87F517B01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92120" y="152280"/>
            <a:ext cx="432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xes Mov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0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xes" descr=""/>
          <p:cNvPicPr/>
          <p:nvPr/>
        </p:nvPicPr>
        <p:blipFill>
          <a:blip r:embed="rId1"/>
          <a:stretch/>
        </p:blipFill>
        <p:spPr>
          <a:xfrm>
            <a:off x="920880" y="1295280"/>
            <a:ext cx="7300800" cy="4064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338640" y="4937040"/>
            <a:ext cx="145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438280"/>
            <a:ext cx="13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86440" y="2209680"/>
            <a:ext cx="210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ITUD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15160" y="243828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A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440" y="41148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9600" y="449568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049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el the following axes and the movements about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0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xes" descr=""/>
          <p:cNvPicPr/>
          <p:nvPr/>
        </p:nvPicPr>
        <p:blipFill>
          <a:blip r:embed="rId1"/>
          <a:stretch/>
        </p:blipFill>
        <p:spPr>
          <a:xfrm>
            <a:off x="920880" y="1295280"/>
            <a:ext cx="7300800" cy="4064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238880" y="48769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53341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44956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743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6668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22096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25146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7680" y="4572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8380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14:54:28Z</dcterms:created>
  <dc:creator>RC Air Cadets</dc:creator>
  <dc:description/>
  <dc:language>en-US</dc:language>
  <cp:lastModifiedBy>dnd</cp:lastModifiedBy>
  <cp:lastPrinted>1999-02-23T17:33:05Z</cp:lastPrinted>
  <dcterms:modified xsi:type="dcterms:W3CDTF">1999-03-24T19:55:11Z</dcterms:modified>
  <cp:revision>7</cp:revision>
  <dc:subject/>
  <dc:title>No Slide Title</dc:title>
</cp:coreProperties>
</file>