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A4FE5-7B17-44D8-A1B3-507D00920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1EF06-006F-4FBF-9E00-51427E69E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E74C1-272F-4FE7-B3D8-0614CB3FE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1EF0E-0842-4C24-A3E2-483AB82EE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051F-36A1-4CE4-92D0-1675D7F5D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E2EF7-5B7F-4AE2-B3C0-5E4B9F769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47B31-F370-4C5F-BCAF-E36483835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C1975-5B6B-403C-9B67-CEB4699BB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27210-D096-495A-A7A4-A7D281CC7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9E26A-BEE3-4524-989A-C7A3D9DC7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17685-8886-4BAD-891C-AA39AC6AE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62ADE-FFB5-4F83-A712-08832E2AB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3351-3488-4F40-8BC1-CD26D7A44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EXERCISE 1</a:t>
            </a:r>
            <a:endParaRPr b="0" lang="en-US" sz="4400" spc="-1" strike="noStrike">
              <a:solidFill>
                <a:srgbClr val="000000"/>
              </a:solidFill>
              <a:latin typeface="Times New Roman"/>
            </a:endParaRPr>
          </a:p>
        </p:txBody>
      </p:sp>
      <p:sp>
        <p:nvSpPr>
          <p:cNvPr id="42" name=""/>
          <p:cNvSpPr/>
          <p:nvPr/>
        </p:nvSpPr>
        <p:spPr>
          <a:xfrm>
            <a:off x="-838080" y="914400"/>
            <a:ext cx="9677160" cy="558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 voice that is too high irritates the listener. A voice that is too low or soft is difficult to hear. Listen to yourself as you speak. Radio announcers and singers have a technique they use to correct their voice range before a performance. They speak or sing while holding one ear cupped to their head. Try it. With your left hand push your ear forward, and press it against your ear so it is almost closed. Now, holding it shut, speak each of the following sentences aloud.</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ow is the time for all good men to come to the aid of the party.</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only difference between a rut and a grave is that a rut is deep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exotic executive explained exactly how x times x can </a:t>
            </a:r>
            <a:r>
              <a:rPr b="0" lang="en-US" sz="2400" spc="-1" strike="noStrike">
                <a:solidFill>
                  <a:srgbClr val="000000"/>
                </a:solidFill>
                <a:latin typeface="Arial"/>
              </a:rPr>
              <a:t>	</a:t>
            </a:r>
            <a:r>
              <a:rPr b="0" lang="en-US" sz="2400" spc="-1" strike="noStrike">
                <a:solidFill>
                  <a:srgbClr val="000000"/>
                </a:solidFill>
                <a:latin typeface="Arial"/>
              </a:rPr>
              <a:t>equal x plus x.</a:t>
            </a:r>
            <a:endParaRPr b="0" lang="en-US" sz="24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59400" y="6545160"/>
            <a:ext cx="1181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wo 410.03</a:t>
            </a:r>
            <a:endParaRPr b="0" lang="en-US" sz="1000" spc="-1" strike="noStrike">
              <a:solidFill>
                <a:srgbClr val="000000"/>
              </a:solidFill>
              <a:latin typeface="Times New Roman"/>
            </a:endParaRPr>
          </a:p>
        </p:txBody>
      </p:sp>
      <p:sp>
        <p:nvSpPr>
          <p:cNvPr id="45" name=""/>
          <p:cNvSpPr/>
          <p:nvPr/>
        </p:nvSpPr>
        <p:spPr>
          <a:xfrm>
            <a:off x="7010280" y="661356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 1 - Voice Exercises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3:55:40Z</dcterms:created>
  <dc:creator>DND</dc:creator>
  <dc:description/>
  <dc:language>en-US</dc:language>
  <cp:lastModifiedBy>dnd</cp:lastModifiedBy>
  <cp:lastPrinted>1999-01-07T15:26:00Z</cp:lastPrinted>
  <dcterms:modified xsi:type="dcterms:W3CDTF">1999-03-24T12:57:34Z</dcterms:modified>
  <cp:revision>5</cp:revision>
  <dc:subject/>
  <dc:title>FACTORS THAT AFFECT THE HUMAN VOICE </dc:title>
</cp:coreProperties>
</file>