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92202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DA73-9E68-4377-8D00-E7B4E4E26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E328-9630-4A54-A3B6-17640B91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2E85-8814-4C16-ACF3-203849F14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0F12-F869-49B5-B362-C1FC5FE2F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4EA3-1F79-4568-8DAF-44F1302A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2994-0400-463E-96A1-B97E51A2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3BE0-F59B-4A9A-84AA-C94D1593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ACB7-9173-42B7-A84D-B1B2B0C6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EC4C-30D5-41D8-8D02-6D9DB640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1AFB-10C8-46D7-B1B2-E553DA42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C838-1E60-4F13-8017-6E6BCC17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AA1D-50EB-4102-A548-C4597851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C350-9C36-4185-93FD-EABB96180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3440" y="654516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84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ONSI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166760" y="1752480"/>
          <a:ext cx="6807240" cy="32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1752480"/>
                    <a:ext cx="6807240" cy="32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43440" y="654516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84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LEAG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240" y="1133640"/>
            <a:ext cx="240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tional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3124080"/>
            <a:ext cx="28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ncial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0360" y="5130720"/>
            <a:ext cx="19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cal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46600" y="1184400"/>
            <a:ext cx="541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 member national board of dire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 member national executive committ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isory committee of past presid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al office run by executive dir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2280" y="3165480"/>
            <a:ext cx="504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provincial committ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ers are chairman of sponsor                 committees and other appointe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vises squadrons under their jurisdi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66400" y="5181480"/>
            <a:ext cx="344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financial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ruit Offic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nge training fac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434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84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S OF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1295280"/>
            <a:ext cx="266724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2286000"/>
            <a:ext cx="266724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5880" y="3657600"/>
            <a:ext cx="2667240" cy="38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4038480"/>
            <a:ext cx="2667240" cy="38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5880" y="4648320"/>
            <a:ext cx="2667240" cy="38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295280"/>
            <a:ext cx="266688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2209680"/>
            <a:ext cx="2666880" cy="38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590920"/>
            <a:ext cx="266688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3581280"/>
            <a:ext cx="266688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37160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440" y="2286000"/>
            <a:ext cx="134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SI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8280" y="2614680"/>
            <a:ext cx="218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ATIONAL LEAG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8080" y="291924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ADQUAR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4038480"/>
            <a:ext cx="2666880" cy="38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AIR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4876920"/>
            <a:ext cx="2666880" cy="38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360" y="3632040"/>
            <a:ext cx="28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VINCIAL COMMITT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3960" y="487692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PON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29000" y="3124080"/>
            <a:ext cx="2666880" cy="38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07120" y="3124080"/>
            <a:ext cx="24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RECTOR OF CAD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68" idx="2"/>
            <a:endCxn id="69" idx="0"/>
          </p:cNvCxnSpPr>
          <p:nvPr/>
        </p:nvCxnSpPr>
        <p:spPr>
          <a:xfrm flipV="1" rot="10800000">
            <a:off x="1561320" y="3288960"/>
            <a:ext cx="1080" cy="280080"/>
          </a:xfrm>
          <a:prstGeom prst="bentConnector2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81" name=""/>
          <p:cNvCxnSpPr>
            <a:stCxn id="75" idx="0"/>
            <a:endCxn id="74" idx="2"/>
          </p:cNvCxnSpPr>
          <p:nvPr/>
        </p:nvCxnSpPr>
        <p:spPr>
          <a:xfrm flipV="1">
            <a:off x="1561680" y="4431600"/>
            <a:ext cx="1080" cy="4323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82" name=""/>
          <p:cNvCxnSpPr>
            <a:stCxn id="66" idx="2"/>
            <a:endCxn id="66" idx="2"/>
          </p:cNvCxnSpPr>
          <p:nvPr/>
        </p:nvCxnSpPr>
        <p:spPr>
          <a:xfrm>
            <a:off x="1561680" y="1765080"/>
            <a:ext cx="10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83" name=""/>
          <p:cNvCxnSpPr>
            <a:stCxn id="66" idx="2"/>
            <a:endCxn id="66" idx="2"/>
          </p:cNvCxnSpPr>
          <p:nvPr/>
        </p:nvCxnSpPr>
        <p:spPr>
          <a:xfrm>
            <a:off x="1561680" y="1765080"/>
            <a:ext cx="10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84" name=""/>
          <p:cNvCxnSpPr>
            <a:stCxn id="66" idx="2"/>
            <a:endCxn id="67" idx="0"/>
          </p:cNvCxnSpPr>
          <p:nvPr/>
        </p:nvCxnSpPr>
        <p:spPr>
          <a:xfrm>
            <a:off x="1561680" y="1765080"/>
            <a:ext cx="1080" cy="4323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85" name=""/>
          <p:cNvSpPr/>
          <p:nvPr/>
        </p:nvSpPr>
        <p:spPr>
          <a:xfrm>
            <a:off x="2975760" y="5638680"/>
            <a:ext cx="265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IR CADET SQUADR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ANDING OFFI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5638680"/>
            <a:ext cx="2666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1447920"/>
            <a:ext cx="268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INISTER OF 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F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9120" y="2362320"/>
            <a:ext cx="265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IEF OF THE DEF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23160" y="3657600"/>
            <a:ext cx="278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GIONAL CF 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4038480"/>
            <a:ext cx="158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A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9120" y="4648320"/>
            <a:ext cx="27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GION CADET OFFI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73280" y="5029200"/>
            <a:ext cx="24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EA CADET OFFI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5880" y="5029200"/>
            <a:ext cx="2667240" cy="38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5943600"/>
            <a:ext cx="2666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2895120" y="2895120"/>
            <a:ext cx="508680" cy="3819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prstDash val="sysDot"/>
            <a:miter/>
            <a:headEnd len="sm" type="triangle" w="sm"/>
            <a:tailEnd len="sm" type="triangle" w="sm"/>
          </a:ln>
        </p:spPr>
      </p:cxnSp>
      <p:cxnSp>
        <p:nvCxnSpPr>
          <p:cNvPr id="96" name=""/>
          <p:cNvCxnSpPr>
            <a:stCxn id="74" idx="3"/>
            <a:endCxn id="64" idx="1"/>
          </p:cNvCxnSpPr>
          <p:nvPr/>
        </p:nvCxnSpPr>
        <p:spPr>
          <a:xfrm>
            <a:off x="2908080" y="4228920"/>
            <a:ext cx="3175560" cy="108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headEnd len="sm" type="triangle" w="sm"/>
            <a:tailEnd len="sm" type="triangle" w="sm"/>
          </a:ln>
        </p:spPr>
      </p:cxnSp>
      <p:cxnSp>
        <p:nvCxnSpPr>
          <p:cNvPr id="97" name=""/>
          <p:cNvCxnSpPr>
            <a:stCxn id="75" idx="2"/>
            <a:endCxn id="86" idx="1"/>
          </p:cNvCxnSpPr>
          <p:nvPr/>
        </p:nvCxnSpPr>
        <p:spPr>
          <a:xfrm flipH="1" rot="16200000">
            <a:off x="1999080" y="4831920"/>
            <a:ext cx="521640" cy="1397880"/>
          </a:xfrm>
          <a:prstGeom prst="bentConnector2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98" name=""/>
          <p:cNvCxnSpPr/>
          <p:nvPr/>
        </p:nvCxnSpPr>
        <p:spPr>
          <a:xfrm flipV="1">
            <a:off x="2895480" y="1523160"/>
            <a:ext cx="3175920" cy="801000"/>
          </a:xfrm>
          <a:prstGeom prst="bentConnector3">
            <a:avLst>
              <a:gd name="adj1" fmla="val 49994"/>
            </a:avLst>
          </a:prstGeom>
          <a:ln w="38160">
            <a:solidFill>
              <a:srgbClr val="000000"/>
            </a:solidFill>
            <a:prstDash val="sysDot"/>
            <a:miter/>
            <a:headEnd len="sm" type="triangle" w="sm"/>
            <a:tailEnd len="sm" type="triangle" w="sm"/>
          </a:ln>
        </p:spPr>
      </p:cxnSp>
      <p:cxnSp>
        <p:nvCxnSpPr>
          <p:cNvPr id="99" name=""/>
          <p:cNvCxnSpPr/>
          <p:nvPr/>
        </p:nvCxnSpPr>
        <p:spPr>
          <a:xfrm rot="10800000">
            <a:off x="2894760" y="2437560"/>
            <a:ext cx="3201120" cy="138960"/>
          </a:xfrm>
          <a:prstGeom prst="bentConnector3">
            <a:avLst>
              <a:gd name="adj1" fmla="val 49994"/>
            </a:avLst>
          </a:prstGeom>
          <a:ln w="38160">
            <a:solidFill>
              <a:srgbClr val="000000"/>
            </a:solidFill>
            <a:prstDash val="sysDot"/>
            <a:miter/>
            <a:headEnd len="sm" type="triangle" w="sm"/>
            <a:tailEnd len="sm" type="triangle" w="sm"/>
          </a:ln>
        </p:spPr>
      </p:cxnSp>
      <p:cxnSp>
        <p:nvCxnSpPr>
          <p:cNvPr id="100" name=""/>
          <p:cNvCxnSpPr>
            <a:stCxn id="65" idx="0"/>
            <a:endCxn id="64" idx="2"/>
          </p:cNvCxnSpPr>
          <p:nvPr/>
        </p:nvCxnSpPr>
        <p:spPr>
          <a:xfrm flipV="1">
            <a:off x="7429320" y="4431960"/>
            <a:ext cx="1080" cy="2037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1" name=""/>
          <p:cNvCxnSpPr>
            <a:stCxn id="75" idx="3"/>
            <a:endCxn id="93" idx="1"/>
          </p:cNvCxnSpPr>
          <p:nvPr/>
        </p:nvCxnSpPr>
        <p:spPr>
          <a:xfrm>
            <a:off x="2908080" y="5067000"/>
            <a:ext cx="3175560" cy="15300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prstDash val="sysDot"/>
            <a:miter/>
            <a:headEnd len="sm" type="triangle" w="sm"/>
            <a:tailEnd len="sm" type="triangle" w="sm"/>
          </a:ln>
        </p:spPr>
      </p:cxnSp>
      <p:cxnSp>
        <p:nvCxnSpPr>
          <p:cNvPr id="102" name=""/>
          <p:cNvCxnSpPr/>
          <p:nvPr/>
        </p:nvCxnSpPr>
        <p:spPr>
          <a:xfrm rot="5400000">
            <a:off x="5765040" y="3911400"/>
            <a:ext cx="204120" cy="320112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3" name=""/>
          <p:cNvCxnSpPr>
            <a:stCxn id="62" idx="0"/>
            <a:endCxn id="61" idx="2"/>
          </p:cNvCxnSpPr>
          <p:nvPr/>
        </p:nvCxnSpPr>
        <p:spPr>
          <a:xfrm flipV="1">
            <a:off x="7429320" y="1993680"/>
            <a:ext cx="1080" cy="280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4" name=""/>
          <p:cNvCxnSpPr/>
          <p:nvPr/>
        </p:nvCxnSpPr>
        <p:spPr>
          <a:xfrm>
            <a:off x="7467480" y="2971440"/>
            <a:ext cx="576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6095880" y="5943600"/>
            <a:ext cx="26672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5638680"/>
            <a:ext cx="26672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4880" y="5638680"/>
            <a:ext cx="17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39320" y="592920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FFLIATED 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86" idx="3"/>
            <a:endCxn id="106" idx="1"/>
          </p:cNvCxnSpPr>
          <p:nvPr/>
        </p:nvCxnSpPr>
        <p:spPr>
          <a:xfrm>
            <a:off x="5651280" y="5790960"/>
            <a:ext cx="432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10" name=""/>
          <p:cNvCxnSpPr>
            <a:stCxn id="94" idx="3"/>
            <a:endCxn id="105" idx="1"/>
          </p:cNvCxnSpPr>
          <p:nvPr/>
        </p:nvCxnSpPr>
        <p:spPr>
          <a:xfrm>
            <a:off x="5651280" y="6095520"/>
            <a:ext cx="432360" cy="108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headEnd len="sm" type="triangle" w="sm"/>
            <a:tailEnd len="sm" type="triangle" w="sm"/>
          </a:ln>
        </p:spPr>
      </p:cxnSp>
      <p:cxnSp>
        <p:nvCxnSpPr>
          <p:cNvPr id="111" name=""/>
          <p:cNvCxnSpPr/>
          <p:nvPr/>
        </p:nvCxnSpPr>
        <p:spPr>
          <a:xfrm rot="5400000">
            <a:off x="6580080" y="2486520"/>
            <a:ext cx="359640" cy="1329480"/>
          </a:xfrm>
          <a:prstGeom prst="bentConnector2">
            <a:avLst/>
          </a:prstGeom>
          <a:ln w="255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08T19:11:42Z</cp:lastPrinted>
  <dcterms:modified xsi:type="dcterms:W3CDTF">1999-03-08T19:14:11Z</dcterms:modified>
  <cp:revision>28</cp:revision>
  <dc:subject/>
  <dc:title>No Slide Title</dc:title>
</cp:coreProperties>
</file>