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F9C-A279-4B1C-A1BE-6979C19A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51D-5EF0-4083-9FC4-0970C045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AF4-E47F-4756-A2E6-69FC3956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166-EC84-4A77-8741-788BE045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FA3-BC84-4B58-804C-6EAB909B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307-6611-40E7-9074-8C880BC1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F44-A0B2-4AA6-BF83-51453B96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81E-8F64-4D7E-AF2D-06E233AC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4EC-E558-4B48-AA4D-D7B4DF0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2EC-4780-4971-8BA3-8504A0E5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F3B-080A-4761-849B-99926F65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8AA-96F6-4B02-B74F-20C35489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65A4-9005-4AEA-A414-39590057D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9120" y="374976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7840" y="397512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6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0" y="431640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9120" y="169560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920960"/>
            <a:ext cx="1872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rn T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0520" y="226368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F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8840" y="32544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9920" y="550800"/>
            <a:ext cx="15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rly T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7720" y="89388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8840" y="503244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1320" y="5087880"/>
            <a:ext cx="128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st War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37560" y="542916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5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9080" y="5772240"/>
            <a:ext cx="1319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64320" y="1695600"/>
            <a:ext cx="213696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03040" y="174960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2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03040" y="209232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3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51400" y="243360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B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64320" y="3749760"/>
            <a:ext cx="213696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1400" y="3803760"/>
            <a:ext cx="1840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Worl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87280" y="4146480"/>
            <a:ext cx="617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42760" y="4487760"/>
            <a:ext cx="1319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C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76200" y="839520"/>
            <a:ext cx="1800" cy="85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76200" y="839880"/>
            <a:ext cx="222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6200" y="2808360"/>
            <a:ext cx="1800" cy="9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75640" y="2808360"/>
            <a:ext cx="1440" cy="9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7240" y="839880"/>
            <a:ext cx="2138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5640" y="839880"/>
            <a:ext cx="1440" cy="85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5640" y="486252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7240" y="5632560"/>
            <a:ext cx="2138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6200" y="4862520"/>
            <a:ext cx="180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6200" y="5632560"/>
            <a:ext cx="222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87520" y="2808360"/>
            <a:ext cx="42228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3120" y="2882880"/>
            <a:ext cx="4010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VIATION TRIVIA G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2880" y="3290760"/>
            <a:ext cx="2291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AME BO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3T18:23:50Z</cp:lastPrinted>
  <dcterms:modified xsi:type="dcterms:W3CDTF">1999-01-13T18:24:14Z</dcterms:modified>
  <cp:revision>23</cp:revision>
  <dc:subject/>
  <dc:title>No Slide Title</dc:title>
</cp:coreProperties>
</file>