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D6C0-E6D7-498C-A068-D42B5506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F4CF-3E72-4345-BB16-2385AD66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25A2-83A3-41ED-ACAA-EE17048A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AAE3-9D14-4D30-BF30-219D0568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D308-C16E-40AF-A09F-AD4F1285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070B-C105-4F75-94F4-27F5A72B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CE82-8BE4-468F-9D31-8EB147D0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11A6-EAAA-4A6B-85D9-EC08D383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AEFC-707A-4015-B10C-8A7880FF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A14C-9CA9-4C6D-B944-17EB71C5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4ED9-5980-4C36-AD5D-1F54FDD1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DB30-571E-4884-9FFF-43F55ACB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565E-4F20-4770-810A-E27B9A2BC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066680"/>
            <a:ext cx="1517400" cy="136548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819520"/>
            <a:ext cx="1289160" cy="12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648320"/>
            <a:ext cx="1295280" cy="129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152280"/>
            <a:ext cx="78483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FIRE EXTINGUISH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65600" y="1249200"/>
            <a:ext cx="574452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rdinary Combusti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per, wood, drapes, and upholst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2590920"/>
            <a:ext cx="61722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lammable Liqu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el oil, gasoline, paint, grease, solvent and other flammable liqu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4572000"/>
            <a:ext cx="67039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Electrical Equip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ring, overheated fuse boxes, conductors, and other electrical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960" y="6545160"/>
            <a:ext cx="1369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0"/>
            <a:ext cx="87631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Haettenschweiler"/>
              </a:rPr>
              <a:t>HOW FIRE EXTINGUISHERS 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6040" y="1166760"/>
            <a:ext cx="6963120" cy="4770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l the p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m the extinguisher nozzle at the b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ez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eeze or press the 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e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from side to side at the bas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238880" y="914400"/>
            <a:ext cx="1905120" cy="5560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300440" y="10508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77120" y="24987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77120" y="39466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77120" y="52419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960" y="6545160"/>
            <a:ext cx="1369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1371600"/>
            <a:ext cx="5181480" cy="41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ANIC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 Close all windows an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used door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 Follow the fire escap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n and get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 Move to the muster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ea and wait for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re depart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3049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0"/>
            <a:ext cx="86868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Haettenschweiler"/>
              </a:rPr>
              <a:t>THE PERSON RESPONDING TO THE FIRE MU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3048120" cy="4800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5960" y="6545160"/>
            <a:ext cx="1369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19320"/>
            <a:ext cx="9142560" cy="68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1.   Shout “ FIRE, FIRE, FIRE” and pull the alar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2.  Phone the 911 Emergency Service or  local Fire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Department and state the exact location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fi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0"/>
            <a:ext cx="8839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Haettenschweiler"/>
              </a:rPr>
              <a:t>THE PERSON DISCOVERING A FIRE MU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00400" y="4419720"/>
            <a:ext cx="3200400" cy="194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960" y="6545160"/>
            <a:ext cx="1369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08T14:39:01Z</cp:lastPrinted>
  <dcterms:modified xsi:type="dcterms:W3CDTF">1999-03-11T15:58:32Z</dcterms:modified>
  <cp:revision>19</cp:revision>
  <dc:subject/>
  <dc:title>No Slide Title</dc:title>
</cp:coreProperties>
</file>