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994-2E9C-4421-AD46-72774886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721-E3DA-4059-9253-32DDDE67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BDD-1901-47F9-9A36-04304729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6C6-3993-479B-8A00-292691DC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CA2-1F48-49D8-8A96-95FED242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0CE-C8FA-4EB3-925B-0DA69F4F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358-EC23-4DBC-9706-210C8045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5A2-5A28-4311-99FC-694D0055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847-BF9F-46C3-B015-8DE07E7B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6CD-5EB1-4F76-8CC9-231C7AA4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E4B-84AC-443B-B8F3-D5A1D6B8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0F3-DE91-460A-9595-CA74A3C1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E2FF-B0BF-4D0C-8F98-6DEECD484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72880"/>
            <a:ext cx="58658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he Three Levels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0400" y="2254320"/>
            <a:ext cx="58104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.  Municip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.  Provinci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3.  Feder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72040" y="6019920"/>
            <a:ext cx="2685960" cy="2685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2880" y="876312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72880"/>
            <a:ext cx="58658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he Branches of the Federal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0400" y="2254320"/>
            <a:ext cx="581040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.  Execu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.  Legisla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. Judi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2880" y="876312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House" descr=""/>
          <p:cNvPicPr/>
          <p:nvPr/>
        </p:nvPicPr>
        <p:blipFill>
          <a:blip r:embed="rId1"/>
          <a:stretch/>
        </p:blipFill>
        <p:spPr>
          <a:xfrm>
            <a:off x="1752480" y="6400800"/>
            <a:ext cx="3505320" cy="2255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6477120"/>
            <a:ext cx="152280" cy="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3-18T15:08:14Z</cp:lastPrinted>
  <dcterms:modified xsi:type="dcterms:W3CDTF">1999-01-05T15:18:47Z</dcterms:modified>
  <cp:revision>6</cp:revision>
  <dc:subject/>
  <dc:title>No Slide Title</dc:title>
</cp:coreProperties>
</file>