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732-032E-4AD9-ABCD-47DEBF2F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4E5-6576-408B-888B-6FFA561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523-664E-44BF-AED9-D83DB621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936-BDB4-476F-8A68-319B3BD2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B13-1C9C-4A62-B896-AF3EBA67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1F6-EE0C-451C-94E5-5BFFAAB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E62-B588-4862-A864-09B4B36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94E-7808-4BA6-A16F-B6C50310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FB0-5468-4067-BB34-AF25BAE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49A-FF3A-4B8F-B74C-8A50ABF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0DC-8982-432F-B0C6-EF133F49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FEE-1946-4870-B7CD-3DDDDD4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716E-C205-47E8-AC7D-743CB0A8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AN-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an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N-TO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eanto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eight2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2260440" cy="5343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 OF RIDGE 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0600" y="1523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20004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PRUCE BOUGH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EES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0880" y="21337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LLEN TREE 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newtre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1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4:41:36Z</dcterms:created>
  <dc:creator>DND</dc:creator>
  <dc:description/>
  <dc:language>en-US</dc:language>
  <cp:lastModifiedBy>DND</cp:lastModifiedBy>
  <cp:lastPrinted>1999-03-01T14:46:34Z</cp:lastPrinted>
  <dcterms:modified xsi:type="dcterms:W3CDTF">1999-03-01T18:43:16Z</dcterms:modified>
  <cp:revision>11</cp:revision>
  <dc:subject/>
  <dc:title>SPRUCE BOUGH COVERING</dc:title>
</cp:coreProperties>
</file>