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6FC-571D-4A11-B757-487E259B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E37-DF90-487A-B313-0DE37EC9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11F-0617-4501-97AD-9ADE9EED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45D3-B6B6-4AFC-8F60-3FDCBEC1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E41-A05B-4243-983D-1C99AEC9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6BA-2E24-47C9-B31E-EE4EFBDD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78C-F258-4C16-B8F9-D78CC370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4BF-F6DE-4572-9EF4-98EC9646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DA7-CB5A-454B-844A-9F9A19EA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9CD-5694-4D3B-BD61-9EDC4088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FE8-17F5-4470-BACC-A5DCA0E8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908-D2D1-46D8-B072-94B7BCE4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ABA4-90AC-4CDC-9049-1991182D5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83160" y="152280"/>
            <a:ext cx="36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ake 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ntake" descr=""/>
          <p:cNvPicPr/>
          <p:nvPr/>
        </p:nvPicPr>
        <p:blipFill>
          <a:blip r:embed="rId1"/>
          <a:stretch/>
        </p:blipFill>
        <p:spPr>
          <a:xfrm>
            <a:off x="3013200" y="914400"/>
            <a:ext cx="3235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07920" y="152280"/>
            <a:ext cx="56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ression 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ompression" descr=""/>
          <p:cNvPicPr/>
          <p:nvPr/>
        </p:nvPicPr>
        <p:blipFill>
          <a:blip r:embed="rId1"/>
          <a:stretch/>
        </p:blipFill>
        <p:spPr>
          <a:xfrm>
            <a:off x="2936880" y="914400"/>
            <a:ext cx="3235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52280"/>
            <a:ext cx="375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wer 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ower" descr=""/>
          <p:cNvPicPr/>
          <p:nvPr/>
        </p:nvPicPr>
        <p:blipFill>
          <a:blip r:embed="rId1"/>
          <a:stretch/>
        </p:blipFill>
        <p:spPr>
          <a:xfrm>
            <a:off x="3013200" y="914400"/>
            <a:ext cx="3235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4880" y="15228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haust 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exhaust" descr=""/>
          <p:cNvPicPr/>
          <p:nvPr/>
        </p:nvPicPr>
        <p:blipFill>
          <a:blip r:embed="rId1"/>
          <a:stretch/>
        </p:blipFill>
        <p:spPr>
          <a:xfrm>
            <a:off x="3013200" y="914400"/>
            <a:ext cx="3235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ntake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98144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compression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905120" cy="3886200"/>
          </a:xfrm>
          <a:prstGeom prst="rect">
            <a:avLst/>
          </a:prstGeom>
          <a:ln w="0">
            <a:noFill/>
          </a:ln>
        </p:spPr>
      </p:pic>
      <p:pic>
        <p:nvPicPr>
          <p:cNvPr id="63" name="power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1905120" cy="3886200"/>
          </a:xfrm>
          <a:prstGeom prst="rect">
            <a:avLst/>
          </a:prstGeom>
          <a:ln w="0">
            <a:noFill/>
          </a:ln>
        </p:spPr>
      </p:pic>
      <p:pic>
        <p:nvPicPr>
          <p:cNvPr id="64" name="exhaust" descr=""/>
          <p:cNvPicPr/>
          <p:nvPr/>
        </p:nvPicPr>
        <p:blipFill>
          <a:blip r:embed="rId4"/>
          <a:stretch/>
        </p:blipFill>
        <p:spPr>
          <a:xfrm>
            <a:off x="6858000" y="1600200"/>
            <a:ext cx="1905120" cy="3886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6019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60199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6019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60199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4572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name of each stroke in the correct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9080" y="4572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838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6T20:12:16Z</dcterms:created>
  <dc:creator>RC Air Cadets</dc:creator>
  <dc:description/>
  <dc:language>en-US</dc:language>
  <cp:lastModifiedBy>dnd</cp:lastModifiedBy>
  <cp:lastPrinted>1999-02-26T20:16:12Z</cp:lastPrinted>
  <dcterms:modified xsi:type="dcterms:W3CDTF">1999-03-24T20:23:44Z</dcterms:modified>
  <cp:revision>10</cp:revision>
  <dc:subject/>
  <dc:title>No Slide Title</dc:title>
</cp:coreProperties>
</file>