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561-58A1-4CFD-A02D-AF4E487C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CC3-144A-4FF7-A536-CD988D31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01F-5D24-41EB-9831-459069F3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FDA-5FF6-4CBB-BB85-31BAE5D3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3DD-E5E5-4BDC-A7CA-FB2F184E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7BF-1391-468E-BDE9-508C404D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D7D-6A93-4F94-8BEE-88920BC9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1C8-CDF7-4635-9A8C-C2AB3D55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590-FB3C-4683-9B17-1293841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2F6-0D97-4C4D-8CF5-3310F58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919-7E6F-4079-9837-96F4B8F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0CE-CE64-4CDB-8352-5A686BA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91DF-4D6E-4107-8495-55022367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95520" y="2001960"/>
          <a:ext cx="6086520" cy="40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01960"/>
                    <a:ext cx="608652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3276720"/>
          <a:ext cx="3048120" cy="291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76720"/>
                    <a:ext cx="30481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248520" y="3276720"/>
          <a:ext cx="2819160" cy="28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3276720"/>
                    <a:ext cx="28191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95520" y="2077920"/>
          <a:ext cx="6086520" cy="405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7792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3505320"/>
          <a:ext cx="370368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05320"/>
                    <a:ext cx="370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640480" y="3505320"/>
          <a:ext cx="3503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0480" y="3505320"/>
                    <a:ext cx="3503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0"/>
          <a:ext cx="8305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429000" y="1676520"/>
            <a:ext cx="2819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hysical St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oug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Quick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oo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uman 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ead3a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29000" cy="3467160"/>
          </a:xfrm>
          <a:prstGeom prst="rect">
            <a:avLst/>
          </a:prstGeom>
          <a:ln w="0">
            <a:noFill/>
          </a:ln>
        </p:spPr>
      </p:pic>
      <p:pic>
        <p:nvPicPr>
          <p:cNvPr id="72" name="Lead3b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5909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30T18:14:12Z</cp:lastPrinted>
  <dcterms:modified xsi:type="dcterms:W3CDTF">1999-01-11T20:25:39Z</dcterms:modified>
  <cp:revision>8</cp:revision>
  <dc:subject/>
  <dc:title>QUALITIES OF A LEADER</dc:title>
</cp:coreProperties>
</file>