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6C0-3FFB-452C-A427-387E8D6F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EA5-00F9-4EA9-AEF4-3B15D728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FEA-77D4-4777-AE27-90FBAFE9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C53-2C88-46BA-90B7-59ACCE00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DAC-CB82-4F47-A834-E54ABCE6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ADC-1F46-44D7-9367-26476DBB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783-57F6-4839-A073-DA34F95A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87D-899D-431F-938B-0E043086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0B5-B57F-4F61-8C22-4D48A800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090-D520-4851-B4FB-E5CB2D3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07B-A6FF-4034-A6B1-EF11284C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AF2-53E9-4B36-A01B-50D7E70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C6AA-2FCE-4D31-AA18-DC0578BFC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14400"/>
          <a:ext cx="7621560" cy="8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14400"/>
                    <a:ext cx="7621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76440" y="1905120"/>
          <a:ext cx="5876640" cy="420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1905120"/>
                    <a:ext cx="58766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416" descr=""/>
          <p:cNvPicPr/>
          <p:nvPr/>
        </p:nvPicPr>
        <p:blipFill>
          <a:blip r:embed="rId5"/>
          <a:srcRect l="1936" t="0" r="0" b="0"/>
          <a:stretch/>
        </p:blipFill>
        <p:spPr>
          <a:xfrm>
            <a:off x="1168560" y="2057400"/>
            <a:ext cx="474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19:16Z</dcterms:modified>
  <cp:revision>9</cp:revision>
  <dc:subject/>
  <dc:title>No Slide Title</dc:title>
</cp:coreProperties>
</file>