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0A9A-AA06-49B3-A073-3959E180A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2579-6012-4D69-981D-C3550B69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D538-EE05-4368-8F47-833A4EE1A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7EB2-0017-4AE5-BDDC-49449CB6A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0E6B-BC72-4548-9A0F-C5C8CD6E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EB6B-3436-40A1-BFA2-F2E36C71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FE09-7E64-4D9F-8607-E05C6BEC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91E5-A4EB-4839-A645-FB7A7B2F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D6E4-3ED4-46A6-B6CB-27758BE8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13F7-4CEA-4959-94E9-4A0F82E6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9A25-D61A-45A4-80C6-0F01CAB1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A99B-2E53-4170-934A-C84F32F4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E476-ADF1-4FA0-B19D-092239F3C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5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Officer/NCO Relation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447920" y="1600200"/>
          <a:ext cx="7696080" cy="467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00200"/>
                    <a:ext cx="7696080" cy="46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840" y="6572160"/>
            <a:ext cx="1265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wo 408.0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2T18:51:27Z</dcterms:created>
  <dc:creator>dnd</dc:creator>
  <dc:description/>
  <dc:language>en-US</dc:language>
  <cp:lastModifiedBy>dnd</cp:lastModifiedBy>
  <cp:lastPrinted>1999-01-12T20:36:40Z</cp:lastPrinted>
  <dcterms:modified xsi:type="dcterms:W3CDTF">1999-01-12T20:42:59Z</dcterms:modified>
  <cp:revision>5</cp:revision>
  <dc:subject/>
  <dc:title>No Slide Title</dc:title>
</cp:coreProperties>
</file>