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179-FDF9-4DD0-BE9B-321FDF23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CF19-B937-466B-AD06-CC6F1746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8EA5-60A0-49BA-AADE-28B8B342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D4E-662E-42CF-B8E0-6887DEF4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1FAD-B9B9-42C1-965D-87C549EA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39C4-8BB0-4B9E-A8E6-BBB4E1BE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4D9-C082-432E-8107-D03CAF73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020-8419-4718-A6AD-A5576689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0C2D-B4F6-4285-ACDB-130A4061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E6D6-AA0B-4B9C-ADAB-96235916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BE5-21B8-45BC-BAFE-F572E6EA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8DE1-5101-47F5-9F16-2ED70E16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4637-6637-4534-B4BF-3FD7008EC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ston2" descr=""/>
          <p:cNvPicPr/>
          <p:nvPr/>
        </p:nvPicPr>
        <p:blipFill>
          <a:blip r:embed="rId1"/>
          <a:stretch/>
        </p:blipFill>
        <p:spPr>
          <a:xfrm>
            <a:off x="2041560" y="990720"/>
            <a:ext cx="481644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560" y="152280"/>
            <a:ext cx="76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ernal Combustion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29559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02040" y="3031200"/>
            <a:ext cx="1119240" cy="10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177000" y="3996360"/>
            <a:ext cx="580320" cy="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27360" y="127944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k Plu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760" y="37940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81160" y="1736640"/>
            <a:ext cx="94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85000" y="1736640"/>
            <a:ext cx="110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5056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516672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4428360" y="3689640"/>
            <a:ext cx="1125360" cy="1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37960" y="350532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ng R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504680" y="5365800"/>
            <a:ext cx="1125000" cy="1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3920" y="516564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nksh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92360" y="152280"/>
            <a:ext cx="387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adial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radial" descr=""/>
          <p:cNvPicPr/>
          <p:nvPr/>
        </p:nvPicPr>
        <p:blipFill>
          <a:blip r:embed="rId1"/>
          <a:stretch/>
        </p:blipFill>
        <p:spPr>
          <a:xfrm>
            <a:off x="1981080" y="1285920"/>
            <a:ext cx="5419800" cy="5114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31720" y="152280"/>
            <a:ext cx="595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rizontally Opp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horizontal" descr=""/>
          <p:cNvPicPr/>
          <p:nvPr/>
        </p:nvPicPr>
        <p:blipFill>
          <a:blip r:embed="rId1"/>
          <a:stretch/>
        </p:blipFill>
        <p:spPr>
          <a:xfrm>
            <a:off x="2009880" y="1701720"/>
            <a:ext cx="512280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472200" y="152280"/>
            <a:ext cx="201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-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inline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8914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ston2" descr=""/>
          <p:cNvPicPr/>
          <p:nvPr/>
        </p:nvPicPr>
        <p:blipFill>
          <a:blip r:embed="rId1"/>
          <a:stretch/>
        </p:blipFill>
        <p:spPr>
          <a:xfrm>
            <a:off x="2041560" y="990720"/>
            <a:ext cx="4816440" cy="5790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parts of the internal combustion engine in the correct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002040" y="3031200"/>
            <a:ext cx="1119240" cy="10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177000" y="3996360"/>
            <a:ext cx="580320" cy="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5056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16672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428360" y="3689640"/>
            <a:ext cx="1125360" cy="1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504680" y="5365800"/>
            <a:ext cx="1125000" cy="1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1523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21337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38098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563868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523880" y="41911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523520" y="32767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371600" y="23623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40840" y="380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762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12:59:42Z</dcterms:created>
  <dc:creator>RC Air Cadets</dc:creator>
  <dc:description/>
  <dc:language>en-US</dc:language>
  <cp:lastModifiedBy>dnd</cp:lastModifiedBy>
  <cp:lastPrinted>1999-02-25T13:36:32Z</cp:lastPrinted>
  <dcterms:modified xsi:type="dcterms:W3CDTF">1999-03-24T20:21:37Z</dcterms:modified>
  <cp:revision>10</cp:revision>
  <dc:subject/>
  <dc:title>No Slide Title</dc:title>
</cp:coreProperties>
</file>