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8C5-FE1B-4428-850D-CFE9A332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A55-0A58-4600-A601-A25ABF4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070-6664-41B7-972A-6B6AE01A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835-8C08-42A7-AB55-B607696B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EA5-27CB-4861-B961-EC03213F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C7E-6857-4A9C-8B2F-03DDAE31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DE5-D523-4646-A851-69E5BDD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982-E29C-4268-8BFC-A1AA3E6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B70-E341-41DD-AB62-C4118A97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7D5-4AB5-42F3-9569-2661638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DBF-AF4D-4D5A-8F52-3466BF6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45F-25B7-4B5B-BEF5-8611F04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04A8-53F9-4314-88DF-13D12420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oilet" descr=""/>
          <p:cNvPicPr/>
          <p:nvPr/>
        </p:nvPicPr>
        <p:blipFill>
          <a:blip r:embed="rId1"/>
          <a:srcRect l="24341" t="27920" r="55050" b="47195"/>
          <a:stretch/>
        </p:blipFill>
        <p:spPr>
          <a:xfrm>
            <a:off x="6172200" y="4251240"/>
            <a:ext cx="2193840" cy="2079720"/>
          </a:xfrm>
          <a:prstGeom prst="rect">
            <a:avLst/>
          </a:prstGeom>
          <a:ln w="0">
            <a:noFill/>
          </a:ln>
        </p:spPr>
      </p:pic>
      <p:pic>
        <p:nvPicPr>
          <p:cNvPr id="42" name="seal" descr=""/>
          <p:cNvPicPr/>
          <p:nvPr/>
        </p:nvPicPr>
        <p:blipFill>
          <a:blip r:embed="rId2"/>
          <a:srcRect l="22675" t="21179" r="56619" b="54150"/>
          <a:stretch/>
        </p:blipFill>
        <p:spPr>
          <a:xfrm>
            <a:off x="6400800" y="2133720"/>
            <a:ext cx="2138400" cy="1912680"/>
          </a:xfrm>
          <a:prstGeom prst="rect">
            <a:avLst/>
          </a:prstGeom>
          <a:ln w="0">
            <a:noFill/>
          </a:ln>
        </p:spPr>
      </p:pic>
      <p:pic>
        <p:nvPicPr>
          <p:cNvPr id="43" name="fan" descr=""/>
          <p:cNvPicPr/>
          <p:nvPr/>
        </p:nvPicPr>
        <p:blipFill>
          <a:blip r:embed="rId3"/>
          <a:srcRect l="18175" t="14389" r="59924" b="56549"/>
          <a:stretch/>
        </p:blipFill>
        <p:spPr>
          <a:xfrm>
            <a:off x="457200" y="1154160"/>
            <a:ext cx="2203560" cy="2198520"/>
          </a:xfrm>
          <a:prstGeom prst="rect">
            <a:avLst/>
          </a:prstGeom>
          <a:ln w="0">
            <a:noFill/>
          </a:ln>
        </p:spPr>
      </p:pic>
      <p:pic>
        <p:nvPicPr>
          <p:cNvPr id="44" name="yield" descr=""/>
          <p:cNvPicPr/>
          <p:nvPr/>
        </p:nvPicPr>
        <p:blipFill>
          <a:blip r:embed="rId4"/>
          <a:srcRect l="21173" t="11793" r="58724" b="59948"/>
          <a:stretch/>
        </p:blipFill>
        <p:spPr>
          <a:xfrm>
            <a:off x="685800" y="3429000"/>
            <a:ext cx="1600200" cy="168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0960" y="152280"/>
            <a:ext cx="558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Functions of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440" y="156672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Coo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800" y="27874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Se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440" y="400680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Lubric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5160" y="53020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Flu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35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f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of 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6160" y="17208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6160" y="301608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6160" y="42354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0400" y="5516640"/>
            <a:ext cx="31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20440" y="550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50120" y="2454120"/>
            <a:ext cx="2084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12:56:01Z</dcterms:created>
  <dc:creator>RC Air Cadets</dc:creator>
  <dc:description/>
  <dc:language>en-US</dc:language>
  <cp:lastModifiedBy>dnd</cp:lastModifiedBy>
  <cp:lastPrinted>1999-02-26T17:18:48Z</cp:lastPrinted>
  <dcterms:modified xsi:type="dcterms:W3CDTF">1999-03-29T15:18:52Z</dcterms:modified>
  <cp:revision>11</cp:revision>
  <dc:subject/>
  <dc:title>No Slide Title</dc:title>
</cp:coreProperties>
</file>