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CBA-1EEF-4494-80E2-9F4B8DAA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112-2586-455B-BD73-580BF36E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071-DDE4-4789-8EB6-B18F156F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CD9-C811-4B75-8607-A0D3F47A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6B7-4E50-4FBC-A616-C0116ED1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3A1-EA76-4713-B274-D7133288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7CE-3244-4DA0-A191-D28AC99D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4A71-BCE9-415C-AE34-325316AB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BA3-AB7C-4AE8-8C83-183B28FD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74E-B42A-4E24-A7BF-731AC27B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8C0-EEE7-419D-9546-D23B751B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F45-97E5-4338-8B0C-2D3B8368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3251-2090-4A38-BA85-A805C8453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00800" cy="86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8T00:28:34Z</cp:lastPrinted>
  <dcterms:modified xsi:type="dcterms:W3CDTF">1999-03-23T15:24:37Z</dcterms:modified>
  <cp:revision>21</cp:revision>
  <dc:subject/>
  <dc:title>No Slide Title</dc:title>
</cp:coreProperties>
</file>