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B65-86EF-408D-BE5F-3C27938B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268D-DE66-4734-8715-B60593E9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766-55D1-414A-B834-B9E503B9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A372-19CC-4D53-A444-FEBFFBFA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4BF6-1B76-467D-A27C-40C7830C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2AC-6C37-493A-AD44-66675863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977-BE97-42A4-AB87-8E7785CE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102-FB76-4F55-B60A-C4D79420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825-E57A-40D0-916C-88AB22B3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FB0-5DD2-4272-ACC1-C61B8BC4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8400-2950-4B0C-BDB0-BE7B30F0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76E-CF29-42C8-86E5-E69DD4A7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3192-4046-4E7B-B959-488480283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OOTW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lking: Running sh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king: Hiking b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kl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inforced t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810240" cy="3867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INGS TO BE AWARE OF WHEN HI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ce Yoursel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rink Frequen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king uph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king Downh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2254320"/>
            <a:ext cx="3809880" cy="3566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LKING UPHI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uphill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295280"/>
            <a:ext cx="5329080" cy="512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08280" y="1600200"/>
            <a:ext cx="2750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en the lengt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stride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ing uphi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ing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ythm. L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,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feet flat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LKING DOWNHI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downhill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523880"/>
            <a:ext cx="5029200" cy="4697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1828800"/>
            <a:ext cx="264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al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hill, open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de and 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slightly.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ry to go fa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ding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hard on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ees, especi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rr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ackp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9:16:44Z</dcterms:created>
  <dc:creator>DND</dc:creator>
  <dc:description/>
  <dc:language>en-US</dc:language>
  <cp:lastModifiedBy>DND</cp:lastModifiedBy>
  <cp:lastPrinted>1999-03-01T19:48:14Z</cp:lastPrinted>
  <dcterms:modified xsi:type="dcterms:W3CDTF">1999-03-01T19:52:45Z</dcterms:modified>
  <cp:revision>3</cp:revision>
  <dc:subject/>
  <dc:title>FOOTWEAR</dc:title>
</cp:coreProperties>
</file>