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46B3-79A5-4FB1-8DCE-9FF6EE5AF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AFF2-6A71-47D5-8680-14882471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A9DF-A7DD-453E-A2AD-B580CA426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3AB4-8417-41DC-8E44-CA148FA37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4075-BDE3-42F4-86F6-FF6E76CD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06F6-850F-417B-9CB1-79A0ECDF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7AD9-29EC-4778-BA75-9A70E963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CF63-35E9-4AC6-8B0B-6C3E6E77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5DFE-7CC3-408B-9A62-792EB439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743C-B08D-404C-B64F-4E19277F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7953-F97C-43BD-93C2-1B24BC15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A078-8343-42B6-9DAA-DB874D3D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A2E0-5956-4A63-BFCC-95045EA28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Effect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4800600" cy="73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3:35:04Z</dcterms:created>
  <dc:creator>DND</dc:creator>
  <dc:description/>
  <dc:language>en-US</dc:language>
  <cp:lastModifiedBy>DND</cp:lastModifiedBy>
  <cp:lastPrinted>1998-12-18T13:39:01Z</cp:lastPrinted>
  <dcterms:modified xsi:type="dcterms:W3CDTF">1998-12-18T13:40:08Z</dcterms:modified>
  <cp:revision>1</cp:revision>
  <dc:subject/>
  <dc:title>No Slide Title</dc:title>
</cp:coreProperties>
</file>