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D7E7-7E0C-44C4-9C7F-30DBB0336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0BEF-0AFD-4FD8-8055-9B20933B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5F2E-552C-4127-8A79-A994156C0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B0D0-9316-41A4-9AFB-2D9BEDBD9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E5F7-C656-41C7-B83D-364C4AFB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EA92-00C8-41DE-B7C4-F9FE61FC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DB1A-AF6E-42E4-847B-B6E6F307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F9AB-DC59-47DF-AE3D-C2A475C3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B18D-D081-4DA6-865C-66EDCA5F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300D-531C-449D-AE76-EE825AFA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8B20-9A13-4F85-A929-F9589FBB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2E0A-0FE0-4A66-B07C-E546FBDE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6846-FAB9-4C56-8621-4D8B289FE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4120" y="990720"/>
          <a:ext cx="8002440" cy="91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990720"/>
                    <a:ext cx="8002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1447920" y="2057400"/>
          <a:ext cx="5105160" cy="5803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057400"/>
                    <a:ext cx="5105160" cy="58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376280" y="2133720"/>
          <a:ext cx="4783320" cy="60958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6280" y="2133720"/>
                    <a:ext cx="478332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3T14:23:26Z</dcterms:created>
  <dc:creator>Jamie Richards</dc:creator>
  <dc:description/>
  <dc:language>en-US</dc:language>
  <cp:lastModifiedBy>Jamie Richards</cp:lastModifiedBy>
  <dcterms:modified xsi:type="dcterms:W3CDTF">1999-04-23T18:25:14Z</dcterms:modified>
  <cp:revision>11</cp:revision>
  <dc:subject/>
  <dc:title>No Slide Title</dc:title>
</cp:coreProperties>
</file>