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DDB-B695-4C78-9D45-2B08B364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698-FB44-42CC-A97C-372E2A2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713-0C89-446C-A58B-8242C7C2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7E7-526F-4BE5-8564-47EF3F81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DF3-5F35-42EB-A95A-A4257DD9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95E-05A8-4312-82DD-20763274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0D2-8ED7-41A4-A6E3-152E400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D5D-DCED-4661-A233-C8792FA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D2A-459E-48A9-A6F5-023B8B42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1E2-7DA2-4583-961C-90D527A2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ACE-87A9-4EBE-9F9C-86634A5A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ADB-1026-453B-8A8E-C2C6303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602-D525-4E87-A3FC-66B6F4B08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eaker" descr=""/>
          <p:cNvPicPr/>
          <p:nvPr/>
        </p:nvPicPr>
        <p:blipFill>
          <a:blip r:embed="rId1"/>
          <a:srcRect l="0" t="0" r="39844" b="0"/>
          <a:stretch/>
        </p:blipFill>
        <p:spPr>
          <a:xfrm>
            <a:off x="5181480" y="16002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0"/>
            <a:ext cx="4648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PREPARED TO SPEAK ANY TIME ANY PLACE ON SUBJECTS THAT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YOURSELF BY INTELLEGENT PRACTISE TO ORGANIZE YOUR THOUGHTS QUICKLY AND EFFECTIV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UR GUIDELINES FOR IMPROMPTU SPEE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362320"/>
            <a:ext cx="5943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SP FIRS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INTRODUCTION, MAIN          IDEAS AN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REASONING AND IMMA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48:36Z</dcterms:created>
  <dc:creator>DND</dc:creator>
  <dc:description/>
  <dc:language>en-US</dc:language>
  <cp:lastModifiedBy>DND</cp:lastModifiedBy>
  <dcterms:modified xsi:type="dcterms:W3CDTF">1999-03-08T14:26:02Z</dcterms:modified>
  <cp:revision>2</cp:revision>
  <dc:subject/>
  <dc:title>DEVELOPING CONFIDENCE</dc:title>
</cp:coreProperties>
</file>