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857-0104-44A1-B36C-AC95CC6F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40A-3705-496F-8263-EBBC71E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1AB-EFF1-49A1-81A7-F63A92C4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28A-ABC7-4DE1-ACD9-69E49084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AB2-E4A4-47D9-B561-44AC743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04D-E125-45F1-8E12-C6234E8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E0C-8993-4195-AC02-1118E81F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825-334D-4667-BC92-605E2A75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B3F-8E72-49E2-A38F-2699D103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D1F-B624-4571-BD4A-E1E1A81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C67-8B08-4CFE-8F7E-F4F184E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76F-0B1D-4885-8C6E-BF03861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7B32-4543-41C0-A26C-1947C26B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4120" y="838080"/>
          <a:ext cx="7468920" cy="8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838080"/>
                    <a:ext cx="7468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90720" y="1752480"/>
          <a:ext cx="556236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90720" y="1600200"/>
          <a:ext cx="5234040" cy="6324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600200"/>
                    <a:ext cx="5234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4:51Z</dcterms:modified>
  <cp:revision>7</cp:revision>
  <dc:subject/>
  <dc:title>No Slide Title</dc:title>
</cp:coreProperties>
</file>