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A06C-02EE-4E4D-BA3A-C9B9A433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C19E-3B4C-4ED9-AD95-ADDCD317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701-905D-4B47-92D3-5E60A62D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B59-F388-49C8-A29B-4FB7AEA1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5AA8-2B5B-443F-8308-F70E9EF5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FB5-BC0D-454E-B4B9-418D658D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2D0-0A98-41F6-835C-17888875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1DC-8871-4CEB-ABBB-D8CB00DC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E64-E677-42B8-A427-622EC8F6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B43-E07B-40A0-ACEC-12D2028A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BCAE-359D-4151-BD3C-CAAA2803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1B3-43FC-4B7D-B210-C0349469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2BCD-1B84-4D43-9639-1C0D957BE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228600"/>
          <a:ext cx="8763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63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1981080"/>
            <a:ext cx="2361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EATING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743200"/>
            <a:ext cx="274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BEING A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438280"/>
            <a:ext cx="3200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FEELING   GOOD ABOUT YOUR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352680"/>
            <a:ext cx="2959200" cy="318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114800"/>
            <a:ext cx="280692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58000" y="5029200"/>
            <a:ext cx="31860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3657600"/>
          <a:ext cx="2362320" cy="25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657600"/>
                    <a:ext cx="236232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276720" y="4114800"/>
          <a:ext cx="251460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14800"/>
                    <a:ext cx="2514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705720" y="4952880"/>
          <a:ext cx="167616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4952880"/>
                    <a:ext cx="1676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671480" y="228600"/>
          <a:ext cx="6086520" cy="205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1480" y="228600"/>
                    <a:ext cx="6086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5240" y="6545160"/>
            <a:ext cx="160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06.01a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6583320"/>
            <a:ext cx="426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ndout #1 - Maintaining a Safe and Healthy Life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1T15:57:02Z</cp:lastPrinted>
  <dcterms:modified xsi:type="dcterms:W3CDTF">1999-03-11T15:57:04Z</dcterms:modified>
  <cp:revision>21</cp:revision>
  <dc:subject/>
  <dc:title>No Slide Title</dc:title>
</cp:coreProperties>
</file>