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6C1-F1B8-47D9-9071-14C6245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755-9E6F-4B83-990C-4D1E7824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0CC-00AF-48DC-9472-39227FC6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E7D-5DD7-4531-8D2D-A3B7A6DE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B0C-C234-4338-B490-597816B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77B-1196-4BCD-A018-DC3D072B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4AC-BB17-4645-A557-32DC1594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AF5-644C-42A7-9F6C-E7C13720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828-8EC6-45C2-8D1C-16436CDC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305-6ECD-4D40-906F-4F354FF1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C64-C154-48AD-9C2E-7859011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713-4619-4E91-B2F2-E2FAFF10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0A57-BB0E-413F-AB91-C8E449C45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80880" y="914400"/>
            <a:ext cx="11125080" cy="172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– Alp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– In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– Queb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– Yank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Bra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Juli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 – Rom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- Zu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– Charl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– Ki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– S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– Del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 – L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– Ta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 – M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– 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– Foxt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Nove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– V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– Go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– Os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– Whis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Ho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– Pa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– X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ONETIC ALPHAB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20" y="66135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adio" descr=""/>
          <p:cNvPicPr/>
          <p:nvPr/>
        </p:nvPicPr>
        <p:blipFill>
          <a:blip r:embed="rId1"/>
          <a:srcRect l="0" t="0" r="62520" b="63307"/>
          <a:stretch/>
        </p:blipFill>
        <p:spPr>
          <a:xfrm>
            <a:off x="6248520" y="2514600"/>
            <a:ext cx="2282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2819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- ZEE-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- 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-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- FOW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720" y="66135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219320"/>
            <a:ext cx="350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- F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-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- 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- 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- NIN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omsqn" descr=""/>
          <p:cNvPicPr/>
          <p:nvPr/>
        </p:nvPicPr>
        <p:blipFill>
          <a:blip r:embed="rId1"/>
          <a:srcRect l="0" t="0" r="76968" b="53138"/>
          <a:stretch/>
        </p:blipFill>
        <p:spPr>
          <a:xfrm>
            <a:off x="5238720" y="1676520"/>
            <a:ext cx="39052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5:32:14Z</dcterms:created>
  <dc:creator>DND</dc:creator>
  <dc:description/>
  <dc:language>en-US</dc:language>
  <cp:lastModifiedBy>DND</cp:lastModifiedBy>
  <cp:lastPrinted>1999-01-14T15:52:08Z</cp:lastPrinted>
  <dcterms:modified xsi:type="dcterms:W3CDTF">1999-01-29T19:55:20Z</dcterms:modified>
  <cp:revision>6</cp:revision>
  <dc:subject/>
  <dc:title>PHONETIC ALPHABET</dc:title>
</cp:coreProperties>
</file>